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0A16D-C137-427C-93F4-8DD787B1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AF043-3034-429E-9C2E-DE652043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2CDDA-9616-406E-A370-5C448A48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475A2-89CA-4C6B-B697-EE42CF9B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27FC2-1275-4577-AF76-9E4D3277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34BF3-917A-4DE8-BDE1-E354C69B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B2815-90CD-4FBA-AB86-71BEA8B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2ABFA-DA7D-429A-969F-CDC52A6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62BB5-9FAF-4957-AF77-1765175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58D5-DC7C-48BC-A23F-C601D55A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34DE3-C9C4-4C8E-AA32-90CE629C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B25E4-6827-4FBE-B334-E0F73708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6AF9-7427-4A34-A0D3-03B41955EA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barros.cl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escripción de los Patr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0920" y="256500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roceso sigue con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el proveedor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cual se preocupa de interactuar con proveedores para conseguir los factores constitutivos del producto o servicio, basándose en los requerimientos proyectados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continuación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 y entrega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a partir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Requerimientos produc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servici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(actuales y proyectados), genera u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lan e instruccion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producción y entrega) que le indica a la funció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ción y entrega bien o servicio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qué, cómo y cuándo producir y entreg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simismo, entrega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proveedore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necesidades de insumos y otros factores necesarios para llevar los planes de producción a la práct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sta función informa también lo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Cambios de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y se apoya en todo momento de la información qu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Manten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genera respecto a la situación de los requerimientos, la producción y la entrega.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y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 bien o servici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satisface las necesidades de los clientes, generando lo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tos y servicios al mercado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partir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sumos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y otros recursos proveedor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umpliendo con las instrucciones provenientes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 y  respetando indicaciones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Nuevos productos y serv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Se apoya en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Información de estad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–requerimientos, planes de producción, etc.– para desarrollar su lab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Informa de cualquier cambio de estado en la producción y entrega a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Mantención est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último,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registra la situación de todas las entidades que intervienen en el proces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querimientos de e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laciones con e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es de producción y entr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productivo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ambién recibe información de otros procesos –por ejemplo, situación de cuenta corriente de un cliente, del proceso de manejo financiero– y entrega información a ellos –por ejemplo, información para facturar un requerimiento ya satisfecho.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ADMINISTRACIÓN DE LA RELACIÓN CON EL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ADMINISTRACIÓN DE LA RELACIÓN CON LOS PROVE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El Patrón que presentaremos se basa en varias decenas de casos nacionales y algunos internacionales documentados en la literatur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Su aplicabilidad ha sido validada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Rediseño de Procesos de Negocios Mediante el Uso de Patr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obarros.c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Ingeniería e-Business: Ingeniería de Negocios para la Economía Digital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GESTIÓN PRODUCCIÓN Y ENTREG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cada uno de los componentes del Macro y particularizarlo (especializ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especializar, simplificamo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ndo actividades y fluj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ringiendo la complejidad de las activ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ndo atributos de los fluj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orporando atributos específicos de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omponiendo las actividades de acuerdo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agregando en elementos más fin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s recomendable especializar no directamente del MACRO, sino a partir de sub-dominios intermed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Tomar el subdominio más cercanos al problema y a partir de ahí generar el rediseñ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ominios y Sub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712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 subdominio : Crédi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y que “producir” un crédi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ivel 0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 actividad adm. relación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tall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cambios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greg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antecedentes créditos aprob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nsumos y otros recursos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deas cambio productos y procesos pro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mar cada uno de los componentes del Macro y particularizarl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 especializar, simplificamos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ndo actividades y fluj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ringiendo la complejidad de las activida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ndo atributos de los fluj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orporando atributos específicos del nego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omponiendo las actividades de acuerdo al nego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agregando en elementos más fi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 recomendable especializar no directamente del MACRO, sino a partir de sub-dominios intermed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omar el subdominio más cercanos al problema y a partir de ahí generar el re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cargado de obtener y proveer los bienes / servicios a los clientes, dejando registro de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particular, las funciones existentes en él son las siguient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Administración relación con el client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Administración relación con proveedores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Gestión producción y entrega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Producción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provisión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bien o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ominios y sub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712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 subdominio : Crédi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y que “producir” un crédi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ivel 0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 actividad adm. relación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tall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cambios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greg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antecedentes créditos aprob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nsumos y otros recursos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deas cambio productos y procesos pro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 (Adela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82640" y="1752480"/>
            <a:ext cx="576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(Adela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1905120"/>
            <a:ext cx="8001000" cy="4200840"/>
            <a:chOff x="533520" y="1905120"/>
            <a:chExt cx="8001000" cy="4200840"/>
          </a:xfrm>
        </p:grpSpPr>
        <p:sp>
          <p:nvSpPr>
            <p:cNvPr id="156" name=""/>
            <p:cNvSpPr/>
            <p:nvPr/>
          </p:nvSpPr>
          <p:spPr>
            <a:xfrm>
              <a:off x="838440" y="1905120"/>
              <a:ext cx="2514600" cy="15235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DEFINIR EL PROY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Objetivos del proyec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Ámbito del 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Establecer si hacer estudio de la situación actu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4876560"/>
              <a:ext cx="3276720" cy="1229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ENTENDER SITUACIÓN AC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Modelar situación a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Validar y med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1905120"/>
              <a:ext cx="2514600" cy="2061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REDISEÑ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cc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0000"/>
                  </a:solidFill>
                  <a:latin typeface="Century Gothic"/>
                </a:rPr>
                <a:t>Dirección de camb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Selección Tecnologías habilita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Modelar y evaluar Re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Detallar y pro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4571640"/>
              <a:ext cx="2514600" cy="1310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IMPLEMENT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Construcción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Implementar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Implementar 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1440" y="3657240"/>
              <a:ext cx="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3040" y="2666880"/>
              <a:ext cx="26668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10240" y="3961800"/>
              <a:ext cx="2209680" cy="9140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920" y="3962160"/>
              <a:ext cx="0" cy="6091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 (Iterando nuevamente..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casos son de distinto tip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nufa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rvicios privados y públ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CRO 1 representa la cadena de valor de una empresa que produce un bien o servicio cualquie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una colección de procesos interrelacion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IMER NIVEL JERÁRQU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do comienza con el flujo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Requerimiento e Información Merca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que gatilla varias respues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601"/>
              </a:spcBef>
              <a:buClr>
                <a:srgbClr val="cc0000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 es un requerimiento específico, se traspasa tanto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y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para establecer cómo se va a satisfacer, como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proveedor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 caso de que haya que adquirir algún elemento necesario para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 es una petición de información de un cliente, se genera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formación al merc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la cual puede incluir también  información espontánea a los clientes acerca de la oferta de la empre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cualquier caso, todas las acciones realizadas en relación con un cliente quedan registradas e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Mantención 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por  medio  del  flujo 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Cambios  de  estado.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ra  generar  todas  las  respuestas anteriores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el cliente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cuenta con el recurs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forma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 que le permite saber en todo momento la situación de carga de la actividad de producción, para determinar la posibilidad y fecha de satisfacción de un requerimiento, y el estado de procesamiento de un requerimien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8-21T07:19:21Z</dcterms:modified>
  <cp:revision>48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