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EFF76-32E0-428C-9B97-C81A636D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268B8-DA79-47B6-92F5-26D7B224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9F405-739B-4214-A478-929709B0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61691-8194-45EF-9EB1-1E52E27E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2F95B-02C9-49B1-9A86-107DED2C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DE51D-AA85-42CF-88C1-67729552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061B6-B74D-4E67-9AB0-27176B68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2C7BE-AD4B-470B-9DB2-127B102A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9A0C2-8505-44CF-BB0A-F67C22B1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4B06C-9861-4D30-B46A-D5A18A22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740A8-47D0-490A-BC56-3B0A7CFD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FC3AB-6651-4C8D-A806-2D660A3D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1J, Diseño de Modelos y Procesos de Negocios con TI                                     Primavera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596360" y="18900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8900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87E6-0788-448B-AC95-E942D7DA07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558972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558972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barros.cl/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Descripción de los Patron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10920" y="2565000"/>
            <a:ext cx="7010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1J – Diseño de Procesos de Gest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 nivel jerárqu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proceso sigue con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Administración relación con el proveedor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cual se preocupa de interactuar con proveedores para conseguir los factores constitutivos del producto o servicio, basándose en los requerimientos proyectados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 continuación,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Gestión producción y entrega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,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a partir de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Requerimientos producto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servicio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(actuales y proyectados), genera un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Plan e instrucciones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(producción y entrega) que le indica a la función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Producción y entrega bien o servicio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qué, cómo y cuándo producir y entreg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simismo, entrega a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Administración relación con proveedore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necesidades de insumos y otros factores necesarios para llevar los planes de producción a la práctic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sta función informa también los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Cambios de est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y se apoya en todo momento de la información que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Mantención est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genera respecto a la situación de los requerimientos, la producción y la entrega.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Producción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 y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entrega bien o servici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satisface las necesidades de los clientes, generando los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Productos y servicios al mercado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 partir de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Insumos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y otros recursos proveedores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umpliendo con las instrucciones provenientes de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Gestión Producción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entrega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 y  respetando indicaciones de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Nuevos productos y servic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Se apoya en </a:t>
            </a: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Verdana"/>
              </a:rPr>
              <a:t>Información de estado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–requerimientos, planes de producción, etc.– para desarrollar su lab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Informa de cualquier cambio de estado en la producción y entrega a </a:t>
            </a: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Verdana"/>
              </a:rPr>
              <a:t>Mantención est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or último, 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Mantención est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registra la situación de todas las entidades que intervienen en el proceso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querimientos de es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laciones con es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lanes de producción y entre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productivo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También recibe información de otros procesos –por ejemplo, situación de cuenta corriente de un cliente, del proceso de manejo financiero– y entrega información a ellos –por ejemplo, información para facturar un requerimiento ya satisfecho.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MACRO 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TALLE DE ADMINISTRACIÓN DE LA RELACIÓN CON EL 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MACRO 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TALLE DE ADMINISTRACIÓN DE LA RELACIÓN CON LOS PROVEED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569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El Patrón que presentaremos se basa en varias decenas de casos nacionales y algunos internacionales documentados en la literatura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Su aplicabilidad ha sido validada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Rediseño de Procesos de Negocios Mediante el Uso de Patron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obarros.c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Ingeniería e-Business: Ingeniería de Negocios para la Economía Digital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MACRO 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TALLE DE GESTIÓN PRODUCCIÓN Y ENTREG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specialización a Domini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pecialización a domin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mar cada uno de los componentes del Macro y particularizarlo (especialización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especializar, simplificamo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iminando actividades y fluj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ringiendo la complejidad de las actividad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iminando atributos de los fluj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orporando atributos específicos del nego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componiendo las actividades de acuerdo al nego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agregando en elementos más fin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pecialización a domin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s recomendable especializar no directamente del MACRO, sino a partir de sub-dominios intermedi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Tomar el subdominio más cercanos al problema y a partir de ahí generar el rediseñ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ominios y Subdomin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87120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jemplo subdominio : Crédito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Hay que “producir” un crédit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Nivel 0 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iminamos  actividad adm. relación provee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etall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cambios de est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greg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antecedentes créditos aprob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imin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Insumos y otros recursos provee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imin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Ideas cambio productos y procesos produ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pecialización a domin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9807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mar cada uno de los componentes del Macro y particularizarl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l especializar, simplificamos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iminando actividades y fluj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tringiendo la complejidad de las actividad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iminando atributos de los fluj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orporando atributos específicos del negoc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omponiendo las actividades de acuerdo al negoc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agregando en elementos más fin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pecialización a domin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s recomendable especializar no directamente del MACRO, sino a partir de sub-dominios intermedi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Tomar el subdominio más cercanos al problema y a partir de ahí generar el rediseñ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cargado de obtener y proveer los bienes / servicios a los clientes, dejando registro de ell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 particular, las funciones existentes en él son las siguient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Administración relación con el cliente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Administración relación con proveedores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Gestión producción y entrega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Producción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provisión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bien o servic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Mantención Esta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ominios y subdomin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87120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jemplo subdominio : Crédito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Hay que “producir” un crédit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Nivel 0 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iminamos  actividad adm. relación provee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etall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cambios de est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greg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antecedentes créditos aprob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imin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Insumos y otros recursos provee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imin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Ideas cambio productos y procesos produ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de trabajo (Adelanto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682640" y="1752480"/>
            <a:ext cx="5769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71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(Adelanto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33520" y="1905120"/>
            <a:ext cx="8001000" cy="4200840"/>
            <a:chOff x="533520" y="1905120"/>
            <a:chExt cx="8001000" cy="4200840"/>
          </a:xfrm>
        </p:grpSpPr>
        <p:sp>
          <p:nvSpPr>
            <p:cNvPr id="156" name=""/>
            <p:cNvSpPr/>
            <p:nvPr/>
          </p:nvSpPr>
          <p:spPr>
            <a:xfrm>
              <a:off x="838440" y="1905120"/>
              <a:ext cx="2514600" cy="152352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Century Gothic"/>
                </a:rPr>
                <a:t>DEFINIR EL PROYEC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Objetivos del proyec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Ámbito del pro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Establecer si hacer estudio de la situación actu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3520" y="4876560"/>
              <a:ext cx="3276720" cy="12294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Century Gothic"/>
                </a:rPr>
                <a:t>ENTENDER SITUACIÓN ACTU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Modelar situación act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Validar y med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19920" y="1905120"/>
              <a:ext cx="2514600" cy="2061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Century Gothic"/>
                </a:rPr>
                <a:t>REDISEÑ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cc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cc0000"/>
                  </a:solidFill>
                  <a:latin typeface="Century Gothic"/>
                </a:rPr>
                <a:t>Dirección de camb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Selección Tecnologías habilita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Modelar y evaluar Re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Detallar y prob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19920" y="4571640"/>
              <a:ext cx="2514600" cy="13104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Century Gothic"/>
                </a:rPr>
                <a:t>IMPLEMENT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Construcción Soft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Implementar Soft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Implementar 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81440" y="3657240"/>
              <a:ext cx="0" cy="12189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3040" y="2666880"/>
              <a:ext cx="26668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810240" y="3961800"/>
              <a:ext cx="2209680" cy="9140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62920" y="3962160"/>
              <a:ext cx="0" cy="6091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radecimi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Samuel Var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Óscar Barr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Juan Velásquez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 (Iterando nuevamente...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casos son de distinto tip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anufactu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stribu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rvicios privados y públ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ACRO 1 representa la cadena de valor de una empresa que produce un bien o servicio cualquier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una colección de procesos interrelacion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MACRO 1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IMER NIVEL JERÁRQUI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 nivel jerárqu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odo comienza con el flujo </a:t>
            </a: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Verdana"/>
              </a:rPr>
              <a:t>Requerimiento e Información Mercad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que gatilla varias respuest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spcBef>
                <a:spcPts val="601"/>
              </a:spcBef>
              <a:buClr>
                <a:srgbClr val="cc0000"/>
              </a:buClr>
              <a:buSzPct val="6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i es un requerimiento específico, se traspasa tanto a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Gestión producción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 y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entrega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para establecer cómo se va a satisfacer, como a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Administración relación proveedores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el caso de que haya que adquirir algún elemento necesario para la satisfac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 nivel jerárqu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i es una petición de información de un cliente, se genera la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Información al merc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la cual puede incluir también  información espontánea a los clientes acerca de la oferta de la empres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cualquier caso, todas las acciones realizadas en relación con un cliente quedan registradas en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Mantención  est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por  medio  del  flujo 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Cambios  de  estado.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 nivel jerárqu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ara  generar  todas  las  respuestas anteriores,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Administración relación con el cliente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cuenta con el recurso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Información est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 que le permite saber en todo momento la situación de carga de la actividad de producción, para determinar la posibilidad y fecha de satisfacción de un requerimiento, y el estado de procesamiento de un requerimient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Ángel Jiménez</cp:lastModifiedBy>
  <dcterms:modified xsi:type="dcterms:W3CDTF">2006-08-21T07:19:21Z</dcterms:modified>
  <cp:revision>48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608271</vt:r8>
  </property>
  <property fmtid="{D5CDD505-2E9C-101B-9397-08002B2CF9AE}" pid="3" name="_AuthorEmail">
    <vt:lpwstr>samuel.varas@uai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>Clase 3</vt:lpwstr>
  </property>
  <property fmtid="{D5CDD505-2E9C-101B-9397-08002B2CF9AE}" pid="6" name="_ReviewingToolsShownOnce">
    <vt:lpwstr/>
  </property>
</Properties>
</file>