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E8ABD2-0574-4CDC-B990-E9DCEDE90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B878FF-72AF-4183-A5AA-241C65E5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97CBAE-8AF1-4442-84BD-65E29694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A79D3-2B9F-46E4-9532-AD0A6AF5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9AF0F9-E4FF-40DB-BD1E-DF4DDEE1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535A4B-F03B-4841-B80C-2B59C51A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7B2124-C059-47A3-A922-CDF3F210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8C2E5-A8BD-4167-9630-5A9892B4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CF229A-C663-4CBA-9035-D358D1DB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CB106-5F8D-4F07-8095-AB70AE11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798627-6D54-4628-9926-DB4457A3B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04539F-F507-4FE6-BC26-78578354A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71J, Diseño de Modelos y Procesos de Negocios con TI                                     Primavera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7596360" y="189000"/>
          <a:ext cx="1368360" cy="36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96360" y="189000"/>
                    <a:ext cx="13683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11BC-534A-42DE-BF3B-53E7B6F3099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780000" y="5589720"/>
          <a:ext cx="1368360" cy="36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5589720"/>
                    <a:ext cx="13683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Hacia Una Arquitectura Genérica de Procesos de Negoci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4000" y="2707920"/>
            <a:ext cx="70102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fesor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Ángel Jiménez Moli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gíster en Ingeniería de Negocios con TI (MB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71J – Diseño de Procesos de Gest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n Síntes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Verdana"/>
              </a:rPr>
              <a:t>ACTIVIDADES EJECUTANTES : 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on el  </a:t>
            </a:r>
            <a:r>
              <a:rPr b="1" i="1" lang="es-ES_tradnl" sz="3000" spc="-1" strike="noStrike">
                <a:solidFill>
                  <a:srgbClr val="000000"/>
                </a:solidFill>
                <a:latin typeface="Verdana"/>
              </a:rPr>
              <a:t>fin último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del proces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Verdana"/>
              </a:rPr>
              <a:t>ACTIVIDADES DE GESTIÓN : 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on </a:t>
            </a:r>
            <a:r>
              <a:rPr b="1" i="1" lang="es-ES_tradnl" sz="3000" spc="-1" strike="noStrike">
                <a:solidFill>
                  <a:srgbClr val="000000"/>
                </a:solidFill>
                <a:latin typeface="Verdana"/>
              </a:rPr>
              <a:t>un medio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para conseguir el mejor funcionamiento del fi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aracterizando activida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poder gestionar se debe conocer el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stado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de las actividades ejecutant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xiste así un tercer grupo de actividades destinadas a registrar e informar sobre el estado de las actividades ejecutantes (o de transformación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más tradicional es la contabi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ctivos circulantes en banc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entas por cobrar, pérdidas, utilida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sivos circulantes, cuentas por pagar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aracterizando activida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te estado (contabilidad) alimenta una serie de decisiones o acciones de gestión que actúan sobre el manejo monetario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ctivar cobranz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dir un préstam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gar a un proveedor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rquitectura general de un proce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odemos resumir las actividades de transformación, de gestión y de estado en un modelo gráfico (utilizando IDEF0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Veamos el esquema gráfico de la arquitectu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No olvidar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-4366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arquitectura genérica la podemos utilizar para diseñar instancias que representan situaciones de procesos específic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 ahí la utilidad del patr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lquier instancia debe respetar la “filosofía” del modelo que indica cómo derivarl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spetar también la estructura de componentes y relacion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gradecimien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fesor Samuel Vara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fesor Óscar Barr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fesor Juan Velásquez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rquitectura Genérica de Procesos de Negocios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Buscamos una teoría que identifique los componentes fundamentales de cualquier proceso y sus relaciones genéric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Buscamos una arquitectura básica a partir de la cual “instanciar” procesos específic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n elemento fundamental de cualquier proceso es el producto o servicio que genera para un cliente interno o extern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rquitectura genérica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roducto manufacturado entregado a un cliente extern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Servicio financiero provisto por un banc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Servicio de vuelo provisto por una línea aére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Servicio de selección de personal realizado internamente en una empres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rototipo de un nuevo producto solicitado por gerencia de desarroll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ampaña de marketing solicitada por gerencia de marketin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rquitectura genérica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 el término arquitectura denotamos “la existencia de una estructura de componentes”, que incluye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ipos de component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laciones genéricas entre ell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Función de las component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RQUITECTURA (Barros) : “Espacio de posibilidades que permite la derivación de diseños particulares, a partir de su estructura y filosofía, siguiendo reglas bien definidas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rquitectura genérica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Se propone una estructura normativa : los componentes, relaciones y funciones que se definirán en el patrón, son los que debería tener cualquier proceso (del tipo) para cumplir con su propósito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erivando la arquitectura genérica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Verdana"/>
              </a:rPr>
              <a:t>Las actividades que participan en el proceso de generación de un producto o servicio se pueden diferenciar en dos clas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a que contiene las actividades que están claramente asociadas a la </a:t>
            </a:r>
            <a:r>
              <a:rPr b="0" lang="es-ES_tradnl" sz="2400" spc="-1" strike="noStrike">
                <a:solidFill>
                  <a:srgbClr val="cc0000"/>
                </a:solidFill>
                <a:latin typeface="Verdana"/>
              </a:rPr>
              <a:t>transformación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 ciertos insumos en el producto o servicio fin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Otra que incluye las actividades que </a:t>
            </a:r>
            <a:r>
              <a:rPr b="0" lang="es-ES_tradnl" sz="2400" spc="-1" strike="noStrike">
                <a:solidFill>
                  <a:srgbClr val="cc0000"/>
                </a:solidFill>
                <a:latin typeface="Verdana"/>
              </a:rPr>
              <a:t>dirigen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o regulan la transform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erivando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jemplo : En la manufactura se toman las materias primas que por un proceso de transformación genera productos semiterminados y-o terminad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tas actividades en el proceso de transformación se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Verdana"/>
              </a:rPr>
              <a:t>dirigen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por otras, llamadas </a:t>
            </a:r>
            <a:r>
              <a:rPr b="0" lang="es-ES_tradnl" sz="2400" spc="-1" strike="noStrike">
                <a:solidFill>
                  <a:srgbClr val="cc0000"/>
                </a:solidFill>
                <a:latin typeface="Verdana"/>
              </a:rPr>
              <a:t>ACTIVIDADES DE GESTIÓN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tas determinan cuándo comprar materias primas, qué producir con ellas, cuánto producir, cuándo despachar, cómo despachar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erivando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diferencia se hace entr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ctividades ejecutant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ctividades de toma de decision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CTIVIDADES EJECUTANTES: Manejan recursos económicos (materiales, dinero, personal, bienes de capital) para producir un bien o servici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CTIVIDADES DE TOMA DE DECISIONES (DE GESTIÓN): Dirigen, regulan, ingresando, procesando, generando inform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erivando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n actividades de servicios también es posible observar esta diferenciación entre actividades ejecutantes y de toma de decision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jemplo: Un servicio de atención en un hospital “transforma” un paciente enfermo en , idealmente, uno sano, gracias a varios recursos o insumos, tales como medicinas, médicos, pabellones, arsenalería, 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quí, las actividades de toma de decisiones son : establecer los tratamientos más adecuados de acuerdo a un diagnóstico, asignar recursos disponibles para los tratamientos, 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1T19:10:11Z</dcterms:created>
  <dc:creator>Samuel</dc:creator>
  <dc:description/>
  <dc:language>en-US</dc:language>
  <cp:lastModifiedBy>DIPE</cp:lastModifiedBy>
  <dcterms:modified xsi:type="dcterms:W3CDTF">2005-10-02T20:40:03Z</dcterms:modified>
  <cp:revision>48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91608271</vt:r8>
  </property>
  <property fmtid="{D5CDD505-2E9C-101B-9397-08002B2CF9AE}" pid="3" name="_AuthorEmail">
    <vt:lpwstr>samuel.varas@uai.cl</vt:lpwstr>
  </property>
  <property fmtid="{D5CDD505-2E9C-101B-9397-08002B2CF9AE}" pid="4" name="_AuthorEmailDisplayName">
    <vt:lpwstr>Samuel Varas</vt:lpwstr>
  </property>
  <property fmtid="{D5CDD505-2E9C-101B-9397-08002B2CF9AE}" pid="5" name="_EmailSubject">
    <vt:lpwstr>Clase 3</vt:lpwstr>
  </property>
  <property fmtid="{D5CDD505-2E9C-101B-9397-08002B2CF9AE}" pid="6" name="_ReviewingToolsShownOnce">
    <vt:lpwstr/>
  </property>
</Properties>
</file>