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03FF1-52FF-4A76-A98D-BA68E317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E861-4ACB-48F4-9C7A-CE5A1FAF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583E5-EAD8-4C0D-A552-2E1B5A5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522A0-9E66-42B5-B7D3-3F53599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19FD8-B519-409D-AC2F-AE7ABED4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A80E5-F493-4706-9826-3571652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AE7D-0266-4936-B92A-43D87CA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3190C-4371-4B4D-AA0F-7D509BB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84D9-ECFA-46EB-806A-AD301CD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9522-0DAE-4F4C-A195-540BE81B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B9232-3F56-492B-9177-093C9D16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2A46E-7D34-436A-AB98-46584E9C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5A3C-F7C7-4C8C-BDC6-D0E16E300D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Hacia Una Arquitectura Genérica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 Sínte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EJECUTANTES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el 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fin últim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el proce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ACTIVIDADES DE GESTIÓN :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un medio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para conseguir el mejor funcionamiento del f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poder gestionar se debe conocer el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de las 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 así un tercer grupo de actividades destinadas a registrar e informar sobre el estado de las actividades ejecutantes (o de transform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más tradicional es la cont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os circulantes en ban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entas por cobrar, pérdidas, util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sivos circulantes, cuentas por pag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izando 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e estado (contabilidad) alimenta una serie de decisiones o acciones de gestión que actúan sobre el manejo monetario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r cobran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dir un préstam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gar a un proveedo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eral de un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demos resumir las actividades de transformación, de gestión y de estado en un modelo gráfico (utilizando IDEF0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amos el esquema gráfico de la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o olvida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arquitectura genérica la podemos utilizar para diseñar instancias que representan situaciones de procesos específ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ahí la utilidad del patr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lquier instancia debe respetar la “filosofía” del modelo que indica cómo derivar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ar también la estructura de componentes y rel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 de Procesos de Negocios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teoría que identifique los componentes fundamentales de cualquier proceso y sus relaciones genéric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uscamos una arquitectura básica a partir de la cual “instanciar” procesos específ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elemento fundamental de cualquier proceso es el producto o servicio que genera para un cliente interno o exte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 manufacturado entregado a un cliente exter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financiero provisto por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vuelo provisto por una línea aére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de selección de personal realizado internamente en un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totipo de un nuevo producto solicitado por gerencia de desarroll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paña de marketing solicitada por gerencia de market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el término arquitectura denotamos “la existencia de una estructura de componentes”, que incluy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s de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genéricas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unción de las compon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QUITECTURA (Barros) : “Espacio de posibilidades que permite la derivación de diseños particulares, a partir de su estructura y filosofía, siguiendo reglas bien definidas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rquitectura genérica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e propone una estructura normativa : los componentes, relaciones y funciones que se definirán en el patrón, son los que debería tener cualquier proceso (del tipo) para cumplir con su propósi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 la arquitectura genérica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Las actividades que participan en el proceso de generación de un producto o servicio se pueden diferenciar en dos cl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a que contiene las actividades que están claramente asociadas a la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transformació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ciertos insumos en el producto o servicio fi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a que incluye las actividades que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o regulan la trans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 : En la manufactura se toman las materias primas que por un proceso de transformación genera productos semiterminados y-o termin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actividades en el proceso de transformación s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dirige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por otras, llamadas </a:t>
            </a: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ACTIVIDADES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s determinan cuándo comprar materias primas, qué producir con ellas, cuánto producir, cuándo despachar, cómo despachar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diferencia se hace ent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EJECUTANTES: Manejan recursos económicos (materiales, dinero, personal, bienes de capital) para producir un bien o servic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IDADES DE TOMA DE DECISIONES (DE GESTIÓN): Dirigen, regulan, ingresando, procesando, generando infor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rivando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 actividades de servicios también es posible observar esta diferenciación entre actividades ejecutantes y de toma de decision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: Un servicio de atención en un hospital “transforma” un paciente enfermo en , idealmente, uno sano, gracias a varios recursos o insumos, tales como medicinas, médicos, pabellones, arsenalería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quí, las actividades de toma de decisiones son : establecer los tratamientos más adecuados de acuerdo a un diagnóstico, asignar recursos disponibles para los tratamient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40:03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