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F5E1-F290-4387-9575-28592600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2470F-0043-4F22-9ED6-1272FB0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088ED-1FCE-4623-A03D-9088A74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11A8E-7B85-404C-A088-DF48057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EBF39-4613-47CC-9376-A19344F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0DD6-1011-43C3-9C2D-B77E5DE9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DA0F-85C0-4880-B345-F3559B1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87D3D-DF66-475B-B0CA-96DFADA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6B236-5B5B-4821-912F-0DCB8D2E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9F97-B39C-4F72-9230-3FEC809E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3DEC-04A8-448A-AC27-E802FDDE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A736-94E5-40EC-8B97-7237C0DA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5BD-EB7B-40C4-9487-047DA80E32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Hacia Una Arquitectura Genérica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Sínt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EJECUTANTES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el 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fin últim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el proce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DE GESTIÓN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un medi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ara conseguir el mejor funcionamiento del f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poder gestionar se debe conocer 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las 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 así un tercer grupo de actividades destinadas a registrar e informar sobre el estado de las actividades ejecutantes (o de transform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ás tradicional es la cont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s circulantes en ban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entas por cobrar, pérdidas, util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sivos circulantes, cuentas por pag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e estado (contabilidad) alimenta una serie de decisiones o acciones de gestión que actúan sobre el manejo monetario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r cobran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dir un préstam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gar a un proveedo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eral de un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demos resumir las actividades de transformación, de gestión y de estado en un modelo gráfico (utilizando IDEF0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amos el esquema gráfico de la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 olvida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arquitectura genérica la podemos utilizar para diseñar instancias que representan situaciones de procesos específ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ahí la utilidad del patr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lquier instancia debe respetar la “filosofía” del modelo que indica cómo deriva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ar también la estructura de componentes y rel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 de Procesos de Negoci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teoría que identifique los componentes fundamentales de cualquier proceso y sus relaciones genér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arquitectura básica a partir de la cual “instanciar” procesos específ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elemento fundamental de cualquier proceso es el producto o servicio que genera para un cliente interno o exte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 manufacturado entregado a un cliente exter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financiero provisto por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vuelo provisto por una línea aér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selección de personal realizado internamente en un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totipo de un nuevo producto solicitado por gerencia de desarroll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paña de marketing solicitada por gerencia de marke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el término arquitectura denotamos “la existencia de una estructura de componentes”, que incluy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s de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genéricas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ón de las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QUITECTURA (Barros) : “Espacio de posibilidades que permite la derivación de diseños particulares, a partir de su estructura y filosofía, siguiendo reglas bien definidas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e propone una estructura normativa : los componentes, relaciones y funciones que se definirán en el patrón, son los que debería tener cualquier proceso (del tipo) para cumplir con su propósi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 la arquitectura genérica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Las actividades que participan en el proceso de generación de un producto o servicio se pueden diferenciar en dos cl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a que contiene las actividades que están claramente asociadas a la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transformació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ciertos insumos en el producto o servicio fi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a que incluye las actividades que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o regulan la trans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 : En la manufactura se toman las materias primas que por un proceso de transformación genera productos semiterminados y-o termin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actividades en el proceso de transformación s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por otras, llamadas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ACTIVIDADES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determinan cuándo comprar materias primas, qué producir con ellas, cuánto producir, cuándo despachar, cómo despach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diferencia se hace ent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: Manejan recursos económicos (materiales, dinero, personal, bienes de capital) para producir un bien o serv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 (DE GESTIÓN): Dirigen, regulan, ingresando, procesando, generando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 actividades de servicios también es posible observar esta diferenciación entre actividades ejecutantes y de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: Un servicio de atención en un hospital “transforma” un paciente enfermo en , idealmente, uno sano, gracias a varios recursos o insumos, tales como medicinas, médicos, pabellones, arsenalería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quí, las actividades de toma de decisiones son : establecer los tratamientos más adecuados de acuerdo a un diagnóstico, asignar recursos disponibles para los tratamien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40:03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