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1013-BF7B-48C5-9968-4D1E24EA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857E-81AE-4B83-87C9-FA62AEEB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C269-BB40-46F6-BE80-A508A6D0C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4637-D7CE-474D-925C-5B11377E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32F0-A61E-4184-924F-58581B3B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CBB7-915D-4BF4-A878-9FC15CD6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C8E6-F711-4EFA-90D9-6BCC68E8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2804-47C6-4C8B-9C39-D9F89755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F243-7D43-472C-8B3B-8DEE22FB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07E8-FFEA-47EC-887E-669A0C56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A9FD-13CC-42A2-BA78-DFC12151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64C2-EFCB-474C-923F-620F22DF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F552-7E3A-4A2B-BF25-E0E98A5B9486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XTERNALIDAD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8153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Concept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- Externalidad - Acción agente - sobre o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 no está incorporado en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 - B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Consecu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ternalidad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&gt; Solución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rcado  Ine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 no refleja valor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Qué hacer?  - N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regla únic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3.   Soluciones a Tragedia de Comune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.-  Definición de dueño/concesionario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.-  Licitación/Regulación - Caso pesca marítima 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.-  Autocontrol - Caso sequía</a:t>
            </a:r>
            <a:br>
              <a:rPr sz="3200"/>
            </a:br>
            <a:br>
              <a:rPr sz="32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4.  Soluciones Privadas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.- Internalización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1 dueño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.- Tragedia Comunes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Designación de due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Teorema de COASE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52388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2240" y="1758960"/>
            <a:ext cx="74836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.  Caso Hospital - Ga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ospital                              Ga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er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ución histórica:  cerrar industria conta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.  Planteamiento Coase:  Negociación entre los Ag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ución + eficiente  - independiente de quien gen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tern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Caso 1</a:t>
            </a:r>
            <a:br>
              <a:rPr sz="4000"/>
            </a:br>
            <a:br>
              <a:rPr sz="4000"/>
            </a:b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Sistema Jurídico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Resultado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neficio Neto</a:t>
            </a:r>
            <a:br>
              <a:rPr sz="32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   Hospital      Garage  Total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</a:t>
            </a: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arage Culpable   Garage Cierra    60          - 40           2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arage Inocente   Hospital paga    60-P     P - 40          2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Cierre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olución sistema jurídico:  IRRELEVANTE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Solo sirve para parte distributiva 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Caso 2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Inversión Valores:  Garage:  60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    Hospital: 40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so 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Garage instala sistema anti-ruidos: 20</a:t>
            </a:r>
            <a:br>
              <a:rPr sz="2400"/>
            </a:br>
            <a:br>
              <a:rPr sz="2400"/>
            </a:b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so 4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ospital instala sistema anti-ruidos: 18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orema Coase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ando las partes afectadas por la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xternalidad pueden negociar entre si -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 incurrir en costo algun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- y mejorand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su beneficio mutuo,  el resultado es eficient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independientemente de quien sea jurídicament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responsable de los daños.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licanci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Si el Estado no interviene, individuos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eden encontrar solución eficiente. 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5) Aplicaciones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br>
              <a:rPr sz="2400"/>
            </a:b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6) 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blemas de las Soluciones Privadas</a:t>
            </a:r>
            <a:br>
              <a:rPr sz="3200"/>
            </a:br>
            <a:br>
              <a:rPr sz="32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-   Costos de la Negociación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Altos costos de transacción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Problema de free rider (“parásito”)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-  Dificultad de identificación de fuente de daño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.-  Información asimétrica     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El caso de fumadores/no fumadore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.-  Necesidad del Rol del Estado</a:t>
            </a:r>
            <a:br>
              <a:rPr sz="28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- árbitro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- definición criterio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- evita problemas parásito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- tiene poder para implementar cumpl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-1117440">
              <a:buClr>
                <a:srgbClr val="000000"/>
              </a:buClr>
              <a:buFont typeface="Times New Roman"/>
              <a:buAutoNum type="romanU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Públicas a las 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ternalidades</a:t>
            </a:r>
            <a:br>
              <a:rPr sz="3200"/>
            </a:br>
            <a:br>
              <a:rPr sz="32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    Elementos Generale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Rol Estado - Evitar solución Mdo.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Análisis C/B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Solución - No es Todo/Nada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-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P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- Pigou 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-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Impuesto Pigou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Que paguen los que contami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-  Ojo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¿Quién paga el impuesto?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- ¿Qué se hace con el monto recaudado?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Ej. Playa contaminada/Pescadores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Compensación a los contaminadore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Subsidio por no contaminar </a:t>
            </a:r>
            <a:r>
              <a:rPr b="1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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costo efectivo producción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¿Es esta una situación irreal?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j.- Retiro microbuses en Santiago</a:t>
            </a:r>
            <a:br>
              <a:rPr sz="28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paración Impuesto-Subsidio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Q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- Principal tool - para enfrentar externalidades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- Normas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- Standard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- Cuotas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Ej. Autos, Fumadores, Pesca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2.- Ventajas Mecanismo Q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.-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paración Mecanismo P y Mecanismo Q</a:t>
            </a:r>
            <a:br>
              <a:rPr sz="28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  Normas de emisión vs. Mult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Principio económico básico: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sib. Sustitución</a:t>
            </a:r>
            <a:br>
              <a:rPr sz="28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 Ej.- Empresa Contaminante</a:t>
            </a:r>
            <a:br>
              <a:rPr sz="2800"/>
            </a:br>
            <a:br>
              <a:rPr sz="2800"/>
            </a:b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rcado Partículas Contaminante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mg-Soc.- CMg para Soc. por contaminación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Mg. R.E - CMg para Empresa por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contaminación</a:t>
            </a:r>
            <a:br>
              <a:rPr sz="2800"/>
            </a:b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3.   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Norma-Estándar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- Emisió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Tipos de Externalida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1676520"/>
            <a:ext cx="74674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Pos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Neg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lasificación según Ag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gente Causante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gente Afectado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External.                      External.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umido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umido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Impuesto (P) por Emisión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P*E*:  Monto pagado por emitir E*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¿Por qué le conviene a la empresa </a:t>
            </a:r>
            <a:r>
              <a:rPr b="1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nivel emisión de E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Mercado - Derechos Transables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zcla Tools P y Q</a:t>
            </a:r>
            <a:br>
              <a:rPr sz="2800"/>
            </a:br>
            <a:br>
              <a:rPr sz="32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rcado Derechos (B</a:t>
            </a:r>
            <a:r>
              <a:rPr b="1" lang="es-ES_tradnl" sz="28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) - Emisión</a:t>
            </a:r>
            <a:br>
              <a:rPr sz="28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CMgRE = CMgRE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+ CMgRE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: Precio Derecho Transable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Nivel Optimo Emisión: E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- Determinado por Gob.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Mdo. B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Fijar 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mpresas con Tecnol. Menos contaminante - compra poco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mpresas con Tecnol. Más contaminante  - compra más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Mdo.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logra Min Costo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Requiere Mínimo IF y Contro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1341360"/>
            <a:ext cx="723924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1. 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Características Bien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.- Bien No Rival o Bien No Ago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ien alternativo ri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Bien no agotable en el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.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principio de exclu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adie puede ser excluido de su uso/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incipio básico de exclusión: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obro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ien Público - No es posible cobrar (o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Agentes usan el bien sin tener que pa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476280"/>
            <a:ext cx="554508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BIENES PU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j.- Faro  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El caso de la TV pública -??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Salud Pública - ??</a:t>
            </a: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ficiencia y Bs. Público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- Principio básico:  CMg = UMg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Bienes Priv.: Bcnef. Mg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Medir UMg - consumidor 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- Bien Público: Test : Disposición a pagar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n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B.Mg Soc.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BMg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2800"/>
            </a:b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=1</a:t>
            </a:r>
            <a:br>
              <a:rPr sz="2800"/>
            </a:b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uego: CMg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B.Pub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BMg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j.: Construcción 1 o 2 plazas</a:t>
            </a:r>
            <a:br>
              <a:rPr sz="2800"/>
            </a:br>
            <a:br>
              <a:rPr sz="40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Obtención D- Agregada: D-Bien Público</a:t>
            </a:r>
            <a:br>
              <a:rPr sz="3200"/>
            </a:br>
            <a:br>
              <a:rPr sz="32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 Vertical</a:t>
            </a:r>
            <a:br>
              <a:rPr sz="3200"/>
            </a:br>
            <a:br>
              <a:rPr sz="32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i CMg = $ 400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Se construye 1 plaza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nsecuencias de la </a:t>
            </a: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 Externalidad</a:t>
            </a:r>
            <a:br>
              <a:rPr sz="4400"/>
            </a:br>
            <a:br>
              <a:rPr sz="44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Ej. Empresa contaminante </a:t>
            </a:r>
            <a:r>
              <a:rPr b="1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Restricción para contaminar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0960" cy="571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xtern.  &lt; 0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&gt;  CMg - Soc  &gt; Cmg - Priv.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:  Solución Mercado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: Equilibrio Optimo Social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Externalidad &lt; 0: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quil. Mdo. No es Opt. Social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Falla Mdo.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ii)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quil. Mdo.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&gt; Q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&lt; 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input no valorad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iii)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iv)   Para alcanzar E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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hasta 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br>
              <a:rPr sz="24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785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nálisis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ineficiencia en Solución Mdo.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¿P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es ineficiente la solución del mercado?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spuesta:  Uso aire limpio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ecisión empresa:  Max.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ecisión Optimo Social: P = Cmg - Soc.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Oda al Aire: Pablo Neruda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¿Cuál es el error básico de Pablo Nerud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álisis de Bienestar de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 External. &lt; 0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-1117440">
              <a:buClr>
                <a:srgbClr val="000000"/>
              </a:buClr>
              <a:buFont typeface="Times New Roman"/>
              <a:buAutoNum type="romanUcPeriod" startAt="3"/>
              <a:tabLst>
                <a:tab algn="l" pos="66672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</a:tabLst>
            </a:pP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al Problema 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 Externalidade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Privadas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ternalización  Externalidad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 Tragedia Comune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 Teorema Coase - Negociación</a:t>
            </a:r>
            <a:br>
              <a:rPr sz="2400"/>
            </a:br>
            <a:br>
              <a:rPr sz="24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Públicas</a:t>
            </a:r>
            <a:br>
              <a:rPr sz="28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 Solución Pigou:  Impuesto  P            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ubsidio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 Solución Q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 Solución Mercado: Permisos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ns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3000" spc="-1" strike="noStrike">
                <a:solidFill>
                  <a:srgbClr val="000000"/>
                </a:solidFill>
                <a:latin typeface="Times New Roman"/>
              </a:rPr>
              <a:t>IV.   </a:t>
            </a:r>
            <a:r>
              <a:rPr b="1" lang="es-ES_tradnl" sz="30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Privadas a las Externalidades</a:t>
            </a:r>
            <a:br>
              <a:rPr sz="3000"/>
            </a:br>
            <a:br>
              <a:rPr sz="3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 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ernalización Externalidad</a:t>
            </a:r>
            <a:br>
              <a:rPr sz="40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.  - Fusión de 2 empresa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- Represa Ralco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Tragedia de los Comunes</a:t>
            </a:r>
            <a:br>
              <a:rPr sz="2800"/>
            </a:br>
            <a:br>
              <a:rPr sz="2800"/>
            </a:b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Propiedad Común - libre acces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¿Quién la cuida?  - NADI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Consecuencias - Sobre-explotación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Ex. Pesca en lago con stock fijo peces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xternalidad tecnológica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Va a haber sobre-explotación de pesca</a:t>
            </a:r>
            <a:br>
              <a:rPr sz="3600"/>
            </a:br>
            <a:br>
              <a:rPr sz="36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olución Mercado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se acabarán los peces</a:t>
            </a:r>
            <a:br>
              <a:rPr sz="28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23:20:24Z</dcterms:created>
  <dc:creator>Universidad de Chile</dc:creator>
  <dc:description/>
  <dc:language>en-US</dc:language>
  <cp:lastModifiedBy>............</cp:lastModifiedBy>
  <dcterms:modified xsi:type="dcterms:W3CDTF">2006-11-10T21:11:29Z</dcterms:modified>
  <cp:revision>23</cp:revision>
  <dc:subject/>
  <dc:title>EXTERNALIDADES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ReviewCycleID">
    <vt:r8>-475131851</vt:r8>
  </property>
</Properties>
</file>