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2BA-343B-42D2-823C-42770441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5F2-BC00-47FA-8868-9A5ADDE4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64C-FBD2-4243-BBD5-D1FD3460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EBC-15F1-4F4E-843C-163AAA2B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34D-DB8F-470A-8563-22F87242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55F-BAD5-492D-A138-A1CB4C77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0CD-3B3C-4770-9150-715EB3EE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DC6-D8C6-48EE-96E8-196F2C92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0D0-D257-48AC-8011-BA66F431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235-89BC-4AC1-A077-591A202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7AF-CBCE-417C-A24E-5ABC7472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98B-7254-4F48-8637-8D3F334F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9A2A-3E7F-4E3A-B4A3-46E3601ACB4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6-11-10T21:11:29Z</dcterms:modified>
  <cp:revision>23</cp:revision>
  <dc:subject/>
  <dc:title>EXTERNALIDADE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475131851</vt:r8>
  </property>
</Properties>
</file>