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2F0-CEF4-44AE-8175-81269544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197-A093-459E-A526-92C51BB3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186-C3AE-45A5-A346-FE6A78AE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279-19A9-45DA-9950-F5E42020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9A49-C1E3-43B1-A80C-71F2C103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28A1-0596-4F2F-9CAA-3F3CADBC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EC36-581E-413A-8C26-BF94D99B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C7B-9F4E-4116-924D-51433050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B5E-72AD-4277-B935-2364B3C2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FBC-7313-440E-A9FA-67929EB1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D08-9E1A-4628-BF8D-3177AF3F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8157-0051-41CB-B017-7FE05746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57D2-9654-4D8E-A27A-44214F00CDC5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oncept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- Externalidad - Acción agente - sobre o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no está incorporado en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 - 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ons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&gt; Solución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rcado  In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 no refleja valor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hacer?  - N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gla únic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   Soluciones a Tragedia de Comun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.-  Definición de dueño/concesionario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.-  Licitación/Regulación - Caso pesca marítima 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.-  Autocontrol - Caso sequía</a:t>
            </a: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4.  Soluciones Privadas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.- Internalizació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1 dueñ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.- Tragedia Comune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signación de du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Teorema de COAS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5238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2240" y="1758960"/>
            <a:ext cx="7483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 Caso Hospital - 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spital                              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er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histórica:  cerrar industria 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 Planteamiento Coase:  Negociación entre los Ag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+ eficiente  - independiente de quien 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so 1</a:t>
            </a:r>
            <a:br>
              <a:rPr sz="4000"/>
            </a:br>
            <a:br>
              <a:rPr sz="4000"/>
            </a:b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Sistema Jurídico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sultado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neficio Neto</a:t>
            </a: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   Hospital      Garage  Total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</a:t>
            </a: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rage Culpable   Garage Cierra    60          - 40           2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rage Inocente   Hospital paga    60-P     P - 40          2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Cierre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 sistema jurídico:  IRRELEVANTE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Solo sirve para parte distributiva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so 2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Inversión Valores:  Garage:  60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Hospital: 40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o 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Garage instala sistema anti-ruidos: 20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o 4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ospital instala sistema anti-ruidos: 18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orema Coas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do las partes afectadas por la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xternalidad pueden negociar entre si -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 incurrir en costo algu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- y mejorand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su beneficio mutuo,  el resultado es eficient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independientemente de quien sea jurídicament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responsable de los daños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licanci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Si el Estado no interviene, individuo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eden encontrar solución eficiente. 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5) Aplicacione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br>
              <a:rPr sz="2400"/>
            </a:b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6)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lemas de las Soluciones Privadas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 Costos de la Negocia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Altos costos de transac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Problema de free rider (“parásito”)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 Dificultad de identificación de fuente de daño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-  Información asimétrica   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El caso de fumadores/no fumador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-  Necesidad del Rol del Estado</a:t>
            </a:r>
            <a:br>
              <a:rPr sz="28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árbitro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definición criterio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evita problemas parásito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tiene poder para implementar cumpl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úblicas a las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  Elementos General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Rol Estado - Evitar solución Mdo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Análisis C/B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Solución - No es Todo/Nada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P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- Pigou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-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uesto Pigou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Que paguen los que contami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Oj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¿Quién paga el impuesto?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¿Qué se hace con el monto recaudado?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Ej. Playa contaminada/Pescadore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Compensación a los contaminadore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ubsidio por no contaminar </a:t>
            </a:r>
            <a:r>
              <a:rPr b="1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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costo efectivo producción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¿Es esta una situación irreal?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- Retiro microbuses en Santiago</a:t>
            </a:r>
            <a:br>
              <a:rPr sz="28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aración Impuesto-Subsidi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Q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- Principal tool - para enfrentar externalidade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Norma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Standard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Cuota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Ej. Autos, Fumadores, Pesc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- Ventajas Mecanismo Q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-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aración Mecanismo P y Mecanismo Q</a:t>
            </a:r>
            <a:br>
              <a:rPr sz="28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Normas de emisión vs. Mult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Principio económico básico: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sib. Sustitución</a:t>
            </a:r>
            <a:br>
              <a:rPr sz="28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Ej.- Empresa Contaminante</a:t>
            </a:r>
            <a:br>
              <a:rPr sz="2800"/>
            </a:br>
            <a:br>
              <a:rPr sz="2800"/>
            </a:b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rcado Partículas Contaminant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mg-Soc.- CMg para Soc. por contamina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Mg. R.E - CMg para Empresa por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contaminación</a:t>
            </a:r>
            <a:br>
              <a:rPr sz="28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Norma-Estándar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- Emis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Tipos de External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1676520"/>
            <a:ext cx="7467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os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Neg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lasificación según A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ente Causante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ente Afectad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ternal.                      External.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Impuesto (P) por Emisión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P*E*:  Monto pagado por emitir E*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¿Por qué le conviene a la empresa </a:t>
            </a:r>
            <a:r>
              <a:rPr b="1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nivel emisión de 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Mercado - Derechos Transables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zcla Tools P y Q</a:t>
            </a:r>
            <a:br>
              <a:rPr sz="2800"/>
            </a:br>
            <a:br>
              <a:rPr sz="32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rcado Derechos (B</a:t>
            </a:r>
            <a:r>
              <a:rPr b="1" lang="es-ES_tradnl" sz="2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) - Emisión</a:t>
            </a:r>
            <a:br>
              <a:rPr sz="28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MgRE = CMgR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+ CMgR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: Precio Derecho Transabl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ivel Optimo Emisión: 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- Determinado por Gob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do. B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Fijar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presas con Tecnol. Menos contaminante - compra poc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presas con Tecnol. Más contaminante  - compra más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do.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logra Min Cost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Requiere Mínimo IF y Cont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341360"/>
            <a:ext cx="723924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aracterísticas Bien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.- Bien No Rival o Bien No Ago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ien alternativo ri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Bien no agotable en el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.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rincipio de excl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adie puede ser excluido de su uso/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ncipio básico de exclusión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bro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ien Público - No es posible cobrar (o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Agentes usan el bien sin tener que pa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476280"/>
            <a:ext cx="55450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- Faro  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El caso de la TV pública -??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Salud Pública - ??</a:t>
            </a: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ficiencia y Bs. Público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Principio básico:  CMg = UMg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Bienes Priv.: Bcnef. Mg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edir UMg - consumidor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Bien Público: Test : Disposición a pagar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B.Mg Soc.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B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=1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uego: C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B.Pub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B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: Construcción 1 o 2 plazas</a:t>
            </a:r>
            <a:br>
              <a:rPr sz="2800"/>
            </a:br>
            <a:br>
              <a:rPr sz="40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btención D- Agregada: D-Bien Público</a:t>
            </a: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Vertical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 CMg = $ 40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construye 1 plaza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secuencias de la 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 Externalidad</a:t>
            </a:r>
            <a:br>
              <a:rPr sz="4400"/>
            </a:br>
            <a:br>
              <a:rPr sz="44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j. Empresa contaminante </a:t>
            </a:r>
            <a:r>
              <a:rPr b="1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Restricción para contaminar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0960" cy="57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xtern.  &lt; 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&gt;  CMg - Soc  &gt; Cmg - Priv.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 Solución Mercado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Equilibrio Optimo Social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Externalidad &lt; 0: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quil. Mdo. No es Opt. Social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Falla Mdo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quil. Mdo.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&gt; 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&lt;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input no valorad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i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v)   Para alcanzar 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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hasta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br>
              <a:rPr sz="24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785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ineficiencia en Solución Mdo.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P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es ineficiente la solución del mercado?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puesta:  Uso aire limpi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cisión empresa:  Max.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cisión Optimo Social: P = Cmg - Soc.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da al Aire: Pablo Nerud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Cuál es el error básico de Pablo Nerud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álisis de Bienestar de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xternal. &lt; 0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Times New Roman"/>
              <a:buAutoNum type="romanUcPeriod" startAt="3"/>
              <a:tabLst>
                <a:tab algn="l" pos="66672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al Problema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xternalidade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rivadas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nalización  Externalidad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Tragedia Comune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Teorema Coase - Negociación</a:t>
            </a:r>
            <a:br>
              <a:rPr sz="2400"/>
            </a:br>
            <a:br>
              <a:rPr sz="24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úblicas</a:t>
            </a:r>
            <a:br>
              <a:rPr sz="28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 Solución Pigou:  Impuesto  P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ubsidio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Solución Q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Solución Mercado: Permisos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ns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IV.   </a:t>
            </a: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rivadas a las Externalidades</a:t>
            </a:r>
            <a:br>
              <a:rPr sz="3000"/>
            </a:br>
            <a:br>
              <a:rPr sz="3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nalización Externalidad</a:t>
            </a:r>
            <a:br>
              <a:rPr sz="40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.  - Fusión de 2 empresa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- Represa Ralco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gedia de los Comunes</a:t>
            </a:r>
            <a:br>
              <a:rPr sz="2800"/>
            </a:br>
            <a:br>
              <a:rPr sz="2800"/>
            </a:b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Propiedad Común - libre acces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¿Quién la cuida?  - NADI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Consecuencias - Sobre-explotación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Ex. Pesca en lago con stock fijo peces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xternalidad tecnológica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a a haber sobre-explotación de pesca</a:t>
            </a:r>
            <a:br>
              <a:rPr sz="3600"/>
            </a:br>
            <a:br>
              <a:rPr sz="36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 Mercad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acabarán los peces</a:t>
            </a: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23:20:24Z</dcterms:created>
  <dc:creator>Universidad de Chile</dc:creator>
  <dc:description/>
  <dc:language>en-US</dc:language>
  <cp:lastModifiedBy>............</cp:lastModifiedBy>
  <dcterms:modified xsi:type="dcterms:W3CDTF">2006-11-10T21:11:29Z</dcterms:modified>
  <cp:revision>23</cp:revision>
  <dc:subject/>
  <dc:title>EXTERNALIDADE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ReviewCycleID">
    <vt:r8>-475131851</vt:r8>
  </property>
</Properties>
</file>