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BF31-F21B-436D-A37F-E350FE6FB2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EFE6-C075-4BD7-A4A2-FD75CA9FC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84398-8C9F-44B9-B53F-156107360F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D1F76-BDB8-4853-B09F-495D12FE1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71C4-A856-4910-A9AE-B7AA7532D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6189-F73C-4503-A961-E895B08DB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603A-FEC7-49AD-9CA4-80FDA4EC7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DFF59-A319-47E6-B62B-BF95F7F30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2F002-8426-465A-BC91-A00116F09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717F1-DFE8-4026-94FF-7C49E58C8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B30C-4200-4783-A53B-2FF86B7ED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6513-3693-4B09-97E7-0B6FD4240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391C9-9065-4093-9AF7-A1F03F4D39CB}" type="slidenum"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EXTERNALIDADES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8360" y="1484280"/>
            <a:ext cx="815328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Concepto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- Externalidad - Acción agente - sobre otr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sto no está incorporado en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 - Bu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Consecuenci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ternalidad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&gt; Solución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Mercado  Inefici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 no refleja valor soc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¿Qué hacer?  - No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regla única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2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3.   Soluciones a Tragedia de Comunes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.-  Definición de dueño/concesionario</a:t>
            </a: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.-  Licitación/Regulación - Caso pesca marítima </a:t>
            </a: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c.-  Autocontrol - Caso sequía</a:t>
            </a:r>
            <a:br>
              <a:rPr sz="3200"/>
            </a:br>
            <a:br>
              <a:rPr sz="3200"/>
            </a:b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4.  Soluciones Privadas</a:t>
            </a: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a.- Internalización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1 dueño</a:t>
            </a: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b.- Tragedia Comunes </a:t>
            </a:r>
            <a:r>
              <a:rPr b="0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 Designación de dueñ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3600"/>
            </a:br>
            <a:r>
              <a:rPr b="0" lang="es-ES_tradnl" sz="3600" spc="-1" strike="noStrike" u="sng">
                <a:solidFill>
                  <a:srgbClr val="000000"/>
                </a:solidFill>
                <a:uFillTx/>
                <a:latin typeface="Times New Roman"/>
              </a:rPr>
              <a:t>Teorema de COASE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1523880"/>
            <a:ext cx="716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822240" y="1758960"/>
            <a:ext cx="748368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1.  Caso Hospital - Ga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rui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Hospital                              Gar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err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lución histórica:  cerrar industria contamin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2.  Planteamiento Coase:  Negociación entre los Ag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Solución + eficiente  - independiente de quien gener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xternalid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imes New Roman"/>
              </a:rPr>
              <a:t>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278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Caso 1</a:t>
            </a:r>
            <a:br>
              <a:rPr sz="4000"/>
            </a:br>
            <a:br>
              <a:rPr sz="4000"/>
            </a:b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Sistema Jurídico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Resultado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Beneficio Neto</a:t>
            </a:r>
            <a:br>
              <a:rPr sz="3200"/>
            </a:b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_________   Hospital      Garage  Total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___</a:t>
            </a:r>
            <a:br>
              <a:rPr sz="40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arage Culpable   Garage Cierra    60          - 40           2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Garage Inocente   Hospital paga    60-P     P - 40          2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    Cierre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olución sistema jurídico:  IRRELEVANTE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Solo sirve para parte distributiva 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81532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	</a:t>
            </a: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Caso 2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Inversión Valores:  Garage:  60</a:t>
            </a: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                                         Hospital: 40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so 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Garage instala sistema anti-ruidos: 20</a:t>
            </a:r>
            <a:br>
              <a:rPr sz="2400"/>
            </a:br>
            <a:br>
              <a:rPr sz="2400"/>
            </a:b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Caso 4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ospital instala sistema anti-ruidos: 18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4)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Teorema Coase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Cuando las partes afectadas por la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externalidad pueden negociar entre si -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</a:t>
            </a: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sin incurrir en costo algun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- y mejorando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su beneficio mutuo,  el resultado es eficiente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independientemente de quien sea jurídicamente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responsable de los daños.</a:t>
            </a: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Implicancias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Si el Estado no interviene, individuos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ueden encontrar solución eficiente.  </a:t>
            </a:r>
            <a:br>
              <a:rPr sz="2400"/>
            </a:b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(5) Aplicaciones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   </a:t>
            </a:r>
            <a:br>
              <a:rPr sz="2400"/>
            </a:br>
            <a:br>
              <a:rPr sz="2400"/>
            </a:br>
            <a:br>
              <a:rPr sz="40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11280" y="333000"/>
            <a:ext cx="82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br>
              <a:rPr sz="3200"/>
            </a:b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6)  </a:t>
            </a: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Problemas de las Soluciones Privadas</a:t>
            </a:r>
            <a:br>
              <a:rPr sz="3200"/>
            </a:br>
            <a:br>
              <a:rPr sz="32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.-   Costos de la Negociación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- Altos costos de transacción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- Problema de free rider (“parásito”)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.-  Dificultad de identificación de fuente de daños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.-  Información asimétrica     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El caso de fumadores/no fumadores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.-  Necesidad del Rol del Estado</a:t>
            </a:r>
            <a:br>
              <a:rPr sz="28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- árbitro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- definición criterios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- evita problemas parásito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- tiene poder para implementar cumplimi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-1117440">
              <a:buClr>
                <a:srgbClr val="000000"/>
              </a:buClr>
              <a:buFont typeface="Times New Roman"/>
              <a:buAutoNum type="romanUcPeriod" startAt="5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Soluciones Públicas a las 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Externalidades</a:t>
            </a:r>
            <a:br>
              <a:rPr sz="3200"/>
            </a:br>
            <a:br>
              <a:rPr sz="32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.    Elementos Generales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- Rol Estado - Evitar solución Mdo.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- Análisis C/B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- Solución - No es Todo/Nada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.- 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canismo P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- Pigou 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.- 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Impuesto Pigou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Que paguen los que contamin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.-  Ojo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¿Quién paga el impuesto?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.- ¿Qué se hace con el monto recaudado?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Ej. Playa contaminada/Pescadores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Compensación a los contaminadore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4000" y="620280"/>
            <a:ext cx="8459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Subsidio por no contaminar </a:t>
            </a:r>
            <a:r>
              <a:rPr b="1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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costo efectivo producción</a:t>
            </a: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 ¿Es esta una situación irreal?</a:t>
            </a: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j.- Retiro microbuses en Santiago</a:t>
            </a:r>
            <a:br>
              <a:rPr sz="28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mparación Impuesto-Subsidio</a:t>
            </a: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B.  </a:t>
            </a: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Mecanismo Q</a:t>
            </a: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1.- Principal tool - para enfrentar externalidades 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- Normas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- Standard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- Cuotas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    Ej. Autos, Fumadores, Pesca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2.- Ventajas Mecanismo Q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806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.-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Comparación Mecanismo P y Mecanismo Q</a:t>
            </a:r>
            <a:br>
              <a:rPr sz="28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.  Normas de emisión vs. Multa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Principio económico básico: 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posib. Sustitución</a:t>
            </a:r>
            <a:br>
              <a:rPr sz="28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2. Ej.- Empresa Contaminante</a:t>
            </a:r>
            <a:br>
              <a:rPr sz="2800"/>
            </a:br>
            <a:br>
              <a:rPr sz="2800"/>
            </a:b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rcado Partículas Contaminantes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mg-Soc.- CMg para Soc. por contaminación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CMg. R.E - CMg para Empresa por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contaminación</a:t>
            </a:r>
            <a:br>
              <a:rPr sz="2800"/>
            </a:b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3.   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Norma-Estándar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- Emisió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Tipos de Externalidad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1676520"/>
            <a:ext cx="746748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)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Posi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Negativ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)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lasificación según Ag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gente Causante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gente Afectado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Ejempl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   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External.                      External.___________________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r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r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um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umidor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Consumid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Consumidor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oduc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4.  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Impuesto (P) por Emisión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P*E*:  Monto pagado por emitir E*</a:t>
            </a: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¿Por qué le conviene a la empresa </a:t>
            </a:r>
            <a:r>
              <a:rPr b="1" lang="es-ES_tradnl" sz="4000" spc="-1" strike="noStrike">
                <a:solidFill>
                  <a:srgbClr val="000000"/>
                </a:solidFill>
                <a:latin typeface="Symbol"/>
                <a:ea typeface="Symbol"/>
              </a:rPr>
              <a:t></a:t>
            </a: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nivel emisión de E</a:t>
            </a:r>
            <a:r>
              <a:rPr b="1" lang="es-ES_tradnl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D.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canismo Mercado - Derechos Transables</a:t>
            </a: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zcla Tools P y Q</a:t>
            </a:r>
            <a:br>
              <a:rPr sz="2800"/>
            </a:br>
            <a:br>
              <a:rPr sz="32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Mercado Derechos (B</a:t>
            </a:r>
            <a:r>
              <a:rPr b="1" lang="es-ES_tradnl" sz="2800" spc="-1" strike="noStrike" u="sng" baseline="-25000">
                <a:solidFill>
                  <a:srgbClr val="000000"/>
                </a:solidFill>
                <a:uFillTx/>
                <a:latin typeface="Times New Roman"/>
              </a:rPr>
              <a:t>0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) - Emisión</a:t>
            </a:r>
            <a:br>
              <a:rPr sz="28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CMgRE = CMgRE</a:t>
            </a:r>
            <a:r>
              <a:rPr b="1" lang="es-ES_tradnl" sz="40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+ CMgRE</a:t>
            </a:r>
            <a:r>
              <a:rPr b="1" lang="es-ES_tradnl" sz="40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40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: Precio Derecho Transable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Nivel Optimo Emisión: E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- Determinado por Gob.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Mdo. B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Fijar P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mpresas con Tecnol. Menos contaminante - compra poco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mpresas con Tecnol. Más contaminante  - compra más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Mdo.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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0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logra Min Costos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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Requiere Mínimo IF y Control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586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00000" y="1341360"/>
            <a:ext cx="7239240" cy="503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ahoma"/>
              </a:rPr>
              <a:t>1.  </a:t>
            </a:r>
            <a:r>
              <a:rPr b="1" lang="es-ES_tradnl" sz="2000" spc="-1" strike="noStrike" u="sng">
                <a:solidFill>
                  <a:srgbClr val="000000"/>
                </a:solidFill>
                <a:uFillTx/>
                <a:latin typeface="Tahoma"/>
              </a:rPr>
              <a:t>Características Bien Públ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a.- Bien No Rival o Bien No Ago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bien alternativo ri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Bien no agotable en el 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.-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principio de exclus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Nadie puede ser excluido de su uso/consum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Principio básico de exclusión: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cobro 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Bien Público - No es posible cobrar (o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- Agentes usan el bien sin tener que pag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476280"/>
            <a:ext cx="5545080" cy="649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BIENES PUBLIC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j.- Faro  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El caso de la TV pública -??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Salud Pública - ??</a:t>
            </a: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Eficiencia y Bs. Públicos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.- Principio básico:  CMg = UMg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Bienes Priv.: Bcnef. Mg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Medir UMg - consumidor 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.- Bien Público: Test : Disposición a pagar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                n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      B.Mg Soc. 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 BMg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br>
              <a:rPr sz="2800"/>
            </a:b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i=1</a:t>
            </a:r>
            <a:br>
              <a:rPr sz="2800"/>
            </a:b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Luego: CMg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B.Pub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BMg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1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   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j.: Construcción 1 o 2 plazas</a:t>
            </a:r>
            <a:br>
              <a:rPr sz="2800"/>
            </a:br>
            <a:br>
              <a:rPr sz="40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Obtención D- Agregada: D-Bien Público</a:t>
            </a:r>
            <a:br>
              <a:rPr sz="3200"/>
            </a:br>
            <a:br>
              <a:rPr sz="3200"/>
            </a:b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</a:t>
            </a: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 Vertical</a:t>
            </a:r>
            <a:br>
              <a:rPr sz="3200"/>
            </a:br>
            <a:br>
              <a:rPr sz="32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i CMg = $ 400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Se construye 1 plaza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II.</a:t>
            </a:r>
            <a:r>
              <a:rPr b="0" lang="es-ES_tradnl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Consecuencias de la </a:t>
            </a: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</a:t>
            </a:r>
            <a:r>
              <a:rPr b="0" lang="es-ES_tradnl" sz="4400" spc="-1" strike="noStrike" u="sng">
                <a:solidFill>
                  <a:srgbClr val="000000"/>
                </a:solidFill>
                <a:uFillTx/>
                <a:latin typeface="Times New Roman"/>
              </a:rPr>
              <a:t> Externalidad</a:t>
            </a:r>
            <a:br>
              <a:rPr sz="4400"/>
            </a:br>
            <a:br>
              <a:rPr sz="44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Ej. Empresa contaminante </a:t>
            </a:r>
            <a:r>
              <a:rPr b="1" lang="es-ES_tradnl" sz="4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Restricción para contaminar</a:t>
            </a: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0960" cy="571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br>
              <a:rPr sz="40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xtern.  &lt; 0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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&gt;  CMg - Soc  &gt; Cmg - Priv.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:  Solución Mercado 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: Equilibrio Optimo Social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Externalidad &lt; 0: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i)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quil. Mdo. No es Opt. Social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Falla Mdo.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ii)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Equil. Mdo.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Q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&gt; Q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br>
              <a:rPr sz="2800"/>
            </a:b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&lt; P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br>
              <a:rPr sz="2800"/>
            </a:b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                                              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input no valorado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iii)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&gt; 0</a:t>
            </a: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(iv)   Para alcanzar E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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hasta P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Times New Roman"/>
              </a:rPr>
              <a:t>s</a:t>
            </a:r>
            <a:br>
              <a:rPr sz="2800"/>
            </a:br>
            <a:br>
              <a:rPr sz="24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4000" y="620280"/>
            <a:ext cx="827856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666720"/>
                <a:tab algn="l" pos="1333440"/>
                <a:tab algn="l" pos="2000160"/>
                <a:tab algn="l" pos="2666880"/>
                <a:tab algn="l" pos="3333600"/>
                <a:tab algn="l" pos="4000680"/>
                <a:tab algn="l" pos="4667400"/>
                <a:tab algn="l" pos="5334120"/>
                <a:tab algn="l" pos="6000840"/>
                <a:tab algn="l" pos="6667560"/>
                <a:tab algn="l" pos="7334280"/>
                <a:tab algn="l" pos="8001000"/>
                <a:tab algn="l" pos="8667720"/>
                <a:tab algn="l" pos="9334440"/>
                <a:tab algn="l" pos="10001160"/>
                <a:tab algn="l" pos="1066788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Análisis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ineficiencia en Solución Mdo.</a:t>
            </a: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¿P</a:t>
            </a:r>
            <a:r>
              <a:rPr b="1" lang="es-ES_tradnl" sz="3200" spc="-1" strike="noStrike" baseline="-25000">
                <a:solidFill>
                  <a:srgbClr val="000000"/>
                </a:solidFill>
                <a:latin typeface="Times New Roman"/>
              </a:rPr>
              <a:t>q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 es ineficiente la solución del mercado?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Respuesta:  Uso aire limpio</a:t>
            </a:r>
            <a:br>
              <a:rPr sz="3200"/>
            </a:b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ecisión empresa:  Max. </a:t>
            </a:r>
            <a:r>
              <a:rPr b="1" lang="es-ES_tradnl" sz="3200" spc="-1" strike="noStrike">
                <a:solidFill>
                  <a:srgbClr val="000000"/>
                </a:solidFill>
                <a:latin typeface="Symbol"/>
                <a:ea typeface="Symbol"/>
              </a:rPr>
              <a:t>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Decisión Optimo Social: P = Cmg - Soc.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Oda al Aire: Pablo Neruda</a:t>
            </a:r>
            <a:br>
              <a:rPr sz="3200"/>
            </a:b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¿Cuál es el error básico de Pablo Neruda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571680"/>
                <a:tab algn="l" pos="1143000"/>
                <a:tab algn="l" pos="1714680"/>
                <a:tab algn="l" pos="2286000"/>
                <a:tab algn="l" pos="2857680"/>
                <a:tab algn="l" pos="3429000"/>
                <a:tab algn="l" pos="4000680"/>
                <a:tab algn="l" pos="4572000"/>
                <a:tab algn="l" pos="5143680"/>
                <a:tab algn="l" pos="5715000"/>
                <a:tab algn="l" pos="6286680"/>
                <a:tab algn="l" pos="6858000"/>
                <a:tab algn="l" pos="7429680"/>
                <a:tab algn="l" pos="8001000"/>
                <a:tab algn="l" pos="8572680"/>
                <a:tab algn="l" pos="9144000"/>
                <a:tab algn="l" pos="9715680"/>
                <a:tab algn="l" pos="10287000"/>
                <a:tab algn="l" pos="1085868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Análisis de Bienestar de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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 External. &lt; 0</a:t>
            </a:r>
            <a:br>
              <a:rPr sz="28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1117440" indent="-1117440">
              <a:buClr>
                <a:srgbClr val="000000"/>
              </a:buClr>
              <a:buFont typeface="Times New Roman"/>
              <a:buAutoNum type="romanUcPeriod" startAt="3"/>
              <a:tabLst>
                <a:tab algn="l" pos="666720"/>
                <a:tab algn="l" pos="1143000"/>
                <a:tab algn="l" pos="1333440"/>
                <a:tab algn="l" pos="1523880"/>
                <a:tab algn="l" pos="1714680"/>
                <a:tab algn="l" pos="1905120"/>
                <a:tab algn="l" pos="2095560"/>
                <a:tab algn="l" pos="2286000"/>
                <a:tab algn="l" pos="2476440"/>
                <a:tab algn="l" pos="2666880"/>
                <a:tab algn="l" pos="2857680"/>
                <a:tab algn="l" pos="3048120"/>
                <a:tab algn="l" pos="3238560"/>
                <a:tab algn="l" pos="3429000"/>
                <a:tab algn="l" pos="3619440"/>
                <a:tab algn="l" pos="3809880"/>
                <a:tab algn="l" pos="4000680"/>
                <a:tab algn="l" pos="4191120"/>
                <a:tab algn="l" pos="4381560"/>
                <a:tab algn="l" pos="4572000"/>
                <a:tab algn="l" pos="4762440"/>
              </a:tabLst>
            </a:pP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Soluciones al Problema </a:t>
            </a: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Symbol"/>
                <a:ea typeface="Symbol"/>
              </a:rPr>
              <a:t></a:t>
            </a:r>
            <a:r>
              <a:rPr b="0" lang="es-ES_tradnl" sz="4000" spc="-1" strike="noStrike" u="sng">
                <a:solidFill>
                  <a:srgbClr val="000000"/>
                </a:solidFill>
                <a:uFillTx/>
                <a:latin typeface="Times New Roman"/>
              </a:rPr>
              <a:t> Externalidades</a:t>
            </a: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A.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luciones Privadas</a:t>
            </a:r>
            <a:br>
              <a:rPr sz="4000"/>
            </a:b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Internalización  Externalidad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 Tragedia Comunes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 Teorema Coase - Negociación</a:t>
            </a:r>
            <a:br>
              <a:rPr sz="2400"/>
            </a:br>
            <a:br>
              <a:rPr sz="24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B.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Soluciones Públicas</a:t>
            </a:r>
            <a:br>
              <a:rPr sz="2800"/>
            </a:b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1. Solución Pigou:  Impuesto  P                 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Subsidio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. Solución Q </a:t>
            </a:r>
            <a:br>
              <a:rPr sz="2400"/>
            </a:b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3. Solución Mercado: Permisos</a:t>
            </a:r>
            <a:r>
              <a:rPr b="1" lang="es-ES_tradnl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Transab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s-ES_tradnl" sz="3000" spc="-1" strike="noStrike">
                <a:solidFill>
                  <a:srgbClr val="000000"/>
                </a:solidFill>
                <a:latin typeface="Times New Roman"/>
              </a:rPr>
              <a:t>IV.   </a:t>
            </a:r>
            <a:r>
              <a:rPr b="1" lang="es-ES_tradnl" sz="3000" spc="-1" strike="noStrike" u="sng">
                <a:solidFill>
                  <a:srgbClr val="000000"/>
                </a:solidFill>
                <a:uFillTx/>
                <a:latin typeface="Times New Roman"/>
              </a:rPr>
              <a:t>Soluciones Privadas a las Externalidades</a:t>
            </a:r>
            <a:br>
              <a:rPr sz="3000"/>
            </a:br>
            <a:br>
              <a:rPr sz="30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1.  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Internalización Externalidad</a:t>
            </a:r>
            <a:br>
              <a:rPr sz="40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Ex.  - Fusión de 2 empresas</a:t>
            </a:r>
            <a:br>
              <a:rPr sz="2800"/>
            </a:br>
            <a:r>
              <a:rPr b="0" lang="es-ES_tradnl" sz="2800" spc="-1" strike="noStrike">
                <a:solidFill>
                  <a:srgbClr val="000000"/>
                </a:solidFill>
                <a:latin typeface="Times New Roman"/>
              </a:rPr>
              <a:t>      - Represa Ralco</a:t>
            </a:r>
            <a:br>
              <a:rPr sz="2800"/>
            </a:br>
            <a:br>
              <a:rPr sz="28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2.   </a:t>
            </a:r>
            <a:r>
              <a:rPr b="1" lang="es-ES_tradnl" sz="2800" spc="-1" strike="noStrike" u="sng">
                <a:solidFill>
                  <a:srgbClr val="000000"/>
                </a:solidFill>
                <a:uFillTx/>
                <a:latin typeface="Times New Roman"/>
              </a:rPr>
              <a:t>Tragedia de los Comunes</a:t>
            </a:r>
            <a:br>
              <a:rPr sz="2800"/>
            </a:br>
            <a:br>
              <a:rPr sz="2800"/>
            </a:b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Propiedad Común - libre acceso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¿Quién la cuida?  - NADIE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Consecuencias - Sobre-explotación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br>
              <a:rPr sz="2400"/>
            </a:b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Ex. Pesca en lago con stock fijo peces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r>
              <a:rPr b="1" lang="es-ES_tradnl" sz="3600" spc="-1" strike="noStrike">
                <a:solidFill>
                  <a:srgbClr val="000000"/>
                </a:solidFill>
                <a:latin typeface="Symbol"/>
                <a:ea typeface="Symbol"/>
              </a:rPr>
              <a:t>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externalidad tecnológica</a:t>
            </a:r>
            <a:br>
              <a:rPr sz="3600"/>
            </a:br>
            <a:r>
              <a:rPr b="1" lang="es-ES_tradnl" sz="3600" spc="-1" strike="noStrike">
                <a:solidFill>
                  <a:srgbClr val="000000"/>
                </a:solidFill>
                <a:latin typeface="Times New Roman"/>
              </a:rPr>
              <a:t>Va a haber sobre-explotación de pesca</a:t>
            </a:r>
            <a:br>
              <a:rPr sz="3600"/>
            </a:br>
            <a:br>
              <a:rPr sz="3600"/>
            </a:b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Solución Mercado </a:t>
            </a: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s-ES_tradnl" sz="2800" spc="-1" strike="noStrike">
                <a:solidFill>
                  <a:srgbClr val="000000"/>
                </a:solidFill>
                <a:latin typeface="Times New Roman"/>
              </a:rPr>
              <a:t> se acabarán los peces</a:t>
            </a:r>
            <a:br>
              <a:rPr sz="28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4T23:20:24Z</dcterms:created>
  <dc:creator>Universidad de Chile</dc:creator>
  <dc:description/>
  <dc:language>en-US</dc:language>
  <cp:lastModifiedBy>............</cp:lastModifiedBy>
  <dcterms:modified xsi:type="dcterms:W3CDTF">2006-11-10T21:11:29Z</dcterms:modified>
  <cp:revision>23</cp:revision>
  <dc:subject/>
  <dc:title>EXTERNALIDADES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ReviewCycleID">
    <vt:r8>-475131851</vt:r8>
  </property>
</Properties>
</file>