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AF1-2BEC-4D2A-B64A-0A619CC1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638-68E2-4427-8D23-F92577DF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327-63FF-4673-892E-26914E3E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9FA-F9B4-4740-BD7A-2EA984E6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7E7-BF73-43B5-9250-D7A42AF9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F7D-7660-4A65-8055-B19EE0F0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898-F31D-491A-BD40-41DE1D0D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031-EBD5-4667-94D6-956B7CC7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0EA-9F11-4902-BE7B-136452A1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974-2F42-4252-B94C-4920EBB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F07-77B8-42B9-AF2F-BEED142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10B-5ED4-42F9-9361-F83EF35C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E0E-B89A-4B58-8D5A-2F16E9C05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teracción Estratég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4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DEPARTAMENTO DE INGENIERI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atalla sexos – Matrimonio perfecto, per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7339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422360" indent="-507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 cara/s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ciones a T.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ones al Dilema del Prisio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Legislación anti-monop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eteccción incumplimiento 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stigo a los tramp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jo por 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mpromiso creí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066680"/>
            <a:ext cx="7696080" cy="2307600"/>
            <a:chOff x="0" y="1066680"/>
            <a:chExt cx="7696080" cy="2307600"/>
          </a:xfrm>
        </p:grpSpPr>
        <p:sp>
          <p:nvSpPr>
            <p:cNvPr id="129" name=""/>
            <p:cNvSpPr/>
            <p:nvPr/>
          </p:nvSpPr>
          <p:spPr>
            <a:xfrm>
              <a:off x="1828800" y="1595520"/>
              <a:ext cx="5791320" cy="170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21243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27122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1066680"/>
              <a:ext cx="27432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106668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242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2299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1480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2889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124360"/>
              <a:ext cx="3886200" cy="11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271224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212436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2419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6920" y="2183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83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7280" y="2419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0600" y="2772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1680" y="277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no Coopera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ur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rtr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tackelbe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coopera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explícita: car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implícita: Líder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odelo Cour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uopolio – 2 firmas igu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Bien homogén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irmas deciden simultáne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sencia Modelo: T.J estático – 1 sóla vez – IF perfec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firma considera fija Q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rival – y decid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Ber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s – anuncian P – independientemente y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sumidores – compran a empresas con P me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 con menor P =&gt; acapara todo 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radoja de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ligopolio se comporta igual – empresa competi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 la Parado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Edgewor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temp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ción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s a Modelo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 Central a los 2 Modelos Cournot y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Stackelbe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Uso Modelo Cournot – pero sustituye decisiones simultáneas por decisiones secuen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Qué pasa si una empresa actúa primer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raleja: Modelo Stackelberg =&gt; Actuar prim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2971800"/>
            <a:ext cx="7696440" cy="3171960"/>
            <a:chOff x="380880" y="2971800"/>
            <a:chExt cx="7696440" cy="3171960"/>
          </a:xfrm>
        </p:grpSpPr>
        <p:sp>
          <p:nvSpPr>
            <p:cNvPr id="156" name=""/>
            <p:cNvSpPr/>
            <p:nvPr/>
          </p:nvSpPr>
          <p:spPr>
            <a:xfrm>
              <a:off x="2209680" y="3722760"/>
              <a:ext cx="579132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4473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09680" y="53085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29718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05320" y="297180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46418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457200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4473720"/>
              <a:ext cx="388620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5308560"/>
              <a:ext cx="19810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4473720"/>
              <a:ext cx="198144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48927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48520" y="4892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5394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5392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8280" y="541008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oco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373392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3733920"/>
              <a:ext cx="121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Invers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2057400"/>
            <a:ext cx="7695720" cy="3171960"/>
            <a:chOff x="304920" y="2057400"/>
            <a:chExt cx="7695720" cy="3171960"/>
          </a:xfrm>
        </p:grpSpPr>
        <p:sp>
          <p:nvSpPr>
            <p:cNvPr id="181" name=""/>
            <p:cNvSpPr/>
            <p:nvPr/>
          </p:nvSpPr>
          <p:spPr>
            <a:xfrm>
              <a:off x="2133360" y="2808360"/>
              <a:ext cx="579096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360" y="355932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360" y="439416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205740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2057400"/>
              <a:ext cx="32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372744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Lí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280" y="36576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3559320"/>
              <a:ext cx="388584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4394160"/>
              <a:ext cx="198072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560" y="3559320"/>
              <a:ext cx="198108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0760" y="3978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1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48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2200" y="397836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160" y="44798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07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86600" y="44784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1960" y="44956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360" y="28195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8195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Teoría del Car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Cartel y Dilema Prisio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mejanza e Implic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os de Cartel Commod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r qué unos carteles son exitosos y otros n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Fijación P de un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del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tección de incumpl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tigo a trampo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lusión implíc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tensión post shock P petróleo 19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ac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rat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der de la intrans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uscando al lí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Conceptos Bás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Econ. Mic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Consum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Empresas Competi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dividuos (N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otr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ptimiza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Monopolio –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o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racc. Estratégica –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ro agente =&gt;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jug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Juegos – Estudio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: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pos de Interacción Estraté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cuen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multán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ómo prever lo que hará el otro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ecu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: Anticipar respuest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gla – Penetrar estrategia del ri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s de Negoc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imultá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empo cronológico y tiempo T.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: Penetrar estrategi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dominante (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D – óptima- independientemente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200400"/>
            <a:ext cx="7696080" cy="2895480"/>
            <a:chOff x="0" y="3200400"/>
            <a:chExt cx="7696080" cy="2895480"/>
          </a:xfrm>
        </p:grpSpPr>
        <p:sp>
          <p:nvSpPr>
            <p:cNvPr id="50" name=""/>
            <p:cNvSpPr/>
            <p:nvPr/>
          </p:nvSpPr>
          <p:spPr>
            <a:xfrm>
              <a:off x="182880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2880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268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408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4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588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1500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36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692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8168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28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168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143000"/>
            <a:ext cx="7696080" cy="2895480"/>
            <a:chOff x="304920" y="1143000"/>
            <a:chExt cx="7696080" cy="2895480"/>
          </a:xfrm>
        </p:grpSpPr>
        <p:sp>
          <p:nvSpPr>
            <p:cNvPr id="75" name=""/>
            <p:cNvSpPr/>
            <p:nvPr/>
          </p:nvSpPr>
          <p:spPr>
            <a:xfrm>
              <a:off x="2133720" y="18288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5146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3276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84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992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7600" y="11430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9000" y="11430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26668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38640" y="2743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640" y="3505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840" y="25146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32767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25146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2895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485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840" y="2590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6600" y="259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2200" y="2895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05520" y="3352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911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6600" y="3352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s de juego simul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tiene ED – úse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2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Ud. No tiene ED pero rival sí – entonces prevea que la usará y actú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3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Estrategias dominadas: elimíne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4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Después de ver Reglas 1 a 3 – busque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quilibrio del ju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Dilema del prisio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 cómplices: P y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no confiesan: 2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confiesan: 5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1 confiesa/otro no: 1 y 10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4920" y="3200400"/>
            <a:ext cx="7696080" cy="2895480"/>
            <a:chOff x="304920" y="3200400"/>
            <a:chExt cx="7696080" cy="2895480"/>
          </a:xfrm>
        </p:grpSpPr>
        <p:sp>
          <p:nvSpPr>
            <p:cNvPr id="101" name=""/>
            <p:cNvSpPr/>
            <p:nvPr/>
          </p:nvSpPr>
          <p:spPr>
            <a:xfrm>
              <a:off x="213372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84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64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64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84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84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112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84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552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660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iste ED – c/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u sabe eso, Pero =&gt; Eq.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sultado final – Peor para amb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l Di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Maxi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Teoría de Jue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o 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ecuenc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multá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n Repet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epeti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cepto central: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delo Básico: Juego estático (sin repetición) con IF completa (perfec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s con más de un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2:47:58Z</dcterms:modified>
  <cp:revision>161</cp:revision>
  <dc:subject/>
  <dc:title>Discriminación de Precios &amp; L1SP</dc:title>
</cp:coreProperties>
</file>