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3856-7427-470F-B82A-AE4377364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3561-C1FE-41CA-963C-A71F54F6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5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35FF-906F-480D-BF8B-D87DA9D2B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99072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99072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5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5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D0EA-7B53-44EA-A721-14AF3E56E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CAEE-F7A1-4200-8331-E94C7C7A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AD7C-8059-47B5-A02E-802121CE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1C80-B43C-4525-9630-126F9100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A042-5070-434C-A3D5-1C0717A5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3FC2-AF7A-4A0D-8E64-1FAE6F3B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FB63-EAB0-4538-9A8A-C85EE5F6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5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9D8F-4C14-45DA-876D-3B10D80D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E2A1-196C-4363-8015-EA17D383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Patricio Meller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8ED4-BBFA-48F3-8495-46BFFD518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28600"/>
            <a:ext cx="9144000" cy="15228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3333cc"/>
                </a:solidFill>
                <a:latin typeface="Tahoma"/>
              </a:rPr>
              <a:t>Interacción Estratégica</a:t>
            </a:r>
            <a:endParaRPr b="1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441972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ahoma"/>
              </a:rPr>
              <a:t>Patricio Mel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1380960" cy="1828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52480" y="609480"/>
            <a:ext cx="6629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 Unicode MS"/>
                <a:ea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 Unicode MS"/>
                <a:ea typeface="Arial"/>
              </a:rPr>
              <a:t>FACULTAD  DE CIENCIAS FISICAS Y MATEMAT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 Unicode MS"/>
                <a:ea typeface="Arial"/>
              </a:rPr>
              <a:t>DEPARTAMENTO DE INGENIERIA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Batalla sexos – Matrimonio perfecto, pero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37339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422360" indent="-5079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Juego cara/se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Objeciones a T.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oluciones al Dilema del Prision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2360" indent="-507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Legislación anti-monopo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2360" indent="-507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Deteccción incumplimiento acue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2360" indent="-507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Castigo a los trampo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2360" indent="-507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Ojo por o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2360" indent="-507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Compromiso creí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1066680"/>
            <a:ext cx="7696080" cy="2307600"/>
            <a:chOff x="0" y="1066680"/>
            <a:chExt cx="7696080" cy="2307600"/>
          </a:xfrm>
        </p:grpSpPr>
        <p:sp>
          <p:nvSpPr>
            <p:cNvPr id="129" name=""/>
            <p:cNvSpPr/>
            <p:nvPr/>
          </p:nvSpPr>
          <p:spPr>
            <a:xfrm>
              <a:off x="1828800" y="1595520"/>
              <a:ext cx="5791320" cy="170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28800" y="212436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28800" y="271224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33920" y="1595520"/>
              <a:ext cx="0" cy="170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15000" y="1595520"/>
              <a:ext cx="0" cy="170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1066680"/>
              <a:ext cx="274320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24080" y="1066680"/>
              <a:ext cx="327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224208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33720" y="229968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Fútb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14800" y="17128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Fútb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33720" y="28897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C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95880" y="17128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C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33920" y="2124360"/>
              <a:ext cx="3886200" cy="11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33920" y="2712240"/>
              <a:ext cx="198108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15000" y="2124360"/>
              <a:ext cx="198108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86200" y="24195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3600" y="30060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76920" y="21834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81680" y="21834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7280" y="241956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00600" y="27723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86200" y="30060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81680" y="277092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Oligopol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odelos no Cooperativ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ourn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Bertr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tackelber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odelos cooperativ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olusión explícita: cart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olusión implícita: Líder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Modelo Cour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upuest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Duopolio – 2 firmas igu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Bien homogéne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Firmas deciden simultáneamen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Esencia Modelo: T.J estático – 1 sóla vez – IF perfec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/firma considera fija Q</a:t>
            </a:r>
            <a:r>
              <a:rPr b="0" lang="es-MX" sz="2000" spc="-1" strike="noStrike" baseline="30000">
                <a:solidFill>
                  <a:srgbClr val="000000"/>
                </a:solidFill>
                <a:latin typeface="Tahoma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rival – y decide Q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96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Modelo Bertr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45080" indent="-59724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mpresas – anuncian P – independientemente y simultánea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45080" indent="-59724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sumidores – compran a empresas con P men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45080" indent="-59724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mpresa con menor P =&gt; acapara todo el merc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45080" indent="-59724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aradoja de Bertr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93560" indent="-49752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Oligopolio se comporta igual – empresa competiti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93560" indent="-49752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Implicanc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5080" indent="-59724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oluciones a la Parado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93560" indent="-49752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olución Edgewor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93560" indent="-49752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olución tempo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93560" indent="-49752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Diferenciación de produ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5080" indent="-59724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ríticas a Modelo Bertr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45080" indent="-59724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rítica Central a los 2 Modelos Cournot y Bertr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Modelo Stackelbe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Uso Modelo Cournot – pero sustituye decisiones simultáneas por decisiones secuenci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Qué pasa si una empresa actúa primer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oraleja: Modelo Stackelberg =&gt; Actuar prim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80880" y="2971800"/>
            <a:ext cx="7696440" cy="3171960"/>
            <a:chOff x="380880" y="2971800"/>
            <a:chExt cx="7696440" cy="3171960"/>
          </a:xfrm>
        </p:grpSpPr>
        <p:sp>
          <p:nvSpPr>
            <p:cNvPr id="156" name=""/>
            <p:cNvSpPr/>
            <p:nvPr/>
          </p:nvSpPr>
          <p:spPr>
            <a:xfrm>
              <a:off x="2209680" y="3722760"/>
              <a:ext cx="5791320" cy="242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09680" y="447372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09680" y="530856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14800" y="3722760"/>
              <a:ext cx="0" cy="242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95880" y="3722760"/>
              <a:ext cx="0" cy="242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33920" y="29718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05320" y="2971800"/>
              <a:ext cx="32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mpresa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0880" y="464184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mpresa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14600" y="4572000"/>
              <a:ext cx="121932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Corr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14800" y="4473720"/>
              <a:ext cx="3886200" cy="167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14800" y="5308560"/>
              <a:ext cx="1981080" cy="83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880" y="4473720"/>
              <a:ext cx="1981440" cy="83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67080" y="489276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24480" y="572616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57800" y="4557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62920" y="4557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48520" y="48927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81480" y="5394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67080" y="572616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2920" y="5392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38280" y="5410080"/>
              <a:ext cx="121932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Chocol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95680" y="3733920"/>
              <a:ext cx="121932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Corr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77120" y="3733920"/>
              <a:ext cx="12189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Corr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olució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strategia Inversi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4920" y="2057400"/>
            <a:ext cx="7695720" cy="3171960"/>
            <a:chOff x="304920" y="2057400"/>
            <a:chExt cx="7695720" cy="3171960"/>
          </a:xfrm>
        </p:grpSpPr>
        <p:sp>
          <p:nvSpPr>
            <p:cNvPr id="181" name=""/>
            <p:cNvSpPr/>
            <p:nvPr/>
          </p:nvSpPr>
          <p:spPr>
            <a:xfrm>
              <a:off x="2133360" y="2808360"/>
              <a:ext cx="5790960" cy="242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33360" y="3559320"/>
              <a:ext cx="579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133360" y="4394160"/>
              <a:ext cx="579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38480" y="2808360"/>
              <a:ext cx="0" cy="242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19560" y="2808360"/>
              <a:ext cx="0" cy="242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57600" y="2057400"/>
              <a:ext cx="2742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29000" y="2057400"/>
              <a:ext cx="32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mpresa N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4920" y="3727440"/>
              <a:ext cx="182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mpresa Lí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38280" y="365760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Invert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38480" y="3559320"/>
              <a:ext cx="3885840" cy="167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38480" y="4394160"/>
              <a:ext cx="1980720" cy="83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9560" y="3559320"/>
              <a:ext cx="1981080" cy="83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90760" y="39783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48160" y="48117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81480" y="3643200"/>
              <a:ext cx="83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86600" y="3643200"/>
              <a:ext cx="83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72200" y="3978360"/>
              <a:ext cx="83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05160" y="44798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90760" y="48117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86600" y="4478400"/>
              <a:ext cx="83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61960" y="44956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No invert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19360" y="28195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Invert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00800" y="2819520"/>
              <a:ext cx="121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No invert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Teoría del Cart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. Cartel y Dilema Prision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emejanza e Implica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Difer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asos de Cartel Commod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or qué unos carteles son exitosos y otros n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Análisis Fijación P de un cart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roblemas del cart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Detección de incumpli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astigo a trampos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lusión implíci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íntesis cart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xtensión post shock P petróleo 197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 algn="just">
              <a:spcBef>
                <a:spcPts val="700"/>
              </a:spcBef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Rach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arat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oder de la intransi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Buscando al lí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11360" indent="-711360" algn="just">
              <a:spcBef>
                <a:spcPts val="700"/>
              </a:spcBef>
              <a:buClr>
                <a:srgbClr val="000000"/>
              </a:buClr>
              <a:buFont typeface="Tahoma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Conceptos Bás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. Econ. Mic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. Consumi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. Empresas Competitiv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Individuos (No </a:t>
            </a: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 otr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Racio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Optimizad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. Monopolio – No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ot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Interacc. Estratégica –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tro agente =&gt;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jugad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. Juegos – Estudio decisiones interdependi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j: decisiones interdependi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ipos de Interacción Estratég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ecuenc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imultán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ómo prever lo que hará el otro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11360" indent="-711360" algn="just">
              <a:spcBef>
                <a:spcPts val="700"/>
              </a:spcBef>
              <a:buClr>
                <a:srgbClr val="000000"/>
              </a:buClr>
              <a:buFont typeface="Tahoma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Juego Secuen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otiv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strategia: Anticipar respuesta del r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Regla – Penetrar estrategia del riv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Reglas de Negoci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 algn="just">
              <a:spcBef>
                <a:spcPts val="700"/>
              </a:spcBef>
              <a:buClr>
                <a:srgbClr val="000000"/>
              </a:buClr>
              <a:buFont typeface="Tahoma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Juego Simultán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iempo cronológico y tiempo T.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Regla: Penetrar estrategia del r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strategia dominante (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D – óptima- independientemente del r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EX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11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200400"/>
            <a:ext cx="7696080" cy="2895480"/>
            <a:chOff x="0" y="3200400"/>
            <a:chExt cx="7696080" cy="2895480"/>
          </a:xfrm>
        </p:grpSpPr>
        <p:sp>
          <p:nvSpPr>
            <p:cNvPr id="50" name=""/>
            <p:cNvSpPr/>
            <p:nvPr/>
          </p:nvSpPr>
          <p:spPr>
            <a:xfrm>
              <a:off x="1828800" y="3886200"/>
              <a:ext cx="5791320" cy="220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28800" y="457200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28800" y="533412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33920" y="38862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38862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352680" y="3200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24080" y="3200400"/>
              <a:ext cx="327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mpresa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472428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mpresa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33720" y="48006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visa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14800" y="4038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visa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33720" y="55627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95880" y="4038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733920" y="4572000"/>
              <a:ext cx="38862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33920" y="5334120"/>
              <a:ext cx="19810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15000" y="4572000"/>
              <a:ext cx="1981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86200" y="49528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43600" y="57150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76920" y="46483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81680" y="464832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67280" y="4952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00600" y="54100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86200" y="57150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81680" y="54100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EX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113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04920" y="1143000"/>
            <a:ext cx="7696080" cy="2895480"/>
            <a:chOff x="304920" y="1143000"/>
            <a:chExt cx="7696080" cy="2895480"/>
          </a:xfrm>
        </p:grpSpPr>
        <p:sp>
          <p:nvSpPr>
            <p:cNvPr id="75" name=""/>
            <p:cNvSpPr/>
            <p:nvPr/>
          </p:nvSpPr>
          <p:spPr>
            <a:xfrm>
              <a:off x="2133720" y="1828800"/>
              <a:ext cx="5791320" cy="220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251460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33720" y="327672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38840" y="18288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19920" y="18288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57600" y="11430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429000" y="1143000"/>
              <a:ext cx="327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mpresa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920" y="266688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mpresa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38640" y="27432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visa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19720" y="19810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visa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438640" y="35053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0800" y="19810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038840" y="2514600"/>
              <a:ext cx="38862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8840" y="3276720"/>
              <a:ext cx="19810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19920" y="2514600"/>
              <a:ext cx="1981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91120" y="28954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248520" y="3657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81840" y="25909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86600" y="259092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172200" y="28954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05520" y="33526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91120" y="3657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86600" y="3352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Reglas de juego simultán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Regla 1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: Si tiene ED – úse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Regla 2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: Si Ud. No tiene ED pero rival sí – entonces prevea que la usará y actú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Regla 3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: Estrategias dominadas: elimínel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Regla 4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: Después de ver Reglas 1 a 3 – busque el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equilibrio del ju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 algn="just">
              <a:spcBef>
                <a:spcPts val="700"/>
              </a:spcBef>
              <a:buClr>
                <a:srgbClr val="000000"/>
              </a:buClr>
              <a:buFont typeface="Tahoma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Dilema del prision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2 cómplices: P y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i no confiesan: 2 añ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i confiesan: 5 añ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i 1 confiesa/otro no: 1 y 10 añ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04920" y="3200400"/>
            <a:ext cx="7696080" cy="2895480"/>
            <a:chOff x="304920" y="3200400"/>
            <a:chExt cx="7696080" cy="2895480"/>
          </a:xfrm>
        </p:grpSpPr>
        <p:sp>
          <p:nvSpPr>
            <p:cNvPr id="101" name=""/>
            <p:cNvSpPr/>
            <p:nvPr/>
          </p:nvSpPr>
          <p:spPr>
            <a:xfrm>
              <a:off x="2133720" y="3886200"/>
              <a:ext cx="5791320" cy="220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33720" y="457200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33720" y="533412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38840" y="38862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9920" y="38862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57600" y="3200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9000" y="3200400"/>
              <a:ext cx="327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strategia 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4920" y="472428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strategia 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38640" y="48006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Confes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19720" y="4038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Confes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38640" y="55627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00800" y="4038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38840" y="4572000"/>
              <a:ext cx="38862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38840" y="5334120"/>
              <a:ext cx="19810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19920" y="4572000"/>
              <a:ext cx="1981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91120" y="49528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48520" y="57150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81840" y="46483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86600" y="464832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172200" y="4952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05520" y="54100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91120" y="57150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86600" y="54100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Sínt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Existe ED – c/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/u sabe eso, Pero =&gt; Eq. 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ahoma"/>
              </a:rPr>
              <a:t>Na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Resultado final – Peor para amb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Implicanc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oluciones al Dil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strategia Maxim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Teoría de Jueg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.J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No cooperativ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Cooperativ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.J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Secuenci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Simultáne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.J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Sin Repeti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Repetid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Fini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Infini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oncepto central: Equilibrio de Na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Modelo Básico: Juego estático (sin repetición) con IF completa (perfec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49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Juegos con más de un equilibrio de Na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8T22:21:37Z</dcterms:created>
  <dc:creator>Silvia Tapia Bosman</dc:creator>
  <dc:description/>
  <dc:language>en-US</dc:language>
  <cp:lastModifiedBy>............</cp:lastModifiedBy>
  <dcterms:modified xsi:type="dcterms:W3CDTF">2005-10-04T22:47:58Z</dcterms:modified>
  <cp:revision>161</cp:revision>
  <dc:subject/>
  <dc:title>Discriminación de Precios &amp; L1SP</dc:title>
</cp:coreProperties>
</file>