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563C-C5D3-4EC6-9653-FE888A7B2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5668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4002-DDA4-4442-BD46-E55E47D0B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99072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5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460C-B96C-4676-B687-A28A2AA35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99072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99072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566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566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566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D2D1-5657-455C-AB73-2F5678796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FF5C-6C95-48F2-87A2-2E18910EE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7663-2ABF-4343-B891-F70387D54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99072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B3AC-37F8-4579-8708-6E6000F7D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AF7F-0474-43C2-A494-A28DCE0E6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36BD-F9DD-4D66-A863-4CD4F3E77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99072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93C9-8B06-4910-A095-D7B0DE88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72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5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1EAE-8A49-45FE-B2A8-A2335398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72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44C5-F2CF-4F48-8467-597C0330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7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 algn="just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 algn="just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 algn="just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5530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ahoma"/>
              </a:rPr>
              <a:t>Patricio Meller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B1C46-BEC0-4539-9E90-9E3F4B7D97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28600"/>
            <a:ext cx="9144000" cy="15228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50000">
                <a:srgbClr val="0066ff"/>
              </a:gs>
              <a:gs pos="100000">
                <a:srgbClr val="002f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3333cc"/>
                </a:solidFill>
                <a:latin typeface="Tahoma"/>
              </a:rPr>
              <a:t>Interacción Estratégica</a:t>
            </a:r>
            <a:endParaRPr b="1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2209680" y="441972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ahoma"/>
              </a:rPr>
              <a:t>Patricio Mell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1380960" cy="1828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52480" y="609480"/>
            <a:ext cx="6629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 Unicode MS"/>
                <a:ea typeface="Arial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 Unicode MS"/>
                <a:ea typeface="Arial"/>
              </a:rPr>
              <a:t>FACULTAD  DE CIENCIAS FISICAS Y MATEMAT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 Unicode MS"/>
                <a:ea typeface="Arial"/>
              </a:rPr>
              <a:t>DEPARTAMENTO DE INGENIERIA INDUST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80520" y="68580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Batalla sexos – Matrimonio perfecto, pero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3733920"/>
            <a:ext cx="8458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422360" indent="-50796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Juego cara/se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Objeciones a T.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Soluciones al Dilema del Prision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422360" indent="-5079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Legislación anti-monopol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22360" indent="-5079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Deteccción incumplimiento acuer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22360" indent="-5079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Castigo a los trampo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22360" indent="-5079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Ojo por o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22360" indent="-5079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Compromiso creí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0" y="1066680"/>
            <a:ext cx="7696080" cy="2307600"/>
            <a:chOff x="0" y="1066680"/>
            <a:chExt cx="7696080" cy="2307600"/>
          </a:xfrm>
        </p:grpSpPr>
        <p:sp>
          <p:nvSpPr>
            <p:cNvPr id="129" name=""/>
            <p:cNvSpPr/>
            <p:nvPr/>
          </p:nvSpPr>
          <p:spPr>
            <a:xfrm>
              <a:off x="1828800" y="1595520"/>
              <a:ext cx="5791320" cy="1704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828800" y="2124360"/>
              <a:ext cx="579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828800" y="2712240"/>
              <a:ext cx="579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733920" y="1595520"/>
              <a:ext cx="0" cy="170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15000" y="1595520"/>
              <a:ext cx="0" cy="170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2680" y="1066680"/>
              <a:ext cx="274320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24080" y="1066680"/>
              <a:ext cx="327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0" y="224208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133720" y="229968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Fútb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114800" y="171288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Fútb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133720" y="288972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Ci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95880" y="171288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Ci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733920" y="2124360"/>
              <a:ext cx="3886200" cy="117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733920" y="2712240"/>
              <a:ext cx="1981080" cy="5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715000" y="2124360"/>
              <a:ext cx="1981080" cy="5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86200" y="241956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943600" y="30060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876920" y="21834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781680" y="21834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67280" y="241956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800600" y="277236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886200" y="30060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781680" y="277092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80520" y="68544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000000"/>
                </a:solidFill>
                <a:uFillTx/>
                <a:latin typeface="Tahoma"/>
              </a:rPr>
              <a:t>Oligopol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Modelos no Cooperativ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Courno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Bertr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Stackelber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Modelos cooperativ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Colusión explícita: cart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Colusión implícita: Líder 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Tahoma"/>
              </a:rPr>
              <a:t>Modelo Cour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Supuest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828800" indent="-457200" algn="just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Duopolio – 2 firmas igua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828800" indent="-457200" algn="just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Bien homogéne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828800" indent="-457200" algn="just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Firmas deciden simultáneamen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Esencia Modelo: T.J estático – 1 sóla vez – IF perfec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c/firma considera fija Q</a:t>
            </a:r>
            <a:r>
              <a:rPr b="0" lang="es-MX" sz="2000" spc="-1" strike="noStrike" baseline="30000">
                <a:solidFill>
                  <a:srgbClr val="000000"/>
                </a:solidFill>
                <a:latin typeface="Tahoma"/>
              </a:rPr>
              <a:t>S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 rival – y decide Q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1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1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1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80520" y="68544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6969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000000"/>
                </a:solidFill>
                <a:uFillTx/>
                <a:latin typeface="Tahoma"/>
              </a:rPr>
              <a:t>Modelo Bertr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45080" indent="-59724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mpresas – anuncian P – independientemente y simultáneam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45080" indent="-59724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sumidores – compran a empresas con P men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45080" indent="-59724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mpresa con menor P =&gt; acapara todo el merca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45080" indent="-59724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Paradoja de Bertr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93560" indent="-49752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Oligopolio se comporta igual – empresa competitiv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93560" indent="-49752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Implicanci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5080" indent="-59724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Soluciones a la Paradoj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93560" indent="-49752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Solución Edgewor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93560" indent="-49752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Solución tempo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93560" indent="-49752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Diferenciación de produc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5080" indent="-59724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ríticas a Modelo Bertr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45080" indent="-59724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rítica Central a los 2 Modelos Cournot y Bertr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80520" y="68580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000000"/>
                </a:solidFill>
                <a:uFillTx/>
                <a:latin typeface="Tahoma"/>
              </a:rPr>
              <a:t>Modelo Stackelbe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Uso Modelo Cournot – pero sustituye decisiones simultáneas por decisiones secuenci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Qué pasa si una empresa actúa primero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Moraleja: Modelo Stackelberg =&gt; Actuar prim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380880" y="2971800"/>
            <a:ext cx="7696440" cy="3171960"/>
            <a:chOff x="380880" y="2971800"/>
            <a:chExt cx="7696440" cy="3171960"/>
          </a:xfrm>
        </p:grpSpPr>
        <p:sp>
          <p:nvSpPr>
            <p:cNvPr id="156" name=""/>
            <p:cNvSpPr/>
            <p:nvPr/>
          </p:nvSpPr>
          <p:spPr>
            <a:xfrm>
              <a:off x="2209680" y="3722760"/>
              <a:ext cx="5791320" cy="2421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09680" y="4473720"/>
              <a:ext cx="579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09680" y="5308560"/>
              <a:ext cx="579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14800" y="3722760"/>
              <a:ext cx="0" cy="242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095880" y="3722760"/>
              <a:ext cx="0" cy="242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733920" y="2971800"/>
              <a:ext cx="274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505320" y="2971800"/>
              <a:ext cx="32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mpresa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80880" y="464184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mpresa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514600" y="4572000"/>
              <a:ext cx="121932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H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Corrien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14800" y="4473720"/>
              <a:ext cx="3886200" cy="167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114800" y="5308560"/>
              <a:ext cx="1981080" cy="83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880" y="4473720"/>
              <a:ext cx="1981440" cy="83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267080" y="489276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324480" y="572616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257800" y="4557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162920" y="4557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248520" y="489276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181480" y="5394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267080" y="572616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162920" y="53928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438280" y="5410080"/>
              <a:ext cx="121932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H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Chocol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495680" y="3733920"/>
              <a:ext cx="121932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H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Corrien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477120" y="3733920"/>
              <a:ext cx="121896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H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Corrien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80520" y="6858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Solució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strategia Inversi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04920" y="2057400"/>
            <a:ext cx="7695720" cy="3171960"/>
            <a:chOff x="304920" y="2057400"/>
            <a:chExt cx="7695720" cy="3171960"/>
          </a:xfrm>
        </p:grpSpPr>
        <p:sp>
          <p:nvSpPr>
            <p:cNvPr id="181" name=""/>
            <p:cNvSpPr/>
            <p:nvPr/>
          </p:nvSpPr>
          <p:spPr>
            <a:xfrm>
              <a:off x="2133360" y="2808360"/>
              <a:ext cx="5790960" cy="2421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133360" y="3559320"/>
              <a:ext cx="579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133360" y="4394160"/>
              <a:ext cx="579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038480" y="2808360"/>
              <a:ext cx="0" cy="242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019560" y="2808360"/>
              <a:ext cx="0" cy="242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57600" y="2057400"/>
              <a:ext cx="2742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429000" y="2057400"/>
              <a:ext cx="32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mpresa N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04920" y="3727440"/>
              <a:ext cx="1828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mpresa Líd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438280" y="365760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Inverti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038480" y="3559320"/>
              <a:ext cx="3885840" cy="167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038480" y="4394160"/>
              <a:ext cx="1980720" cy="83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019560" y="3559320"/>
              <a:ext cx="1981080" cy="83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190760" y="397836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248160" y="481176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81480" y="3643200"/>
              <a:ext cx="83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086600" y="3643200"/>
              <a:ext cx="83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172200" y="3978360"/>
              <a:ext cx="83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05160" y="44798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190760" y="481176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86600" y="4478400"/>
              <a:ext cx="83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361960" y="44956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No inverti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419360" y="28195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Inverti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00800" y="2819520"/>
              <a:ext cx="121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No inverti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380520" y="68544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000000"/>
                </a:solidFill>
                <a:uFillTx/>
                <a:latin typeface="Tahoma"/>
              </a:rPr>
              <a:t>Teoría del Cart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T. Cartel y Dilema Prision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Semejanza e Implica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Difer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asos de Cartel Commod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Por qué unos carteles son exitosos y otros no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Análisis Fijación P de un cart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Problemas del cart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Detección de incumplimie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Castigo a trampos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lusión implíci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Síntesis cart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xtensión post shock P petróleo 197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3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2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2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80520" y="68544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 algn="just">
              <a:spcBef>
                <a:spcPts val="700"/>
              </a:spcBef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000000"/>
                </a:solidFill>
                <a:uFillTx/>
                <a:latin typeface="Tahoma"/>
              </a:rPr>
              <a:t>Introduc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Rach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Marat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Poder de la intransigen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Buscando al lí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711360" indent="-711360" algn="just">
              <a:spcBef>
                <a:spcPts val="700"/>
              </a:spcBef>
              <a:buClr>
                <a:srgbClr val="000000"/>
              </a:buClr>
              <a:buFont typeface="Tahoma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000000"/>
                </a:solidFill>
                <a:uFillTx/>
                <a:latin typeface="Tahoma"/>
              </a:rPr>
              <a:t>Conceptos Básic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T. Econ. Mic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T. Consumid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T. Empresas Competitiv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828800" indent="-457200" algn="just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Individuos (No </a:t>
            </a:r>
            <a:r>
              <a:rPr b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  otro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828800" indent="-457200" algn="just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Racion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828800" indent="-457200" algn="just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Optimizad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T. Monopolio – No 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 ot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80520" y="68544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Interacc. Estratégica –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otro agente =&gt;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jugad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T. Juegos – Estudio decisiones interdependien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j: decisiones interdependien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Tipos de Interacción Estratég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Secuenci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Simultán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ómo prever lo que hará el otro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711360" indent="-711360" algn="just">
              <a:spcBef>
                <a:spcPts val="700"/>
              </a:spcBef>
              <a:buClr>
                <a:srgbClr val="000000"/>
              </a:buClr>
              <a:buFont typeface="Tahoma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000000"/>
                </a:solidFill>
                <a:uFillTx/>
                <a:latin typeface="Tahoma"/>
              </a:rPr>
              <a:t>Juego Secuenc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Motiv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strategia: Anticipar respuesta del r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Regla – Penetrar estrategia del riv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Reglas de Negoci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520" y="685800"/>
            <a:ext cx="84582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 algn="just">
              <a:spcBef>
                <a:spcPts val="700"/>
              </a:spcBef>
              <a:buClr>
                <a:srgbClr val="000000"/>
              </a:buClr>
              <a:buFont typeface="Tahoma"/>
              <a:buAutoNum type="roman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000000"/>
                </a:solidFill>
                <a:uFillTx/>
                <a:latin typeface="Tahoma"/>
              </a:rPr>
              <a:t>Juego Simultán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Tiempo cronológico y tiempo T.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Regla: Penetrar estrategia del r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strategia dominante (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D – óptima- independientemente del r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Tahoma"/>
              </a:rPr>
              <a:t>EX1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7113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200400"/>
            <a:ext cx="7696080" cy="2895480"/>
            <a:chOff x="0" y="3200400"/>
            <a:chExt cx="7696080" cy="2895480"/>
          </a:xfrm>
        </p:grpSpPr>
        <p:sp>
          <p:nvSpPr>
            <p:cNvPr id="50" name=""/>
            <p:cNvSpPr/>
            <p:nvPr/>
          </p:nvSpPr>
          <p:spPr>
            <a:xfrm>
              <a:off x="1828800" y="3886200"/>
              <a:ext cx="5791320" cy="2209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828800" y="4572000"/>
              <a:ext cx="579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828800" y="5334120"/>
              <a:ext cx="579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733920" y="3886200"/>
              <a:ext cx="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3886200"/>
              <a:ext cx="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352680" y="3200400"/>
              <a:ext cx="274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24080" y="3200400"/>
              <a:ext cx="327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mpresa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472428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mpresa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33720" y="480060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Avisaj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114800" y="403848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Avisaj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33720" y="556272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95880" y="403848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733920" y="4572000"/>
              <a:ext cx="388620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733920" y="5334120"/>
              <a:ext cx="19810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715000" y="4572000"/>
              <a:ext cx="19810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86200" y="495288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43600" y="57150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876920" y="464832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781680" y="464832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867280" y="4952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00600" y="541008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86200" y="57150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781680" y="54100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80520" y="68580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Tahoma"/>
              </a:rPr>
              <a:t>EX2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7113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04920" y="1143000"/>
            <a:ext cx="7696080" cy="2895480"/>
            <a:chOff x="304920" y="1143000"/>
            <a:chExt cx="7696080" cy="2895480"/>
          </a:xfrm>
        </p:grpSpPr>
        <p:sp>
          <p:nvSpPr>
            <p:cNvPr id="75" name=""/>
            <p:cNvSpPr/>
            <p:nvPr/>
          </p:nvSpPr>
          <p:spPr>
            <a:xfrm>
              <a:off x="2133720" y="1828800"/>
              <a:ext cx="5791320" cy="2209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2514600"/>
              <a:ext cx="579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33720" y="3276720"/>
              <a:ext cx="579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038840" y="1828800"/>
              <a:ext cx="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19920" y="1828800"/>
              <a:ext cx="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657600" y="1143000"/>
              <a:ext cx="274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429000" y="1143000"/>
              <a:ext cx="327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mpresa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04920" y="266688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mpresa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38640" y="274320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Avisaj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19720" y="198108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Avisaj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438640" y="350532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00800" y="198108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038840" y="2514600"/>
              <a:ext cx="388620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8840" y="3276720"/>
              <a:ext cx="19810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019920" y="2514600"/>
              <a:ext cx="19810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191120" y="289548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248520" y="3657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181840" y="259092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086600" y="259092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172200" y="28954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105520" y="335268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191120" y="3657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086600" y="3352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80520" y="68544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Tahoma"/>
              </a:rPr>
              <a:t>Reglas de juego simultán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ahoma"/>
              </a:rPr>
              <a:t>Regla 1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: Si tiene ED – úsel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ahoma"/>
              </a:rPr>
              <a:t>Regla 2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: Si Ud. No tiene ED pero rival sí – entonces prevea que la usará y actú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ahoma"/>
              </a:rPr>
              <a:t>Regla 3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: Estrategias dominadas: elimínel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ahoma"/>
              </a:rPr>
              <a:t>Regla 4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: Después de ver Reglas 1 a 3 – busque el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ahoma"/>
              </a:rPr>
              <a:t>equilibrio del jueg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80520" y="685440"/>
            <a:ext cx="84582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 algn="just">
              <a:spcBef>
                <a:spcPts val="700"/>
              </a:spcBef>
              <a:buClr>
                <a:srgbClr val="000000"/>
              </a:buClr>
              <a:buFont typeface="Tahoma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000000"/>
                </a:solidFill>
                <a:uFillTx/>
                <a:latin typeface="Tahoma"/>
              </a:rPr>
              <a:t>Dilema del prision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2 cómplices: P y 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Si no confiesan: 2 añ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Si confiesan: 5 añ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Si 1 confiesa/otro no: 1 y 10 añ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04920" y="3200400"/>
            <a:ext cx="7696080" cy="2895480"/>
            <a:chOff x="304920" y="3200400"/>
            <a:chExt cx="7696080" cy="2895480"/>
          </a:xfrm>
        </p:grpSpPr>
        <p:sp>
          <p:nvSpPr>
            <p:cNvPr id="101" name=""/>
            <p:cNvSpPr/>
            <p:nvPr/>
          </p:nvSpPr>
          <p:spPr>
            <a:xfrm>
              <a:off x="2133720" y="3886200"/>
              <a:ext cx="5791320" cy="2209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133720" y="4572000"/>
              <a:ext cx="579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33720" y="5334120"/>
              <a:ext cx="579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038840" y="3886200"/>
              <a:ext cx="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19920" y="3886200"/>
              <a:ext cx="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657600" y="3200400"/>
              <a:ext cx="274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29000" y="3200400"/>
              <a:ext cx="327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strategia 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04920" y="472428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strategia 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438640" y="480060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Confes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419720" y="403848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Confes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438640" y="556272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00800" y="403848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038840" y="4572000"/>
              <a:ext cx="388620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038840" y="5334120"/>
              <a:ext cx="19810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019920" y="4572000"/>
              <a:ext cx="19810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191120" y="495288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248520" y="57150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81840" y="464832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86600" y="464832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172200" y="4952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05520" y="541008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91120" y="57150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086600" y="54100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80520" y="68544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Tahoma"/>
              </a:rPr>
              <a:t>Sínte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Existe ED – c/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C/u sabe eso, Pero =&gt; Eq. </a:t>
            </a:r>
            <a:r>
              <a:rPr b="0" lang="es-MX" sz="2000" spc="-1" strike="noStrike" u="sng">
                <a:solidFill>
                  <a:srgbClr val="000000"/>
                </a:solidFill>
                <a:uFillTx/>
                <a:latin typeface="Tahoma"/>
              </a:rPr>
              <a:t>Na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Resultado final – Peor para amb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Implicanci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0" algn="just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Soluciones al Dile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strategia Maxim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80520" y="68544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Tahoma"/>
              </a:rPr>
              <a:t>Teoría de Jueg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T.J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No cooperativ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Cooperativ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T.J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Secuencia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Simultáne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T.J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Sin Repetic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Repetido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828800" indent="-457200" algn="just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Finit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828800" indent="-457200" algn="just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Infinit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Concepto central: Equilibrio de Na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Modelo Básico: Juego estático (sin repetición) con IF completa (perfect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49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Juegos con más de un equilibrio de Na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1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8T22:21:37Z</dcterms:created>
  <dc:creator>Silvia Tapia Bosman</dc:creator>
  <dc:description/>
  <dc:language>en-US</dc:language>
  <cp:lastModifiedBy>............</cp:lastModifiedBy>
  <dcterms:modified xsi:type="dcterms:W3CDTF">2005-10-04T22:47:58Z</dcterms:modified>
  <cp:revision>161</cp:revision>
  <dc:subject/>
  <dc:title>Discriminación de Precios &amp; L1SP</dc:title>
</cp:coreProperties>
</file>