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1A6C-153C-4580-B994-66F60DD7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A3E4-0219-4249-B43B-BEDCA44F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6048-4FF4-427D-9942-F39495E6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9CB1-8139-46EB-B793-B3B7D068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3201-0C16-45E9-86B8-0E3DABC6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F6E-6D71-4C1E-B337-695AD1EF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D4BE-B744-4C51-AFA1-2695FC1C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2F90-F97C-4FC2-8B2F-FF9B1A6A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02AB-7EDF-4DFA-9D7B-D4A58B83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48B4-95B4-42BF-B074-9B375756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AF8A-1C32-4470-8A9F-D7EA113A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A1D9-3F62-448A-84DC-1D33E2B8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8387-3D29-46ED-AF82-A935EC8DB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visión transversal de la regulación de servicios públ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81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osé Tomás Mor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nisterio de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uál es el reemplazante de la empresa eficiente que comienza de ce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El mismo concepto “parchado”, un cambio más radical hacia el price cap “a la inglesa” o un camino intermedio como “empresa eficiente con historia que va tomando decisiones óptimas en el tiempo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ecuado balance entre incentivos para que los monopolios regulados incursionen en  negocios no regulados, versus prorrateo de costos con servicios regul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radoja: a mayor desregulación, mayor es la complejidad de la regulac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os tres sectores los siguientes aspectos de procedimiento son distin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os tarifarios simultáneos o dife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undidad de las bases para los estu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én hace el o los estudi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én discrepa de qué estudio o propuesta tarif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equeo de rentabil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gulador ha tendido a hacer bases cada vez más específ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valor estratégico quién discrepa de qué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eritos (no permanentes) tienen la tendencia a “promedia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elecomunicaciones, donde hay algún grado de competencia, tendría beneficios la simultaneidad de los proces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vemos justificación al chequeo de rent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Podemos confiar en un estudio tarifario “independiente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Respecto de qué resultados debemos permitir que se presenten discrepanci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ómo balancear la ventaja del “aprendizaje continuo” de los procesos no simultáneos con las ventajas de “economías de escala” y “tratamiento simétrico” de los procesos simultáneo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ntarios f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mos próximos a concluir tres estudios sobre los temas aquí tra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ulación tarifaria por empresa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este modo esperamos avanzar en las respuestas a las interrogantes pend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visión Desarrollo de Merc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sión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lar por el buen funcionamiento de una institucionalidad regulatoria que propenda al desarrollo de mercados más eficientes y competitivos, sin descuidar la protección de sectores vulner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unciones Principales: (a)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seño de marcos regulatorios y de competencia; (b) participación en procesos de fijación tarifari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acuerdo a la experiencia transversal del Ministerio de Economía, qué sabemos y qué nos falta por saber 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alidad regulatoria de servici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ulación tarifaria por empresa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tarif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da sector tiene un diseño institucional dist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elecomunicaciones, una subsecretaría (políticas, regula, fiscaliza) y comisiones periciales no permanentes con fallos no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servicios sanitarios, una superintendencia (regula, fiscaliza) y comisiones periciales no permanentes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ectricidad, una Comisión Nacional de Energía (políticas?, regula), una superintendencia (fiscaliza) y una comisión pericial permanente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los tres sectores el Ministerio de Economía firma los decretos tarifarios, pero sólo en telecomunicaciones participa formalmente en los proces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ás que el nombre del organismo regulador, lo que importa es la dependencia de su je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seable avanzar hacia comisiones periciales permanentes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lo hace menos relevante la independencia entre el regulador y el poder político, y los contrapesos del regul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ualquier caso, Minecon no debiera firmar decretos tarifarios sin participar en los proce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Dominan los conflictos o las sinergias entre dictar políticas, regular y fiscaliz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nte el mayor contrapeso de las comisiones periciales, ¿debemos juntar a los regulad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Qué relación debe haber entre las eventuales comisiones periciales perman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bien el status del mandato normativo difiere, en los tres sectores las tarifas se fijan de acuerdo a una empresa eficiente “teórica” que parte de c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cepto creado cuando las empresas eran públicas, sigue mostrando virtudes, como la atenuación de asimetrías de información entre empresa y regul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n embargo, las empresas y en menor grado el regulador han ido desvirtuando el concep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estamos satisfechos con las rentas tarifarias por “rotura y reposición de pavimentos” y plusvalía de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poco con pérdidas tarifarias por obsolescencia tecnológica y horizonte de inversiones restring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bien el resultado neto puede ser razonable, se están incubando riesgos tarifarios importa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5:44:45Z</dcterms:created>
  <dc:creator>UTFSM</dc:creator>
  <dc:description/>
  <dc:language>en-US</dc:language>
  <cp:lastModifiedBy>jtmorel</cp:lastModifiedBy>
  <dcterms:modified xsi:type="dcterms:W3CDTF">2006-06-27T15:05:49Z</dcterms:modified>
  <cp:revision>14</cp:revision>
  <dc:subject/>
  <dc:title>Una visión transversal de la regulación de servicios públicos</dc:title>
</cp:coreProperties>
</file>