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6FF2-E6EA-4EA9-819C-EE874F8A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2A9B-337F-4522-B04A-4E0376D9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F85-BA53-4100-87B0-99445CE4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8250-10A0-421F-8C2F-624DC6B6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BA1-1F2A-41BF-82C3-3ED6D3C3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3AD-E946-4972-8687-B2353222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ECC-A928-4496-8BA7-F309260B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AE1-640B-4717-9030-3A5DA62E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F4A2-B53D-4171-BAC7-45555B48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A2B-AAB6-4F4E-A26F-6CFE43B8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B1DC-E24D-4D29-89FE-3F4A1E1C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833-BE56-4B96-B0E9-082FA7B4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2882-1E4A-4A42-92A4-26833E07D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visión transversal de la regulación de servicios públ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Tomás Mor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nisterio de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uál es el reemplazante de la empresa eficiente que comienza de c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l mismo concepto “parchado”, un cambio más radical hacia el price cap “a la inglesa” o un camino intermedio como “empresa eficiente con historia que va tomando decisiones óptimas en el tiempo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cuado balance entre incentivos para que los monopolios regulados incursionen en  negocios no regulados, versus prorrateo de costos con servicios regu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doja: a mayor desregulación, mayor es la complejidad de la regul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os tres sectores los siguientes aspectos de procedimiento son disti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os tarifarios simultáneos o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undidad de las bases para los estu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hace el o los estudi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discrepa de qué estudio o propuesta tarif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equeo de renta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gulador ha tendido a hacer bases cada vez más especí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valor estratégico quién discrepa de qué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eritos (no permanentes) tienen la tendencia a “promedia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donde hay algún grado de competencia, tendría beneficios la simultaneidad de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vemos justificación al chequeo de rent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demos confiar en un estudio tarifario “independiente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Respecto de qué resultados debemos permitir que se presenten discrepanci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ómo balancear la ventaja del “aprendizaje continuo” de los procesos no simultáneos con las ventajas de “economías de escala” y “tratamiento simétrico” de los procesos simultáneo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mos próximos a concluir tres estudios sobre los temas aquí tra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este modo esperamos avanzar en las respuestas a las interrogantes 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ón Desarrollo de Merc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sión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lar por el buen funcionamiento de una institucionalidad regulatoria que propenda al desarrollo de mercados más eficientes y competitivos, sin descuidar la protección de sectores vulner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nciones Principales: (a)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seño de marcos regulatorios y de competencia; (b) participación en procesos de fijación tarifar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acuerdo a la experiencia transversal del Ministerio de Economía, qué sabemos y qué nos falta por saber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 de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da sector tiene un diseño institucional dist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una subsecretaría (políticas, regula, fiscaliza) y comisiones periciales no permanentes con fallos no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servicios sanitarios, una superintendencia (regula, fiscaliza) y comisiones periciales no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ectricidad, una Comisión Nacional de Energía (políticas?, regula), una superintendencia (fiscaliza) y una comisión pericial permanente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los tres sectores el Ministerio de Economía firma los decretos tarifarios, pero sólo en telecomunicaciones participa formalmente en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que el nombre del organismo regulador, lo que importa es la dependencia de su j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seable avanzar hacia comisiones periciales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lo hace menos relevante la independencia entre el regulador y el poder político, y los contrapesos del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ualquier caso, Minecon no debiera firmar decretos tarifarios sin participar en los proce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ominan los conflictos o las sinergias entre dictar políticas, regular y fiscaliz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te el mayor contrapeso de las comisiones periciales, ¿debemos juntar a los regulad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relación debe haber entre las eventuales comisiones periciales perman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bien el status del mandato normativo difiere, en los tres sectores las tarifas se fijan de acuerdo a una empresa eficiente “teórica” que parte de c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 creado cuando las empresas eran públicas, sigue mostrando virtudes, como la atenuación de asimetrías de información entre empresa y reg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embargo, las empresas y en menor grado el regulador han ido desvirtuando el 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estamos satisfechos con las rentas tarifarias por “rotura y reposición de pavimentos” y plusvalía de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poco con pérdidas tarifarias por obsolescencia tecnológica y horizonte de inversiones restring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bien el resultado neto puede ser razonable, se están incubando riesgos tarifarios import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5:44:45Z</dcterms:created>
  <dc:creator>UTFSM</dc:creator>
  <dc:description/>
  <dc:language>en-US</dc:language>
  <cp:lastModifiedBy>jtmorel</cp:lastModifiedBy>
  <dcterms:modified xsi:type="dcterms:W3CDTF">2006-06-27T15:05:49Z</dcterms:modified>
  <cp:revision>14</cp:revision>
  <dc:subject/>
  <dc:title>Una visión transversal de la regulación de servicios públicos</dc:title>
</cp:coreProperties>
</file>