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6B3F-1A5C-4C25-A430-0AD8F8028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46A3-BE98-4BD8-9A77-40AA1FCE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3A1B-799B-40AD-9422-6124F9316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853E-A31E-4368-B873-5BC93FF71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1052-0995-4D92-95BC-06284B74E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0F6E-3931-4F76-B8C5-D8D9CA2F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F357-6E2F-47CA-B954-83FD363C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4E4D-A67D-4E8E-BA8C-6C4A96CF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83D4-A012-4970-9521-7A7D0977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0E70-F53A-4B80-9968-A880A73C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C652-4176-4164-9343-E92E77C5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C034-A043-452E-8D12-D34E9F6F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BED2-5F39-49AC-B11D-9060A18BC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a visión transversal de la regulación de servicios públ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812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osé Tomás Mor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inisterio de Econom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ón por empresa e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nos falta por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Cuál es el reemplazante de la empresa eficiente que comienza de cer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El mismo concepto “parchado”, un cambio más radical hacia el price cap “a la inglesa” o un camino intermedio como “empresa eficiente con historia que va tomando decisiones óptimas en el tiempo”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ón por empresa e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nos falta por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decuado balance entre incentivos para que los monopolios regulados incursionen en  negocios no regulados, versus prorrateo de costos con servicios regul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aradoja: a mayor desregulación, mayor es la complejidad de la regulación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cedimientos tarif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los tres sectores los siguientes aspectos de procedimiento son distin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sos tarifarios simultáneos o diferi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fundidad de las bases para los estud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ién hace el o los estudios tarif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Quién discrepa de qué estudio o propuesta tarif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hequeo de rentabilid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cedimientos tarif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sab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 regulador ha tendido a hacer bases cada vez más específ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ene valor estratégico quién discrepa de qué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s peritos (no permanentes) tienen la tendencia a “promediar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telecomunicaciones, donde hay algún grado de competencia, tendría beneficios la simultaneidad de los procesos tarif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vemos justificación al chequeo de rentabilida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rocedimientos tarifar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nos falta por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Podemos confiar en un estudio tarifario “independiente”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Respecto de qué resultados debemos permitir que se presenten discrepanci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Cómo balancear la ventaja del “aprendizaje continuo” de los procesos no simultáneos con las ventajas de “economías de escala” y “tratamiento simétrico” de los procesos simultáneo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entarios fin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amos próximos a concluir tres estudios sobre los temas aquí trat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gulación tarifaria por empresa efi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dimientos tarif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este modo esperamos avanzar en las respuestas a las interrogantes pend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ivisión Desarrollo de Merca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isión: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velar por el buen funcionamiento de una institucionalidad regulatoria que propenda al desarrollo de mercados más eficientes y competitivos, sin descuidar la protección de sectores vulnera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Funciones Principales: (a) 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iseño de marcos regulatorios y de competencia; (b) participación en procesos de fijación tarifari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acuerdo a la experiencia transversal del Ministerio de Economía, qué sabemos y qué nos falta por saber 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stitucionalidad regulatoria de servicios pú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gulación tarifaria por empresa efic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Procedimientos tarifar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ada sector tiene un diseño institucional disti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telecomunicaciones, una subsecretaría (políticas, regula, fiscaliza) y comisiones periciales no permanentes con fallos no vinc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servicios sanitarios, una superintendencia (regula, fiscaliza) y comisiones periciales no permanentes con fallos vinc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lectricidad, una Comisión Nacional de Energía (políticas?, regula), una superintendencia (fiscaliza) y una comisión pericial permanente con fallos vinc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los tres sectores el Ministerio de Economía firma los decretos tarifarios, pero sólo en telecomunicaciones participa formalmente en los procesos tarif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sab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ás que el nombre del organismo regulador, lo que importa es la dependencia de su je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deseable avanzar hacia comisiones periciales permanentes con fallos vincul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llo hace menos relevante la independencia entre el regulador y el poder político, y los contrapesos del regul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cualquier caso, Minecon no debiera firmar decretos tarifarios sin participar en los proces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nstitucionalidad regula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nos falta por sa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Dominan los conflictos o las sinergias entre dictar políticas, regular y fiscaliz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nte el mayor contrapeso de las comisiones periciales, ¿debemos juntar a los regulador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Qué relación debe haber entre las eventuales comisiones periciales perman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ón por empresa e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 bien el status del mandato normativo difiere, en los tres sectores las tarifas se fijan de acuerdo a una empresa eficiente “teórica” que parte de c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ncepto creado cuando las empresas eran públicas, sigue mostrando virtudes, como la atenuación de asimetrías de información entre empresa y regulad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n embargo, las empresas y en menor grado el regulador han ido desvirtuando el concep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gulación por empresa efic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Qué sabe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o estamos satisfechos con las rentas tarifarias por “rotura y reposición de pavimentos” y plusvalía de ac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mpoco con pérdidas tarifarias por obsolescencia tecnológica y horizonte de inversiones restring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i bien el resultado neto puede ser razonable, se están incubando riesgos tarifarios importan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5T05:44:45Z</dcterms:created>
  <dc:creator>UTFSM</dc:creator>
  <dc:description/>
  <dc:language>en-US</dc:language>
  <cp:lastModifiedBy>jtmorel</cp:lastModifiedBy>
  <dcterms:modified xsi:type="dcterms:W3CDTF">2006-06-27T15:05:49Z</dcterms:modified>
  <cp:revision>14</cp:revision>
  <dc:subject/>
  <dc:title>Una visión transversal de la regulación de servicios públicos</dc:title>
</cp:coreProperties>
</file>