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10EB2-5DAD-4187-AB79-49A740883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BFE7-5510-4AEE-99ED-954220C1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1155-1F0B-45C3-963A-18B116210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C45DF-161D-481D-9662-589675660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74DB20-6554-47E7-9486-60897D786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10071-73DC-4116-9954-1AC1DD9C6B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ECEAD-BD4F-4562-980F-876EF1964F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8FF12-2548-45D1-8B7C-01A8C4764D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692C3-83E5-4C49-B950-791C6B6322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4D44A-8D8D-4CC4-85C9-EF46D1A2E3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579F6-F188-45F7-9629-E0D3E9D1D0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E767-E47A-4597-A565-DA3FF952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AAA22-1A9D-4107-BD5D-4F0BC3CE98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8D502-96CF-42CF-AE62-34E887CF9B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9C72B-9686-496F-B15E-F16F7897EE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314217-C2F2-4910-B236-1F2761FFB2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057636-DAAC-4994-A561-32F921E57A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84B6-7900-492E-BFD5-5AEFD3CC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F90D-5204-42ED-AF9A-68B2FC5D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2590F-E79A-4B9F-BE7C-950C1924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BC56F-CE85-4329-8C9C-4DB5D6C5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AAC2-D7E2-48E4-B711-E86E0875E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73FD-420B-48D4-8D9C-1741D8CB8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B5E6-65D8-4008-948E-38B8DA009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2032-EE93-4A81-AE8F-A7A90BACE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1831-C810-41B1-9DE5-9074FC19CFCC}"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2D8BB6A-DF23-41D5-B62A-258AC1B5EF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CBFD610-3F84-4122-A58E-CDFDD88E4E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A18AA45-FF9E-43C7-B4A7-D6B47A682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E7877291-278E-4F52-B19D-74FADDB23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ADC1660-1653-437A-A527-AABA70C09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425CC20-5AF9-48A6-A20F-4993CD8DD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76C2651B-BFDA-45DC-B849-0ED7544AD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AC62DD73-904F-497C-B993-1CBCA0908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FEEF810-A5BE-43D5-B2D4-1589A6ED2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7B691A46-C64D-4169-BC11-81276152A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24B7E127-859E-475A-8556-31EDB47CB7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7D1071FD-5017-44C3-89E5-5E4E68AB11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1C8FCA2A-2CC5-423E-8E46-356E39C09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6383C2F5-D34E-44CB-8F87-DE26D2A853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A66388-B647-42FA-A011-AF10D21E5F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C0F26840-48BB-47B9-8D97-903B7A60D7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0C3342A4-A722-40B0-93FA-6F192B590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0CC74C6-D343-44A8-913C-6939491CD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4E13313-CBE6-4B05-B46C-7F25D35AC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A1F96BD-FB55-4CDE-A940-079086BD1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1B7166E-C196-41F7-94E0-9FBD43434F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FDD2F83-46B1-4B74-99C9-BE247D4C25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534A1E-A540-4C23-B7C2-FB576084A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56ED1FE-F2F6-4CC1-9685-D2578C7845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AC1EE39-911D-4417-BEA6-F18188678E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734EF36-3228-4089-95D2-CFD80AEF9C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8481F0F-5E1B-457F-B25F-E50158D690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1E0C96D-485A-4DE7-903B-A6DFBD56F2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07C1F98-B31C-4C36-8079-A82CB6C8EF2A}"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6475762-A299-4910-AC94-839C4BC65C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9F401E8-A857-4460-AE1E-AF90F0FA7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CBEAA86-5AA5-44EE-A47D-82C82FF99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07FEE46-7787-4D59-B9D9-B6D67B2B1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0CFED05-951C-4CF0-BCC2-F37314B27A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737E0DF-BB89-4E67-A100-93A725922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31T03:11:48Z</dcterms:modified>
  <cp:revision>580</cp:revision>
  <dc:subject/>
  <dc:title>IN627</dc:title>
</cp:coreProperties>
</file>