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8474-79F8-4CB9-8A32-EE44205EF1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C03F-D570-4D6C-B230-DA84772B3B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EA18-D19F-4959-A96B-CF1D7BBF9F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3F51-1FD6-46BB-8C75-CA7A444BD8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A9AB-6217-44B3-8805-5ADCA0D980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EA92-FF50-4111-AB92-B7C7BB1108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E4A9-BE3B-443D-93CB-A6BF70F736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C64A-BCD1-45EA-AA18-8A25DF403C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AA4F2-CF8C-49DE-A199-EEB878150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055A-1CF0-47EF-BD77-4B3FFA3B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15A7F-26EF-491F-A5D9-BB00ADBF0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5965B-1907-45BE-8F20-8B6490EEC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A89A3F-5D78-4636-B500-9E0538ED70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30937B-98BA-4747-8D17-C1624AEB7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A33D5-5C8B-480C-A181-C644419A7F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C8EE6-67CE-405F-96A9-6A2CDE9F51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7B7E6-0518-42BD-98A1-F4659D7EAC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DA2AC-AFA0-4AD0-9648-95772A084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2AE8E-57C2-4D78-B32E-DC653A4621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E56D-7C04-46B2-A773-29BA9E4A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27E39-EDD2-4234-8639-6EBD633988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763B5-F336-43BB-91D0-868DFC076C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C6025-B51C-4088-BCDE-C99DA5805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1E8E0-2B21-4BFF-813C-2DCF8A8A48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8C77E-4C89-4CCB-961F-8CC1C071F3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FA10-59AA-46F0-A42D-46DF60D0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E673-5D25-4906-B05F-5841DE883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2F4D-2E22-4AF7-BC2C-6EAF67073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311A8-E5EE-4C37-A854-64315E702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40C3-5FBE-4CD0-AF23-68510E11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DAB5-D0F7-4784-9B89-A3F27329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863E-8EAB-4BAF-9C55-626E4F37D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150A-575E-42F5-BD73-F96715219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DB60-30E4-4958-BCBA-9B9C852AA7CE}"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2E0438C-41E0-4F62-997D-5447F5A719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DC96345-A8A7-4F6D-BAED-00037FC1D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1F2EF5E-B36C-4A0B-888B-D7D857887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7BA417-BE9D-49D9-8F66-95CA32001D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972222-9E5C-402B-8362-A0EA108C2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880C5F2-BC25-420B-A83E-4A867CC81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C1ED83F-38F1-47C4-98E9-AD2683AAA5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0894EA7-D103-4D15-B6DC-C29CC637E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BD25810-DD5B-48E7-B23A-ED98BCB838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49E0B44-D1F2-4AC2-B646-37D8B5277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FEC120E-6092-4E48-A197-44ABF395F7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B0041218-AA70-4267-8408-469EB9BE6B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EC0BA1B-0D31-4BF8-9CA1-4C0F0B5F51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B821011-93D3-42D5-977B-272DEC103E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24E37F-265B-4D78-A86C-0E1FCF30B8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2A619C1-121F-43B4-A683-ECC963621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5AD5076-6DC3-4CEC-9079-BE8FAE52A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10B86F5-EF40-48F6-B29B-713FBDC76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3CA6706B-1429-441A-8695-A8B18F48D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0AC3931-C3AC-4117-847B-D29BC3C77C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36224AB-A185-4008-AA8F-0509735FAAC2}"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741047E-B270-4F00-AA86-02F89F50FF5F}"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385492F-04AA-4B57-B5D7-9002A2CBDB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2E113C3-34F8-4DC9-A256-14EE57CB1239}"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6BD4DE2-A32E-48EE-AC3D-287B9EF982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DB4C65B-A475-4466-8D45-44B637D822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9196822-6053-425A-831D-CABD4559A9D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AB9C4B1A-0CA1-4649-96A3-6F27FE6B54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30AEDB0-0EDA-4E05-B81D-0BAD55F8ADE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4C2E9EE9-1E3A-4810-A878-A9C78B3653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EADFE7C-CFC4-45B8-8767-434F6DB38D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F020F7F-FBFE-4EB8-A35B-27BDF2ECCB3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161DAEC9-C4D1-4D5E-840B-BA0D28A9A0F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8E230E4-FE20-43FD-BC8A-EC82CABB9A8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1574EF86-A38A-49BD-A7A8-06949E91E22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BF5DF7BF-41F0-4F50-BFA7-DE291217DD1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B13C07A-DC6A-4035-A431-9E8363CDDFE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68B182-B2B6-4AEE-BB8F-6FB979787B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en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0BC1404-C3CD-4E3E-9A43-21477FC9F1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73624DA-E6A7-446E-A62A-C3B521A67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65B1A98-C9A5-425F-8F22-1CB836783CB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1AC3CC0-D215-4D67-B29A-5A2F9539AE5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E40E8C-98AF-426F-83FA-B505AE2D617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9224951-B88A-4E93-B893-20F5187F6A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D023F940-78BE-42BB-AE76-0F480BBC6A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17DD7269-D440-4A9B-BA26-193087C7166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BCA6E70-7D3D-4781-8E00-A6420D3DF5A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065CCA0-866F-4BBB-92EE-9EFDEDC6B28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C123911-D9EF-4354-B635-8FAA3046B3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1C0D41A-0115-4761-A73F-12BE986CF4B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32799B2-DB77-4AE9-AC1E-2964661F96F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E378596-344F-4534-8349-B8E35479D14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1C01549-97E9-46D8-98B1-C08F7D00BFE6}"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91A4EA0-68F3-4A50-97DE-37A348AB0D81}"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E44CCD4-99C5-4168-985A-7B1B36BA3A2F}"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1D1ECB4-D8D3-4C57-820A-3DECFC5BF0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4AC95B6-BFB9-4014-A697-5502134485F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C5332E8-D531-42E1-82B3-B50062497B7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B815F68-C34D-4B3D-AA6C-2C540569B6D5}"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B4E20A8-1560-40A0-89E8-AD4B2791D31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13CA64DC-FE61-4F38-B82D-EE648CCF06E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B744E3B-149B-4522-B85C-B7B608A1E3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1EEA64FE-F716-4FF9-B4D3-E9C99DEC91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7FB57C45-B147-432E-8E0D-74469F7B26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E1A6DF-EF94-47AC-8DCF-E586EF1C0B67}"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57D0F98-7659-40DD-BC02-CD3188AB3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238177F-8C95-43A0-B3B6-D6AFC9E83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A0A3B86-C280-4901-9A7E-F612B84CBA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24T00:05:57Z</dcterms:modified>
  <cp:revision>519</cp:revision>
  <dc:subject/>
  <dc:title>IN627</dc:title>
</cp:coreProperties>
</file>