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E6C-249F-4D97-96D3-7225A622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6F5-D420-445A-8801-978A3D5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C9B-1CF7-481C-9A53-3CF42003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909-8D55-46F1-AF91-D8E5E648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80D12-DDF2-4805-AD88-2F83359F2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6AD1C-2DC9-4A06-8485-60C65927D2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8BDC5-9D85-4EF1-B941-3D396B8080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A9E3A-CD91-433C-B99B-F6ECDC106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5498F-DEBA-4138-AE0D-27684FAAA5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04CA4-5FCE-49F4-94C9-9D4D729EC7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BDAFE-D124-4C1F-BBEB-F60515245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63D-9BFF-4D8B-948E-C23BFA1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933B6-D20C-4E1B-95DD-C7117EF78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B86E2-CEF0-452B-AF52-CCA6E1E72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4EA5-C2A9-4B60-BA3C-4CBD1067E9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AEEAF-71A2-4375-A7B6-14E65AB82B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80FB4-115D-419C-B822-28FD901F1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E86-7D7A-4F55-ADA5-DF46457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8F9-96E1-4BE6-9268-0EC484E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4F4-FC92-49E0-BDED-AFD97D9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D25-A18C-42B6-BB38-E1BD1611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96D-EB08-4A9A-A515-1EDD0EF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CD4-0CF7-44A4-81D0-C7E5AAA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42D-9F28-45B9-8232-763C400C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AAD7-5291-4F1D-9F8C-E103C9BBFE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028-38D2-4E9D-B876-173A5D393749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35D-0362-48D4-B5C3-88122DEDC8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114-A36B-4AF7-9898-7C5C9A5B6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985-A01D-4594-9D0E-8B568E8369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DE3-5869-43D4-A780-C70DE0F772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F32-13AB-4827-AE65-E5A41FB9C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6DE-1D84-49F0-9AE7-C76CFA8537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87A-C56B-4C92-882A-6738A2FCE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90E-076A-4D1E-A4F1-16D17C7EA8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231-9B3D-4A02-8D13-53CEB2C74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16E-4068-466F-9A32-3E295B3102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369-5D93-4BA6-87D0-9F872AC7D1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83F-586F-414D-B527-A00B8DD0C8D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4A9-9321-4C38-BB2D-078B43930A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42A-4C24-4B55-B31C-08E46C46C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822-B0EF-48C5-86BA-B7BCD5F713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553-9C6D-4ABA-B455-1F2730A0D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D45-AFF4-4CE7-8C4E-B7A2C4BE50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9B1-47AE-4B53-BBBA-B30A7674BD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29C-1768-45B5-9F7A-6B334D5D9C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5F6-8A38-4250-974F-0A04F5A3B2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87F-CB40-40F8-BA0C-3667C077E2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D11-9BE3-4DF6-A4F4-A9C8C64520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CE4-1E0A-4DC9-A684-61BDBC3424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36E-A5DB-4BA9-8FD8-2BDE903B2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0B2-E84D-45EA-A02C-5EC74D609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B91-3AB9-4747-A65D-556C8B898D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336-9B69-4FAF-8EBA-493C0172D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10-17T01:39:45Z</dcterms:modified>
  <cp:revision>406</cp:revision>
  <dc:subject/>
  <dc:title>IN627</dc:title>
</cp:coreProperties>
</file>