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wmf" ContentType="image/x-wmf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2.jpeg" ContentType="image/jpeg"/>
  <Override PartName="/ppt/media/image39.png" ContentType="image/png"/>
  <Override PartName="/ppt/media/image12.wmf" ContentType="image/x-wmf"/>
  <Override PartName="/ppt/media/image28.png" ContentType="image/png"/>
  <Override PartName="/ppt/media/image30.png" ContentType="image/png"/>
  <Override PartName="/ppt/media/image35.jpeg" ContentType="image/jpeg"/>
  <Override PartName="/ppt/media/image13.wmf" ContentType="image/x-wmf"/>
  <Override PartName="/ppt/media/image9.wmf" ContentType="image/x-wmf"/>
  <Override PartName="/ppt/media/image34.png" ContentType="image/png"/>
  <Override PartName="/ppt/media/image11.wmf" ContentType="image/x-wmf"/>
  <Override PartName="/ppt/media/image36.png" ContentType="image/png"/>
  <Override PartName="/ppt/media/image7.wmf" ContentType="image/x-wmf"/>
  <Override PartName="/ppt/media/image37.wmf" ContentType="image/x-wmf"/>
  <Override PartName="/ppt/media/image8.wmf" ContentType="image/x-wmf"/>
  <Override PartName="/ppt/media/image38.png" ContentType="image/png"/>
  <Override PartName="/ppt/media/image3.png" ContentType="image/png"/>
  <Override PartName="/ppt/media/image33.png" ContentType="image/png"/>
  <Override PartName="/ppt/media/image6.wmf" ContentType="image/x-wmf"/>
  <Override PartName="/ppt/media/image31.jpeg" ContentType="image/jpeg"/>
  <Override PartName="/ppt/media/image10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15.wmf" ContentType="image/x-wmf"/>
  <Override PartName="/ppt/media/image5.wmf" ContentType="image/x-wmf"/>
  <Override PartName="/ppt/media/image4.wmf" ContentType="image/x-wmf"/>
  <Override PartName="/ppt/media/image27.wmf" ContentType="image/x-wmf"/>
  <Override PartName="/ppt/media/image1.png" ContentType="image/png"/>
  <Override PartName="/ppt/media/image24.png" ContentType="image/png"/>
  <Override PartName="/ppt/media/image14.wmf" ContentType="image/x-wmf"/>
  <Override PartName="/ppt/media/image29.png" ContentType="image/pn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F012-F304-47EC-8401-0D52FE3E4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03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9849-4305-4620-9696-04E0120D3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268C-F937-4AA8-BC11-A13AFD3BC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39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39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03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03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03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05F1-F266-4507-B942-E2FE6A641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CF4D1B-EF2F-4CB4-A57A-57999189A8B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678A9F-C31A-4680-BA90-7A5D8F1DE03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A3A5C6-0C2E-4946-891E-065D47CD704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D0B065-90E9-47A2-945D-A8B65C1467C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B5B66C-818B-444B-A7F4-EFF780B6AB8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414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CC2107-B2F6-48E6-A0A6-9F601B2D34E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4D07D3-14F7-42C0-9A97-8200F0F9C5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3955-65F0-4028-8F5C-043B7E9A9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86BB6A-D70B-422C-84AA-CE6D4BE6D20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17F0C4-697C-41FA-A7BB-6624DBAAC86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003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FA8C64-6A9D-4CA6-A84B-7E694ED9AFF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A633E8-1488-47FD-9401-0AC32C5ED61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39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39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003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003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003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053F82-67F0-430E-8208-7AB0F7FD81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BEC9-7C43-4389-8F0E-1D4AF693F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C26F-A9DC-4682-997E-2C7D74130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89C0-4ADB-43D4-8FE0-441BB9FA2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14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D618-F4EF-43A6-8DC8-5DA281782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D3D2-F7D8-4F8C-8E5C-B6F6450B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2FF6-C4BA-48DF-A17C-13B26DC5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1B2C-E88F-40F1-9157-94040432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34560"/>
            <a:ext cx="313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100" spc="-1" strike="noStrike">
                <a:solidFill>
                  <a:srgbClr val="ff33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ff3300"/>
                </a:solidFill>
                <a:latin typeface="Arial"/>
              </a:rPr>
              <a:t>IN627 Investigación de Mercad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188A5-B381-4655-8416-91E86393BBE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78544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1001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d11001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a26d18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cc6600"/>
              </a:buClr>
              <a:buSzPct val="6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009920" y="6324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995E0-0706-48C8-AE48-B475BD899994}" type="slidenum">
              <a:rPr b="0" lang="es-MX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jpe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CL" sz="3200" spc="-1" strike="noStrike">
                <a:solidFill>
                  <a:srgbClr val="ff3300"/>
                </a:solidFill>
                <a:latin typeface="Arial"/>
              </a:rPr>
              <a:t>Capítulo 5:</a:t>
            </a:r>
            <a:br>
              <a:rPr sz="3200"/>
            </a:br>
            <a:r>
              <a:rPr b="1" lang="es-CL" sz="3200" spc="-1" strike="noStrike">
                <a:solidFill>
                  <a:srgbClr val="ff3300"/>
                </a:solidFill>
                <a:latin typeface="Arial"/>
              </a:rPr>
              <a:t> Objetivos de Marketing Asociados a la Investigación de Mercados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422520"/>
            <a:ext cx="6400800" cy="14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Profesore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Emilio Poli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Julio Troncoso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1E36-F69E-4C56-AA2D-5BDC6EB9D9D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513160" y="4164120"/>
            <a:ext cx="4211640" cy="2338200"/>
          </a:xfrm>
          <a:prstGeom prst="bevel">
            <a:avLst>
              <a:gd name="adj" fmla="val 3403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a50021"/>
                </a:solidFill>
                <a:latin typeface="Tahoma"/>
              </a:rPr>
              <a:t>      </a:t>
            </a:r>
            <a:r>
              <a:rPr b="1" lang="es-ES_tradnl" sz="1800" spc="-1" strike="noStrike">
                <a:solidFill>
                  <a:srgbClr val="a50021"/>
                </a:solidFill>
                <a:latin typeface="Tahoma"/>
              </a:rPr>
              <a:t>Encuestas Telefón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Entrevistados: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individ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Duración: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10 a 15 minu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Característica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Muestra de población sólo con teléfo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Basada en un cuestionario estánd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1633680"/>
            <a:ext cx="4211640" cy="2286000"/>
          </a:xfrm>
          <a:prstGeom prst="bevel">
            <a:avLst>
              <a:gd name="adj" fmla="val 3403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a50021"/>
                </a:solidFill>
                <a:latin typeface="Tahoma"/>
              </a:rPr>
              <a:t>     </a:t>
            </a:r>
            <a:r>
              <a:rPr b="1" lang="es-ES_tradnl" sz="1800" spc="-1" strike="noStrike">
                <a:solidFill>
                  <a:srgbClr val="a50021"/>
                </a:solidFill>
                <a:latin typeface="Tahoma"/>
              </a:rPr>
              <a:t>Encuestas en Hog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Entrevistados: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individ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Duración: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20 a 40 minu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Característica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Se puede tomar una muestra aleato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Basada en un cuestionario estánd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30680" y="1628640"/>
            <a:ext cx="4211640" cy="2286000"/>
          </a:xfrm>
          <a:prstGeom prst="bevel">
            <a:avLst>
              <a:gd name="adj" fmla="val 3403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a50021"/>
                </a:solidFill>
                <a:latin typeface="Tahoma"/>
              </a:rPr>
              <a:t>Encuestas 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a50021"/>
                </a:solidFill>
                <a:latin typeface="Tahoma"/>
              </a:rPr>
              <a:t>Locación Cen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Entrevistados: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individ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Duración: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20 a 30 minu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Característica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No es una muestra aleato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Basada en un cuestionario estánd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ntitativ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649600" y="4300560"/>
            <a:ext cx="770040" cy="611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52440" y="1781280"/>
            <a:ext cx="790560" cy="522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4800600" y="1781280"/>
            <a:ext cx="893880" cy="5410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3560" y="942480"/>
            <a:ext cx="8380440" cy="5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9900"/>
                </a:solidFill>
                <a:latin typeface="Arial"/>
              </a:rPr>
              <a:t>Ejemplo:</a:t>
            </a:r>
            <a:r>
              <a:rPr b="1" lang="es-ES_tradnl" sz="1600" spc="-1" strike="noStrike">
                <a:solidFill>
                  <a:srgbClr val="000099"/>
                </a:solidFill>
                <a:latin typeface="Arial"/>
              </a:rPr>
              <a:t> Evaluación del concepto que desea transmitir con un nuevo tipo jugo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62080" indent="0" algn="just">
              <a:lnSpc>
                <a:spcPct val="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8BB2-FB8F-4EB0-AA05-917A1C0FC01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42800" y="31428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ntitativ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3920" y="843120"/>
            <a:ext cx="8308800" cy="56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592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00"/>
                </a:solidFill>
                <a:latin typeface="Arial"/>
              </a:rPr>
              <a:t>Ejemplo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59200" indent="0" algn="just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59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Medir grado de acuerdo con respecto a las siguientes afirmaciones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59200" indent="0" algn="just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59200" indent="-25920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Beber jugo natural es caro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920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9200" indent="-25920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Hoy en día, la forma más económica y práctica de refrescar a tu familia es prepararle un jugo en polvo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920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9200" indent="-25920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El jugo en polvo es artificial, ya que tiene sólo contiene saborizantes y no contiene fruta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9200" indent="0" algn="just">
              <a:lnSpc>
                <a:spcPct val="1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9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Medir agrado con respecto a las siguientes proposiciones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59200" indent="0" algn="just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59200" indent="-25920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Una nueva, práctica y económica forma de disfrutar con tu familia de un verdadero néctar de fruta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920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9200" indent="-25920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Un nuevo y práctico envase para compartir y al precio justo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920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9200" indent="-25920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No te quedes en lo artificial y prueba el verdadero sabor a fruta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6357-BBE4-4680-965E-09E04F36B59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8320"/>
            <a:ext cx="82296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ntitativ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3560" y="1042920"/>
            <a:ext cx="866916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Ejemplo:</a:t>
            </a: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 Evaluación del concepto de una nueva empresa de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62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telecomunicaciones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62080" indent="0" algn="just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5640" y="2070000"/>
            <a:ext cx="7416720" cy="36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 Unicode MS"/>
              </a:rPr>
              <a:t>Nota Metod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 Unicode MS"/>
              </a:rPr>
              <a:t>Tipo de estudio</a:t>
            </a:r>
            <a:r>
              <a:rPr b="0" lang="es-CL" sz="1600" spc="-1" strike="noStrike">
                <a:solidFill>
                  <a:srgbClr val="333399"/>
                </a:solidFill>
                <a:latin typeface="Arial Unicode MS"/>
              </a:rPr>
              <a:t>: cuantitativo mediante encuestas autoadministradas vía Interne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 Unicode MS"/>
              </a:rPr>
              <a:t>Grupo objetivo</a:t>
            </a:r>
            <a:r>
              <a:rPr b="0" lang="es-CL" sz="1600" spc="-1" strike="noStrike">
                <a:solidFill>
                  <a:srgbClr val="333399"/>
                </a:solidFill>
                <a:latin typeface="Arial Unicode MS"/>
              </a:rPr>
              <a:t>: hombres y mujeres, de 15 años o más, de niveles socioeconómicos ABC1, C2 y C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 Unicode MS"/>
              </a:rPr>
              <a:t>Muestra</a:t>
            </a:r>
            <a:r>
              <a:rPr b="0" lang="es-CL" sz="1600" spc="-1" strike="noStrike">
                <a:solidFill>
                  <a:srgbClr val="333399"/>
                </a:solidFill>
                <a:latin typeface="Arial Unicode MS"/>
              </a:rPr>
              <a:t>:  569 cas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 Unicode MS"/>
              </a:rPr>
              <a:t>Fecha</a:t>
            </a:r>
            <a:r>
              <a:rPr b="0" lang="es-CL" sz="1600" spc="-1" strike="noStrike">
                <a:solidFill>
                  <a:srgbClr val="333399"/>
                </a:solidFill>
                <a:latin typeface="Arial Unicode MS"/>
              </a:rPr>
              <a:t>: 18 al 19 de mayo del 200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 Unicode MS"/>
              </a:rPr>
              <a:t>Ponderación</a:t>
            </a:r>
            <a:r>
              <a:rPr b="0" lang="es-CL" sz="1600" spc="-1" strike="noStrike">
                <a:solidFill>
                  <a:srgbClr val="333399"/>
                </a:solidFill>
                <a:latin typeface="Arial Unicode MS"/>
              </a:rPr>
              <a:t>: resultados ponderados según distribución por GSE, sexo y edad de la población en estudio de la Región Metropolita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4041-CFCE-4B88-9806-941BE13C781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99800"/>
            <a:ext cx="82296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ntitativ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753840"/>
            <a:ext cx="86868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9900"/>
                </a:solidFill>
                <a:latin typeface="Arial"/>
              </a:rPr>
              <a:t>Ejemplo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5640" y="884160"/>
            <a:ext cx="7416720" cy="8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 Unicode MS"/>
              </a:rPr>
              <a:t>Cuestion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204920" y="1400040"/>
          <a:ext cx="6119640" cy="527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4920" y="1400040"/>
                    <a:ext cx="6119640" cy="527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1EE0-98DD-46E5-98AD-2372F3FDDD7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28600" y="1608120"/>
            <a:ext cx="86868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Evaluación de concep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Escala de 1 a 7, 1 = No te gustó nada, 7 = Te gustó muc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 Unicode MS"/>
              </a:rPr>
              <a:t>Base: total muestra = 5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76280" y="3171960"/>
          <a:ext cx="8077320" cy="29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3171960"/>
                    <a:ext cx="8077320" cy="29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2916360" y="2513160"/>
            <a:ext cx="31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 Unicode MS"/>
              </a:rPr>
              <a:t>¿Qué vas a ser mañan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42800" y="185760"/>
            <a:ext cx="82296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ntit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3920" y="857160"/>
            <a:ext cx="830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Ejemplo: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Principales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5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26A4-A40C-47C1-90B9-49569ECBAD8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28600" y="1650960"/>
            <a:ext cx="86868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Evaluación de concep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Escala de 1 a 7, 1 = No te gustó nada, 7 = Te gustó muc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 Unicode MS"/>
              </a:rPr>
              <a:t>Base: total muestra = 5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16360" y="2513160"/>
            <a:ext cx="31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 Unicode MS"/>
              </a:rPr>
              <a:t>El mundo en tu c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76280" y="3110040"/>
          <a:ext cx="8077320" cy="30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3110040"/>
                    <a:ext cx="807732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442800" y="185760"/>
            <a:ext cx="82296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ntit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3920" y="857160"/>
            <a:ext cx="830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Ejemplo: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Principales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5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87D6-B63F-47E1-AE58-BBF14D2CC69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28600" y="1693800"/>
            <a:ext cx="86868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Evaluación de concep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Escala de 1 a 7, 1 = No te gustó nada, 7 = Te gustó muc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 Unicode MS"/>
              </a:rPr>
              <a:t>Base: total muestra = 5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916360" y="2556000"/>
            <a:ext cx="31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 Unicode MS"/>
              </a:rPr>
              <a:t>Donde quieres est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76280" y="3152880"/>
          <a:ext cx="8077320" cy="30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3152880"/>
                    <a:ext cx="807732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442800" y="185760"/>
            <a:ext cx="82296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ntit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3920" y="857160"/>
            <a:ext cx="830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Ejemplo: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Principales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5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9387-4BFA-4767-ABBB-AA5D40BDBC2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28600" y="1206360"/>
            <a:ext cx="86868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¿Cuál de los tres mensajes te gusta má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 Unicode MS"/>
              </a:rPr>
              <a:t>Base: total  muestra = 5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170000" y="1644480"/>
          <a:ext cx="6210360" cy="26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0000" y="1644480"/>
                    <a:ext cx="6210360" cy="26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85680" y="3660840"/>
          <a:ext cx="8400960" cy="329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680" y="3660840"/>
                    <a:ext cx="8400960" cy="32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442800" y="157320"/>
            <a:ext cx="82296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ntit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3920" y="700200"/>
            <a:ext cx="830880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9900"/>
                </a:solidFill>
                <a:latin typeface="Arial"/>
              </a:rPr>
              <a:t>Ejemplo:</a:t>
            </a: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 Principales resul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5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EDCD-9765-47FE-944D-EA97ADF9099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28600" y="1393920"/>
            <a:ext cx="86868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¿Por qué te gusta más…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 Unicode MS"/>
              </a:rPr>
              <a:t>Base: entre quienes les gusta más ¿</a:t>
            </a:r>
            <a:r>
              <a:rPr b="1" i="1" lang="es-ES" sz="1400" spc="-1" strike="noStrike">
                <a:solidFill>
                  <a:srgbClr val="000000"/>
                </a:solidFill>
                <a:latin typeface="Arial Unicode MS"/>
              </a:rPr>
              <a:t>Qué vas a ser mañana?</a:t>
            </a:r>
            <a:r>
              <a:rPr b="0" i="1" lang="es-ES" sz="1400" spc="-1" strike="noStrike">
                <a:solidFill>
                  <a:srgbClr val="000000"/>
                </a:solidFill>
                <a:latin typeface="Arial Unicode MS"/>
              </a:rPr>
              <a:t> = 1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547640" y="2347920"/>
          <a:ext cx="4534200" cy="432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347920"/>
                    <a:ext cx="4534200" cy="43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2916360" y="1959120"/>
            <a:ext cx="31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 Unicode MS"/>
              </a:rPr>
              <a:t>¿Qué vas a ser mañan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42800" y="185760"/>
            <a:ext cx="82296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ntit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3920" y="857160"/>
            <a:ext cx="830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Ejemplo: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Principales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5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CED5-3B49-48BE-9611-D2C0A45C32E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28600" y="1413000"/>
            <a:ext cx="86868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¿Por qué te gusta más…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 Unicode MS"/>
              </a:rPr>
              <a:t>Base: entre quienes les gusta más </a:t>
            </a:r>
            <a:r>
              <a:rPr b="1" i="1" lang="es-ES" sz="1400" spc="-1" strike="noStrike">
                <a:solidFill>
                  <a:srgbClr val="000000"/>
                </a:solidFill>
                <a:latin typeface="Arial Unicode MS"/>
              </a:rPr>
              <a:t>El mundo en tu casa</a:t>
            </a:r>
            <a:r>
              <a:rPr b="0" i="1" lang="es-ES" sz="1400" spc="-1" strike="noStrike">
                <a:solidFill>
                  <a:srgbClr val="000000"/>
                </a:solidFill>
                <a:latin typeface="Arial Unicode MS"/>
              </a:rPr>
              <a:t> = 2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681200" y="2395440"/>
          <a:ext cx="4533840" cy="432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1200" y="2395440"/>
                    <a:ext cx="4533840" cy="43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2916360" y="2035080"/>
            <a:ext cx="31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 Unicode MS"/>
              </a:rPr>
              <a:t>El mundo en tu c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2800" y="185760"/>
            <a:ext cx="82296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ntit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3920" y="857160"/>
            <a:ext cx="830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Ejemplo: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Principales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5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BA64-53BA-4864-9E3C-FD5D3484595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3300"/>
                </a:solidFill>
                <a:latin typeface="Arial"/>
              </a:rPr>
              <a:t>Diseño de Producto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C077-EBC2-4E86-B4C0-B00D6EAC1B34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28600" y="1407960"/>
            <a:ext cx="86868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¿Por qué te gusta más…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 Unicode MS"/>
              </a:rPr>
              <a:t>Base: entre quienes les gusta más </a:t>
            </a:r>
            <a:r>
              <a:rPr b="1" i="1" lang="es-ES" sz="1400" spc="-1" strike="noStrike">
                <a:solidFill>
                  <a:srgbClr val="000000"/>
                </a:solidFill>
                <a:latin typeface="Arial Unicode MS"/>
              </a:rPr>
              <a:t>Donde quieres estar</a:t>
            </a:r>
            <a:r>
              <a:rPr b="0" i="1" lang="es-ES" sz="1400" spc="-1" strike="noStrike">
                <a:solidFill>
                  <a:srgbClr val="000000"/>
                </a:solidFill>
                <a:latin typeface="Arial Unicode MS"/>
              </a:rPr>
              <a:t> = 1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023920" y="2362320"/>
          <a:ext cx="4534200" cy="432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3920" y="2362320"/>
                    <a:ext cx="4534200" cy="43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2916360" y="2030400"/>
            <a:ext cx="31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 Unicode MS"/>
              </a:rPr>
              <a:t>Donde quieres est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42800" y="185760"/>
            <a:ext cx="82296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ntit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920" y="857160"/>
            <a:ext cx="830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Ejemplo: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Principales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5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0972-DC46-4F6F-9D85-282A8F6CA10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nombres (cualitativo/cuantitativo)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eb424"/>
                </a:solidFill>
                <a:latin typeface="Arial"/>
              </a:rPr>
              <a:t>Objetivo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Evaluar los siguientes aspectos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Facilidad de lectura y pronunciació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Asociaciones espontánea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Originalid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País de orige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Beneficios asociado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Adecuación al concepto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Atributos relevante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6999120" y="1465200"/>
            <a:ext cx="1944720" cy="636480"/>
          </a:xfrm>
          <a:prstGeom prst="rect">
            <a:avLst/>
          </a:prstGeom>
          <a:ln w="0">
            <a:noFill/>
          </a:ln>
        </p:spPr>
      </p:pic>
      <p:grpSp>
        <p:nvGrpSpPr>
          <p:cNvPr id="178" name=""/>
          <p:cNvGrpSpPr/>
          <p:nvPr/>
        </p:nvGrpSpPr>
        <p:grpSpPr>
          <a:xfrm>
            <a:off x="5796000" y="2852640"/>
            <a:ext cx="3203640" cy="921960"/>
            <a:chOff x="5796000" y="2852640"/>
            <a:chExt cx="3203640" cy="921960"/>
          </a:xfrm>
        </p:grpSpPr>
        <p:pic>
          <p:nvPicPr>
            <p:cNvPr id="179" name="" descr=""/>
            <p:cNvPicPr/>
            <p:nvPr/>
          </p:nvPicPr>
          <p:blipFill>
            <a:blip r:embed="rId2"/>
            <a:stretch/>
          </p:blipFill>
          <p:spPr>
            <a:xfrm>
              <a:off x="5796000" y="3361680"/>
              <a:ext cx="3203640" cy="22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3"/>
            <a:stretch/>
          </p:blipFill>
          <p:spPr>
            <a:xfrm>
              <a:off x="5796000" y="3101760"/>
              <a:ext cx="3203640" cy="26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" descr=""/>
            <p:cNvPicPr/>
            <p:nvPr/>
          </p:nvPicPr>
          <p:blipFill>
            <a:blip r:embed="rId4"/>
            <a:stretch/>
          </p:blipFill>
          <p:spPr>
            <a:xfrm>
              <a:off x="5796000" y="2852640"/>
              <a:ext cx="3203640" cy="25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/>
            <p:cNvPicPr/>
            <p:nvPr/>
          </p:nvPicPr>
          <p:blipFill>
            <a:blip r:embed="rId5"/>
            <a:stretch/>
          </p:blipFill>
          <p:spPr>
            <a:xfrm>
              <a:off x="5796000" y="3589920"/>
              <a:ext cx="3203640" cy="184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3" name="" descr=""/>
          <p:cNvPicPr/>
          <p:nvPr/>
        </p:nvPicPr>
        <p:blipFill>
          <a:blip r:embed="rId6"/>
          <a:stretch/>
        </p:blipFill>
        <p:spPr>
          <a:xfrm>
            <a:off x="6934320" y="2133720"/>
            <a:ext cx="2046240" cy="5173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7"/>
          <a:stretch/>
        </p:blipFill>
        <p:spPr>
          <a:xfrm>
            <a:off x="7315200" y="4800600"/>
            <a:ext cx="1344600" cy="13446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8"/>
          <a:stretch/>
        </p:blipFill>
        <p:spPr>
          <a:xfrm>
            <a:off x="5562720" y="3886200"/>
            <a:ext cx="1779480" cy="8730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9"/>
          <a:stretch/>
        </p:blipFill>
        <p:spPr>
          <a:xfrm>
            <a:off x="7467480" y="3886200"/>
            <a:ext cx="1405080" cy="8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400E-4AFE-4FB6-BD68-C05E7054A45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934320" y="1752480"/>
            <a:ext cx="1577880" cy="10000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 flipH="1">
            <a:off x="8152920" y="1219320"/>
            <a:ext cx="690840" cy="15811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7543800" y="2286000"/>
            <a:ext cx="1166760" cy="12589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7770960" y="3733920"/>
            <a:ext cx="1373040" cy="9363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6934320" y="4419720"/>
            <a:ext cx="968400" cy="10890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6"/>
          <a:stretch/>
        </p:blipFill>
        <p:spPr>
          <a:xfrm>
            <a:off x="7772400" y="4648320"/>
            <a:ext cx="1173240" cy="126504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66480" y="259920"/>
            <a:ext cx="87771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Arial"/>
              </a:rPr>
              <a:t>Pruebas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de envases / etiquetas (cualitativo /cuantitativo)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79280" y="1025640"/>
            <a:ext cx="864072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eb424"/>
                </a:solidFill>
                <a:latin typeface="Arial"/>
              </a:rPr>
              <a:t>Objetivo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Evaluar los siguientes aspectos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9999"/>
                </a:solidFill>
                <a:latin typeface="Arial"/>
              </a:rPr>
              <a:t>Envase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Aspectos de agrado y desagrado del empaqu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Form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Materia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Tamañ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Col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Evaluación general y razones para no evaluar excelent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Evaluación de aspectos específico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Originalid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Diferenciación respecto a otros empaqu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Percepción de calid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Facilidad de manipular y consumir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E2E8-3F9D-4A57-964A-4C9942A189B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66480" y="259920"/>
            <a:ext cx="87771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Arial"/>
              </a:rPr>
              <a:t>Pruebas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de envases / etiquetas (cualitativo /cuantitativo)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9280" y="1025640"/>
            <a:ext cx="864072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eb424"/>
                </a:solidFill>
                <a:latin typeface="Arial"/>
              </a:rPr>
              <a:t>Objetivo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Evaluar los siguientes aspectos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9999"/>
                </a:solidFill>
                <a:latin typeface="Arial"/>
              </a:rPr>
              <a:t>Etiqueta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Aspectos de agrado y desagrado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Evaluación general y razones para no evaluar excelent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Evaluación de aspectos específico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Originalid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Diferenciación respecto a otras etiqueta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Percepción de calid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Usuario proyectad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Calce con el concepto del product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69200" y="5221440"/>
            <a:ext cx="2313000" cy="79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8" name=""/>
          <p:cNvGraphicFramePr/>
          <p:nvPr/>
        </p:nvGraphicFramePr>
        <p:xfrm>
          <a:off x="7458120" y="4141800"/>
          <a:ext cx="1352520" cy="1038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58120" y="4141800"/>
                    <a:ext cx="135252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B17B-B50A-4A2C-9C06-EA1C8562EEC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280" y="42480"/>
            <a:ext cx="878544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product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50560" y="863280"/>
            <a:ext cx="705636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Algunas consideraciones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1857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185760" indent="-18576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El producto que se testea debe ser representativo de aquél que se lanzará al mercado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1857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185760" indent="-185760" algn="just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Variables como: tamaño, forma, color, etc. deben permanecer constantes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1857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185760" indent="-185760" algn="just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La evaluación puede ser monádica o comparativa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1857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542880" indent="-177840" algn="just">
              <a:lnSpc>
                <a:spcPct val="90000"/>
              </a:lnSpc>
              <a:spcBef>
                <a:spcPts val="4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9900"/>
                </a:solidFill>
                <a:latin typeface="Arial"/>
              </a:rPr>
              <a:t>Evaluación Monádic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185760" indent="0" algn="just">
              <a:lnSpc>
                <a:spcPct val="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900000" indent="-177840" algn="just"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El consumidor prueba y evalúa las características de un sólo producto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900000" indent="-177840" algn="just"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El consumidor solo compara contra los demás productos que ha utilizado, especialmente los más recientes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900000" indent="-177840" algn="just"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Suele ser más realista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185760" indent="0" algn="just">
              <a:lnSpc>
                <a:spcPct val="11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542880" indent="-177840" algn="just">
              <a:lnSpc>
                <a:spcPct val="90000"/>
              </a:lnSpc>
              <a:spcBef>
                <a:spcPts val="4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9900"/>
                </a:solidFill>
                <a:latin typeface="Arial"/>
              </a:rPr>
              <a:t>Evaluación Comparativ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18576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900000" indent="-177840" algn="just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El consumidor prueba dos o más productos y se evalúan las características de todos los productos probados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900000" indent="-177840" algn="just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Se centra en las diferencias percibidas entre productos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79689" t="54171" r="4688" b="37501"/>
          <a:stretch/>
        </p:blipFill>
        <p:spPr>
          <a:xfrm>
            <a:off x="7164360" y="2924280"/>
            <a:ext cx="1198440" cy="4791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rcRect l="71095" t="52084" r="6250" b="33337"/>
          <a:stretch/>
        </p:blipFill>
        <p:spPr>
          <a:xfrm>
            <a:off x="7885080" y="3209760"/>
            <a:ext cx="1087560" cy="525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E0D5-1792-44A1-837F-8F5D76101F1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productos: prueba a ciegas (blind)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02680" y="1153800"/>
            <a:ext cx="6169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00"/>
                </a:solidFill>
                <a:latin typeface="Arial"/>
              </a:rPr>
              <a:t>Característica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Estudios generalmente cuantitativos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Entrevistas en locación central o en hogares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No se muestra la marca del producto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Se utilizan cuando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Se quiere evaluar los atributos intrínsecos (forma, sabor, olor, color, tamaño, etc.) del producto aislados del efecto marca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Aún no existe la marca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75400" y="1268280"/>
            <a:ext cx="1217880" cy="18259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7020000" y="3651120"/>
            <a:ext cx="2124000" cy="126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C325-83E4-425E-AD18-8750490A47F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66840" y="333000"/>
            <a:ext cx="86407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productos: </a:t>
            </a: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prueba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con marca (branded)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79280" y="1130040"/>
            <a:ext cx="6337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00"/>
                </a:solidFill>
                <a:latin typeface="Arial"/>
              </a:rPr>
              <a:t>Característica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Estudios generalmente cuantitativos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Entrevistas en locación central o en hogares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Se muestra la marca del producto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Se utilizan cuando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Se quiere evaluar el efecto del nombre o imagen de marca sobre las reacciones frente al producto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La marca se identifica con tanta claridad que no tiene sentido una prueba a ciegas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588000" y="1268280"/>
            <a:ext cx="1400400" cy="12304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7267680" y="2030400"/>
            <a:ext cx="1606320" cy="15382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7236000" y="4322880"/>
            <a:ext cx="1584000" cy="147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52B8-BD38-4A41-AD67-8AB5C24CD7B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39680" y="5600880"/>
            <a:ext cx="3362400" cy="1054080"/>
          </a:xfrm>
          <a:prstGeom prst="bevel">
            <a:avLst>
              <a:gd name="adj" fmla="val 7681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Intención de comp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39680" y="819000"/>
            <a:ext cx="3362400" cy="1054080"/>
          </a:xfrm>
          <a:prstGeom prst="bevel">
            <a:avLst>
              <a:gd name="adj" fmla="val 7681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Identificación de neces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Hábitos de consumo/comp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604880" y="1916280"/>
            <a:ext cx="417600" cy="457200"/>
          </a:xfrm>
          <a:prstGeom prst="downArrow">
            <a:avLst>
              <a:gd name="adj1" fmla="val 50000"/>
              <a:gd name="adj2" fmla="val 27371"/>
            </a:avLst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39680" y="2406600"/>
            <a:ext cx="3362400" cy="1054080"/>
          </a:xfrm>
          <a:prstGeom prst="bevel">
            <a:avLst>
              <a:gd name="adj" fmla="val 7681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Evaluación de concep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39680" y="4005360"/>
            <a:ext cx="3362400" cy="1054080"/>
          </a:xfrm>
          <a:prstGeom prst="bevel">
            <a:avLst>
              <a:gd name="adj" fmla="val 7681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rueba y evalu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de produc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851280" y="865080"/>
            <a:ext cx="529272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Incidencia (% de la población que presenta la necesida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Frecuenc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Importancia de atributos releva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Productos/ marcas/ empaques considera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Canal/frecuencia visita/ precios percibidos/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Actividad que realiza el consumidor/ frecuencia/ consum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51280" y="2278080"/>
            <a:ext cx="5292720" cy="15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Aspectos de agrado/ Aspectos de desagr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Evaluación gener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Relevancia/ atractiv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Aspectos diferenciad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Usuario proyect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Personalidad de mar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Nomb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851280" y="3976560"/>
            <a:ext cx="4753080" cy="15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Empa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Etique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Uso produc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Aspectos de agrado/Aspectos de desagr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Evaluación en atributos releva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Evaluación gener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51280" y="5532480"/>
            <a:ext cx="529272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Precio proyect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Evaluación de pre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Incidencia de compradores/consumid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Frecuencia de compra/ consum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Cambio en hábitos de compra/consumo anteriores (fuente de volum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100440" y="260280"/>
            <a:ext cx="9534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Síntesis de la investigación de mercados para nuevos productos</a:t>
            </a:r>
            <a:endParaRPr b="1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619280" y="3500280"/>
            <a:ext cx="417600" cy="457200"/>
          </a:xfrm>
          <a:prstGeom prst="downArrow">
            <a:avLst>
              <a:gd name="adj1" fmla="val 50000"/>
              <a:gd name="adj2" fmla="val 27371"/>
            </a:avLst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619280" y="5099040"/>
            <a:ext cx="417600" cy="457200"/>
          </a:xfrm>
          <a:prstGeom prst="downArrow">
            <a:avLst>
              <a:gd name="adj1" fmla="val 50000"/>
              <a:gd name="adj2" fmla="val 27371"/>
            </a:avLst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211640" y="5530680"/>
            <a:ext cx="1368360" cy="419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580000" y="5661000"/>
            <a:ext cx="1800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410600" y="5373720"/>
            <a:ext cx="1150920" cy="641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Ver Capítulo: Fijación de Pre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D51D-E805-4CEE-93DA-A6C0CB363E6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77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Introducción de nuevos product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54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a introducción de nuevos productos, por lo general, incorpora una investigación de mercados en la cual se evalúan las características de este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os estudios de evaluación de nuevos productos tienen asociado una serie de elementos particulares que no aparecen con frecuencia en otros estudios de mercados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est de concepto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est de nombr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Pruebas de envases / etiqueta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est de producto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8B61-E16B-4791-BC92-21504BD73B6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07800" y="968400"/>
            <a:ext cx="3773520" cy="973080"/>
          </a:xfrm>
          <a:prstGeom prst="bevel">
            <a:avLst>
              <a:gd name="adj" fmla="val 8523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Identificación de Oportun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Definición del merc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Generación de id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Definición estrategia de mark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5120" y="2481120"/>
            <a:ext cx="4276800" cy="1721160"/>
          </a:xfrm>
          <a:prstGeom prst="bevel">
            <a:avLst>
              <a:gd name="adj" fmla="val 6125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                             </a:t>
            </a: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Dise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Identificación necesidades específic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del consumi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Planeación del producto de acuerdo a l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decisiones estratégicas (segmentación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posicionamient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/>
          <p:nvPr/>
        </p:nvCxnSpPr>
        <p:spPr>
          <a:xfrm flipH="1" rot="16200000">
            <a:off x="1912680" y="2217240"/>
            <a:ext cx="583560" cy="8640"/>
          </a:xfrm>
          <a:prstGeom prst="bentConnector3">
            <a:avLst>
              <a:gd name="adj1" fmla="val 49814"/>
            </a:avLst>
          </a:prstGeom>
          <a:ln w="5724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303120" y="4784760"/>
            <a:ext cx="3808440" cy="1547640"/>
          </a:xfrm>
          <a:prstGeom prst="bevel">
            <a:avLst>
              <a:gd name="adj" fmla="val 6028"/>
            </a:avLst>
          </a:prstGeom>
          <a:solidFill>
            <a:srgbClr val="d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Prue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Testeo de concep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Testeo de nomb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Testeo de empaques y etique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Testeo de produc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89" idx="0"/>
            <a:endCxn id="91" idx="0"/>
          </p:cNvCxnSpPr>
          <p:nvPr/>
        </p:nvCxnSpPr>
        <p:spPr>
          <a:xfrm flipH="1" flipV="1" rot="5400000">
            <a:off x="3882960" y="3395160"/>
            <a:ext cx="1262520" cy="4612320"/>
          </a:xfrm>
          <a:prstGeom prst="bentConnector3">
            <a:avLst>
              <a:gd name="adj1" fmla="val -18083"/>
            </a:avLst>
          </a:prstGeom>
          <a:ln w="5724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4762440" y="4060800"/>
            <a:ext cx="4113360" cy="1009800"/>
          </a:xfrm>
          <a:prstGeom prst="bevel">
            <a:avLst>
              <a:gd name="adj" fmla="val 6019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                            </a:t>
            </a: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Lanza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Planeación del lanza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Tracking del lanza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1" idx="1"/>
            <a:endCxn id="93" idx="0"/>
          </p:cNvCxnSpPr>
          <p:nvPr/>
        </p:nvCxnSpPr>
        <p:spPr>
          <a:xfrm flipV="1">
            <a:off x="6819480" y="3255480"/>
            <a:ext cx="1080" cy="805680"/>
          </a:xfrm>
          <a:prstGeom prst="bentConnector2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4762440" y="1785960"/>
            <a:ext cx="4113360" cy="1469880"/>
          </a:xfrm>
          <a:prstGeom prst="bevel">
            <a:avLst>
              <a:gd name="adj" fmla="val 6019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Gestión del Ciclo de V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Análisis de la respuesta del merc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Afinaminiento del marketing m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Monitoreo y defensa de la compete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Innovación en la madurez del produc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  <a:endCxn id="86" idx="0"/>
          </p:cNvCxnSpPr>
          <p:nvPr/>
        </p:nvCxnSpPr>
        <p:spPr>
          <a:xfrm flipV="1" rot="16200000">
            <a:off x="5284800" y="250920"/>
            <a:ext cx="330840" cy="2739240"/>
          </a:xfrm>
          <a:prstGeom prst="bentConnector2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95" name=""/>
          <p:cNvSpPr/>
          <p:nvPr/>
        </p:nvSpPr>
        <p:spPr>
          <a:xfrm>
            <a:off x="4762440" y="1076400"/>
            <a:ext cx="16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ahoma"/>
              </a:rPr>
              <a:t>Reposicion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13920"/>
            <a:ext cx="822960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roceso de desarrollo de nuevos productos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cxnSp>
        <p:nvCxnSpPr>
          <p:cNvPr id="97" name=""/>
          <p:cNvCxnSpPr>
            <a:endCxn id="89" idx="1"/>
          </p:cNvCxnSpPr>
          <p:nvPr/>
        </p:nvCxnSpPr>
        <p:spPr>
          <a:xfrm rot="5400000">
            <a:off x="1907640" y="4483080"/>
            <a:ext cx="602280" cy="2160"/>
          </a:xfrm>
          <a:prstGeom prst="bentConnector3">
            <a:avLst>
              <a:gd name="adj1" fmla="val 49820"/>
            </a:avLst>
          </a:prstGeom>
          <a:ln w="5724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EB09-464D-4734-A3E6-BB7038D346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592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1280" y="1171440"/>
            <a:ext cx="813744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Un </a:t>
            </a: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concepto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 es la propuesta que la marca, producto o servicio desea transmitir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Ejemplos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Jumbo </a:t>
            </a:r>
            <a:r>
              <a:rPr b="0" lang="en-US" sz="16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la calidad no cuesta má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Ruta Norte </a:t>
            </a:r>
            <a:r>
              <a:rPr b="0" lang="en-US" sz="16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el pisco que se consume en el carret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Super Cerdo </a:t>
            </a:r>
            <a:r>
              <a:rPr b="0" lang="en-US" sz="16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el experto en cerdo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Gasco </a:t>
            </a:r>
            <a:r>
              <a:rPr b="0" lang="en-US" sz="16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alidad y calidez para el hog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Los estudios de concepto permiten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Verificar necesidades insatisfechas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Evaluar y redefinir ideas preliminares de productos o servicios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Proporcionar información para el desarrollo del producto o servicio y su publicidad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22E9-D807-4902-8D6C-5E5E0CC1937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42800" y="29952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litativ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3560" y="971640"/>
            <a:ext cx="7443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32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Objetivos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2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-232920">
              <a:lnSpc>
                <a:spcPct val="6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Entender la necesidad que satisface el producto o servicio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-232920">
              <a:lnSpc>
                <a:spcPct val="6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Frecuencia, importancia, insatisfacción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-232920">
              <a:lnSpc>
                <a:spcPct val="6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Conocer el marco competitivo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-232920">
              <a:lnSpc>
                <a:spcPct val="6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Marcas conocidas, probadas, consumidas y rechazadas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-232920">
              <a:lnSpc>
                <a:spcPct val="6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Atributos relevantes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-232920">
              <a:lnSpc>
                <a:spcPct val="6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Evaluación de conceptos (se muestran en una tarjeta o en una pantalla)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0">
              <a:lnSpc>
                <a:spcPct val="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555120" indent="-162360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Reacciones espontánea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555120" indent="-162360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Aspectos de agrado y desagrad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555120" indent="-162360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Intención de prueb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555120" indent="-162360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Ventajas/desventaja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555120" indent="-162360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Credibilid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555120" indent="-162360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Principales sustituto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555120" indent="-162360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Percepción de precio y atributo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555120" indent="-162360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Evaluación gener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555120" indent="-162360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Intención de compr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555120" indent="-162360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Ranking de conceptos y razones de preferencia/rechaz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048440" y="1273320"/>
            <a:ext cx="1524240" cy="5000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344080" y="471600"/>
            <a:ext cx="723600" cy="1295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7113600" y="1816200"/>
            <a:ext cx="1954080" cy="1279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704E-3098-4E6C-A6CF-83D072BB42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2800" y="414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litativ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6200" y="1285920"/>
            <a:ext cx="838044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8748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Ejemplo: 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Evaluación del concepto que se desea transmitir con la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98748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introducción al mercado de un nuevo tipo jugo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987480" indent="0" algn="just">
              <a:lnSpc>
                <a:spcPct val="5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35240" y="2462040"/>
            <a:ext cx="4498920" cy="2737080"/>
          </a:xfrm>
          <a:prstGeom prst="bevel">
            <a:avLst>
              <a:gd name="adj" fmla="val 3403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a50021"/>
                </a:solidFill>
                <a:latin typeface="Tahoma"/>
              </a:rPr>
              <a:t>Focus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Cantidad: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6 ses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Integrantes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: 10 personas por ses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Duración: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45 a 60 minu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Característica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Cada sesión se hace con personas homogén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Personas heterogéneas entre cada ses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Basado en una pauta de conversación estánd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90F5-2072-42F4-BBAB-A7032BE4ADB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42800" y="21384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litativ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3560" y="843120"/>
            <a:ext cx="8380440" cy="56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566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Ejemplo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56680" indent="0" algn="just">
              <a:lnSpc>
                <a:spcPct val="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Hoy en día, si le quieres dar jugo a tu familia tienes 3 alternativas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0" algn="just">
              <a:lnSpc>
                <a:spcPct val="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-256680" algn="just"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Arial"/>
              </a:rPr>
              <a:t>Primera:</a:t>
            </a: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 preparar jugo natural, pero… debes hacer un gran esfuerzo en exprimir o cortar mucha fruta, y sólo de la estación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-256680" algn="just"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Arial"/>
              </a:rPr>
              <a:t>Segunda:</a:t>
            </a: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 comprar un jugo de tu sabor favorito, en botella o caja, pero… es caro y difícil de transportar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0" algn="just">
              <a:lnSpc>
                <a:spcPct val="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-256680" algn="just"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Arial"/>
              </a:rPr>
              <a:t>Tercera:</a:t>
            </a: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 comprar un envase de jugo en polvo de tu sabor preferido, vertirlo en un jarro y agregarle agua, pero… es artificial, ya que tiene sólo saborizantes y no contiene fruta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0" algn="just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Te presentamos un nuevo concepto de jugo, el cual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-25668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Es una nueva, práctica y económica forma de disfrutar con tu familia de un verdadero néctar de fruta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-25668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Es muy fácil de utilizar, pues sólo tienes que vaciar el contenido del envase en un jarro y agregarle agua, es económico pues tiene el precio justo, alcanza para toda la familia y tiene verdadero sabor a fruta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DAFB-8DFF-48FF-AB38-87D1034199A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42800" y="414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litativ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66480" y="1157040"/>
            <a:ext cx="794844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Ejemplo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62080" indent="0" algn="just">
              <a:lnSpc>
                <a:spcPct val="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62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Algunas conclusiones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62080" indent="0" algn="just">
              <a:lnSpc>
                <a:spcPct val="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62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365640" y="2216160"/>
            <a:ext cx="2035080" cy="1330200"/>
          </a:xfrm>
          <a:custGeom>
            <a:avLst/>
            <a:gdLst>
              <a:gd name="textAreaLeft" fmla="*/ 0 w 2035080"/>
              <a:gd name="textAreaRight" fmla="*/ 2035440 w 2035080"/>
              <a:gd name="textAreaTop" fmla="*/ 0 h 1330200"/>
              <a:gd name="textAreaBottom" fmla="*/ 1330560 h 133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1908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Propuesta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producto ge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inter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00560" y="4361040"/>
            <a:ext cx="2035080" cy="1330200"/>
          </a:xfrm>
          <a:custGeom>
            <a:avLst/>
            <a:gdLst>
              <a:gd name="textAreaLeft" fmla="*/ 0 w 2035080"/>
              <a:gd name="textAreaRight" fmla="*/ 2035440 w 2035080"/>
              <a:gd name="textAreaTop" fmla="*/ 0 h 1330200"/>
              <a:gd name="textAreaBottom" fmla="*/ 1330560 h 133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1908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Mensa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compara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genera molest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1306-B9CA-4FD2-887D-69B7E505CEC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6T14:47:40Z</dcterms:created>
  <dc:creator>BBDO</dc:creator>
  <dc:description/>
  <dc:language>en-US</dc:language>
  <cp:lastModifiedBy>Casa</cp:lastModifiedBy>
  <dcterms:modified xsi:type="dcterms:W3CDTF">2006-10-17T01:39:45Z</dcterms:modified>
  <cp:revision>406</cp:revision>
  <dc:subject/>
  <dc:title>IN627</dc:title>
</cp:coreProperties>
</file>