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2.wmf" ContentType="image/x-wmf"/>
  <Override PartName="/ppt/media/image28.png" ContentType="image/png"/>
  <Override PartName="/ppt/media/image30.png" ContentType="image/png"/>
  <Override PartName="/ppt/media/image35.jpeg" ContentType="image/jpeg"/>
  <Override PartName="/ppt/media/image13.wmf" ContentType="image/x-wmf"/>
  <Override PartName="/ppt/media/image9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C2C-E207-44E5-83A4-C15817C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9C1-FE3A-4FA4-B2D3-47F0A1C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8E8-9935-4E27-B0E4-DABFF103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D8A-5C8B-4E29-91B2-84EB1F54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4115D-1B18-4A1E-AEE4-4855EE8C55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D90AE-E62E-4BB0-904C-F2B22FB766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82F2B-6A43-47F6-ACA3-2CA15A43DC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71AC1-6078-44AF-9810-1A3685E67F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97827-296F-42C4-BC15-E7887C640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6327-0CCA-4B12-87CC-CA9D8B53F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ADEA-F980-4374-A6EE-B30F455B8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58F-D631-4720-896B-2413783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86182-4CD9-4ACB-A217-5AD7C3A2D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0F69B-C873-4C4A-B5B2-0E9AFBBC88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89D80-B5B3-4F0B-8456-51DFBD1B66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F0794-172E-458F-B803-56788F09E4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95695-A83C-40BE-9C4C-C106C146F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706-3867-4431-A488-E1EF1B6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071-49C9-4A45-9D71-685BF819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2FE-2E25-426F-AB8C-2A45FA6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9C2-D276-4EC8-83D4-134F3D6E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D4A-92E9-45FB-BC1F-71E817D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859-F303-4D12-9B4B-A09C089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772-96A3-411E-AE26-F7C5159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CD7-E3AB-4BC5-94E6-592DAD828B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68F3-9152-4BC4-8803-AC05C497BA33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5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Objetivos de Marketing Asociados a la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422520"/>
            <a:ext cx="64008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714-FB0A-443A-8177-CDE178DE37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3160" y="4164120"/>
            <a:ext cx="4211640" cy="23382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10 a 15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uestra de población sólo con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3368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4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e puede tomar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28640"/>
            <a:ext cx="4211640" cy="228600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Encuesta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Locación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Entrevistados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20 a 3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 es una muestra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a en un cuestionario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49600" y="4300560"/>
            <a:ext cx="77004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52440" y="1781280"/>
            <a:ext cx="79056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800600" y="1781280"/>
            <a:ext cx="893880" cy="54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3560" y="942480"/>
            <a:ext cx="83804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Evaluación del concepto que desea transmitir con un nuevo tipo jug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9EA-BBF2-4AB5-81DE-C49B836435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3920" y="843120"/>
            <a:ext cx="83088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9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grado de acuerdo con respecto a las siguientes afirm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Beber jugo natural es car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Hoy en día, la forma más económica y práctica de refrescar a tu familia es prepararle un jugo en pol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l jugo en polvo es artificial, ya que tiene sólo contiene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edir agrado con respecto a las siguientes proposi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n nuevo y práctico envase para compartir y al precio justo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9200" indent="-25920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No te quedes en lo artificial y prueba el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38C-8AD1-4593-9839-17B28601B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832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3560" y="1042920"/>
            <a:ext cx="86691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Evaluación del concepto de una nueva empresa d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lecomunic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2070000"/>
            <a:ext cx="741672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Nota Metod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Tipo de estudi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cuantitativo mediante encuestas autoadministradas vía Inter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Grupo objetivo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hombres y mujeres, de 15 años o más, de niveles socioeconómicos ABC1, C2 y C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Muestr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 569 ca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Fecha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18 al 19 de mayo del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Ponderación</a:t>
            </a:r>
            <a:r>
              <a:rPr b="0" lang="es-CL" sz="1600" spc="-1" strike="noStrike">
                <a:solidFill>
                  <a:srgbClr val="333399"/>
                </a:solidFill>
                <a:latin typeface="Arial Unicode MS"/>
              </a:rPr>
              <a:t>: resultados ponderados según distribución por GSE, sexo y edad de la población en estudio de la Región Metropolit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D0B-A13A-4B81-BBA8-F08D26561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53840"/>
            <a:ext cx="8686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884160"/>
            <a:ext cx="741672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 Unicode MS"/>
              </a:rPr>
              <a:t>Cuestio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04920" y="1400040"/>
          <a:ext cx="6119640" cy="52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400040"/>
                    <a:ext cx="611964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083-2085-4C95-9CEA-CAB8714C6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60812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6280" y="3171960"/>
          <a:ext cx="807732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71960"/>
                    <a:ext cx="80773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0F0-058F-4833-AE60-2042AAA156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650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251316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6280" y="311004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1004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9E9-975C-4D50-87E1-4D7C344FA2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69380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valuación de concep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Escala de 1 a 7, 1 = No te gustó nada, 7 = Te gustó mu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total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25560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280" y="3152880"/>
          <a:ext cx="807732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152880"/>
                    <a:ext cx="807732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796-FFC4-433E-92F6-BC79C3CFDE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1206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Cuál de los tres mensajes te gusta m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Base: total  muestra = 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644480"/>
          <a:ext cx="621036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44480"/>
                    <a:ext cx="62103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5680" y="3660840"/>
          <a:ext cx="840096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" y="3660840"/>
                    <a:ext cx="84009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2800" y="15732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920" y="700200"/>
            <a:ext cx="8308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F3A-5740-4403-AEB3-2B21B8693C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39392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¿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Qué vas a ser mañana?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23479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479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916360" y="19591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¿Qué vas a ser maña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7E6-CA9F-49C1-89A1-4397005BC2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413000"/>
            <a:ext cx="8686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81200" y="2395440"/>
          <a:ext cx="45338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2395440"/>
                    <a:ext cx="45338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16360" y="203508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El mundo en tu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014-3198-4851-9749-9D8463E6CC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Diseño de Producto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696-C102-49E4-9D04-B00483C9171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079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¿Por qué te gusta má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Base: entre quienes les gusta más </a:t>
            </a:r>
            <a:r>
              <a:rPr b="1" i="1" lang="es-ES" sz="14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r>
              <a:rPr b="0" i="1" lang="es-ES" sz="1400" spc="-1" strike="noStrike">
                <a:solidFill>
                  <a:srgbClr val="000000"/>
                </a:solidFill>
                <a:latin typeface="Arial Unicode MS"/>
              </a:rPr>
              <a:t> = 1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23920" y="2362320"/>
          <a:ext cx="45342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2362320"/>
                    <a:ext cx="45342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916360" y="203040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Unicode MS"/>
              </a:rPr>
              <a:t>Donde quieres es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857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ntit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920" y="857160"/>
            <a:ext cx="830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rincipale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5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C48-7F1C-4989-B909-F639FC9946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nombres (cualitativo/cuantitativo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acilidad de lectura y pronunci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ociaciones espontán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aís de orig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Beneficios asociad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decuación al concept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tributos relevan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99120" y="1465200"/>
            <a:ext cx="1944720" cy="6364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5796000" y="2852640"/>
            <a:ext cx="3203640" cy="921960"/>
            <a:chOff x="5796000" y="2852640"/>
            <a:chExt cx="3203640" cy="9219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796000" y="3361680"/>
              <a:ext cx="320364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796000" y="3101760"/>
              <a:ext cx="320364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796000" y="2852640"/>
              <a:ext cx="320364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796000" y="3589920"/>
              <a:ext cx="3203640" cy="18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34320" y="2133720"/>
            <a:ext cx="2046240" cy="517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7315200" y="4800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562720" y="3886200"/>
            <a:ext cx="1779480" cy="87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7467480" y="3886200"/>
            <a:ext cx="1405080" cy="8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C31-E085-4299-91D8-912D40E623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577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 flipH="1">
            <a:off x="8152920" y="1219320"/>
            <a:ext cx="690840" cy="1581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1166760" cy="12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70960" y="3733920"/>
            <a:ext cx="1373040" cy="93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96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772400" y="4648320"/>
            <a:ext cx="1173240" cy="1265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nvas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spectos de agrado y desagrado del empa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orm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Diferenciación respecto a otros empaq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acilidad de manipular y consumi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6E3-9E7C-4F16-965C-DFE0778D45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480" y="259920"/>
            <a:ext cx="877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Prueb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e envases / etiquetas (cualitativo /cuantitativo)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02564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eb424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valuar los siguientes aspect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Etiquet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general y razones para no evaluar excelent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valuación de aspectos específic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Origin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Diferenciación respecto a otras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Percepción de cal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alce con el concepto del product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69200" y="5221440"/>
            <a:ext cx="23130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7458120" y="4141800"/>
          <a:ext cx="135252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4141800"/>
                    <a:ext cx="13525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A78-5148-4DFF-A9EF-F67E4ABE0B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2480"/>
            <a:ext cx="8785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63280"/>
            <a:ext cx="705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gunas consideracion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l producto que se testea debe ser representativo de aquél que se lanzará al mercad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Variables como: tamaño, forma, color, etc. deben permanecer const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evaluación puede ser monádica o comparativ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Monádic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y evalúa las características de un sólo producto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solo compara contra los demás productos que ha utilizado, especialmente los más reciente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uele ser más realista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42880" indent="-177840" algn="just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9900"/>
                </a:solidFill>
                <a:latin typeface="Arial"/>
              </a:rPr>
              <a:t>Evaluación Comparativ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8576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l consumidor prueba dos o más productos y se evalúan las características de todos los productos probad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900000" indent="-177840" algn="just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Se centra en las diferencias percibidas entre productos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79689" t="54171" r="4688" b="37501"/>
          <a:stretch/>
        </p:blipFill>
        <p:spPr>
          <a:xfrm>
            <a:off x="7164360" y="2924280"/>
            <a:ext cx="1198440" cy="47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71095" t="52084" r="6250" b="33337"/>
          <a:stretch/>
        </p:blipFill>
        <p:spPr>
          <a:xfrm>
            <a:off x="7885080" y="3209760"/>
            <a:ext cx="108756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2FF-40D3-44EB-BB7A-C01E837FE9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prueba a ciegas (blin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02680" y="1153800"/>
            <a:ext cx="616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o 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los atributos intrínsecos (forma, sabor, olor, color, tamaño, etc.) del producto aislados del efecto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ún no existe la marc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75400" y="1268280"/>
            <a:ext cx="1217880" cy="182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020000" y="3651120"/>
            <a:ext cx="2124000" cy="12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72F-7855-4618-A157-1E7CD69467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productos: 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ueb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con marca (branded)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130040"/>
            <a:ext cx="633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studios generalmente cuantitat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ntrevistas en locación central o en hogar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muestra la marca del produc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Se utilizan cuan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Se quiere evaluar el efecto del nombre o imagen de marca sobre las reacciones frente al product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La marca se identifica con tanta claridad que no tiene sentido una prueba a cieg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4004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267680" y="2030400"/>
            <a:ext cx="16063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6000" y="4322880"/>
            <a:ext cx="1584000" cy="14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20A-CA7F-4897-8C62-E6297D1955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9680" y="560088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ntención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9680" y="8190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Identificación de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Hábitos de consumo/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4880" y="1916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9680" y="240660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valuación de 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680" y="4005360"/>
            <a:ext cx="3362400" cy="1054080"/>
          </a:xfrm>
          <a:prstGeom prst="bevel">
            <a:avLst>
              <a:gd name="adj" fmla="val 7681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ueba y 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e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865080"/>
            <a:ext cx="5292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(% de la población que presenta la necesid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mportancia de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oductos/ marcas/ empaques conside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nal/frecuencia visita/ precios percibidos/ comp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ctividad que realiza el consumidor/ frecuenci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2278080"/>
            <a:ext cx="529272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 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Relevancia/ atr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iferenci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uar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ersonalidad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976560"/>
            <a:ext cx="47530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mpa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tiqu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Uso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Aspectos de agrado/Aspectos de desa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en atributos relev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532480"/>
            <a:ext cx="52927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Precio proyec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Evaluación de pre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Incidencia de compradores/consumi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Frecuencia de compra/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Cambio en hábitos de compra/consumo anteriores (fuente de volum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0440" y="260280"/>
            <a:ext cx="9534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íntesis de la investigación de mercados para nuevos product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350028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5099040"/>
            <a:ext cx="417600" cy="457200"/>
          </a:xfrm>
          <a:prstGeom prst="downArrow">
            <a:avLst>
              <a:gd name="adj1" fmla="val 50000"/>
              <a:gd name="adj2" fmla="val 27371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5530680"/>
            <a:ext cx="1368360" cy="41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661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10600" y="5373720"/>
            <a:ext cx="1150920" cy="641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Ver Capítulo: Fijación de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AD8-B16C-4879-88C8-299250307B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troducción de nuevos produc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5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introducción de nuevos productos, por lo general, incorpora una investigación de mercados en la cual se evalúan las características de este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s estudios de evaluación de nuevos productos tienen asociado una serie de elementos particulares que no aparecen con frecuencia en otros estudios de mercad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concep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nomb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uebas de envases / etiquet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est de produc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4A8-3EAA-4572-8B84-B965069EA9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7800" y="968400"/>
            <a:ext cx="3773520" cy="973080"/>
          </a:xfrm>
          <a:prstGeom prst="bevel">
            <a:avLst>
              <a:gd name="adj" fmla="val 852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dentificación de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ción de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finición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2481120"/>
            <a:ext cx="4276800" cy="1721160"/>
          </a:xfrm>
          <a:prstGeom prst="bevel">
            <a:avLst>
              <a:gd name="adj" fmla="val 6125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dentificación necesidades específ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producto de acuerdo a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cisiones estratégicas (segmentació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osicionami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 flipH="1" rot="16200000">
            <a:off x="1912680" y="2217240"/>
            <a:ext cx="583560" cy="8640"/>
          </a:xfrm>
          <a:prstGeom prst="bentConnector3">
            <a:avLst>
              <a:gd name="adj1" fmla="val 49814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03120" y="4784760"/>
            <a:ext cx="3808440" cy="1547640"/>
          </a:xfrm>
          <a:prstGeom prst="bevel">
            <a:avLst>
              <a:gd name="adj" fmla="val 6028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u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concep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n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empaques y etiqu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Teste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9" idx="0"/>
            <a:endCxn id="91" idx="0"/>
          </p:cNvCxnSpPr>
          <p:nvPr/>
        </p:nvCxnSpPr>
        <p:spPr>
          <a:xfrm flipH="1" flipV="1" rot="5400000">
            <a:off x="3882960" y="3395160"/>
            <a:ext cx="1262520" cy="4612320"/>
          </a:xfrm>
          <a:prstGeom prst="bentConnector3">
            <a:avLst>
              <a:gd name="adj1" fmla="val -18083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762440" y="4060800"/>
            <a:ext cx="4113360" cy="100980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laneación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Tracking del lanz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1" idx="1"/>
            <a:endCxn id="93" idx="0"/>
          </p:cNvCxnSpPr>
          <p:nvPr/>
        </p:nvCxnSpPr>
        <p:spPr>
          <a:xfrm flipV="1">
            <a:off x="6819480" y="3255480"/>
            <a:ext cx="1080" cy="80568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762440" y="1785960"/>
            <a:ext cx="4113360" cy="1469880"/>
          </a:xfrm>
          <a:prstGeom prst="bevel">
            <a:avLst>
              <a:gd name="adj" fmla="val 6019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Gestión del Ciclo de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nálisis de la respuesta d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Afinaminiento del marketing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onitoreo y defensa de la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novación en la madurez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6200000">
            <a:off x="5284800" y="250920"/>
            <a:ext cx="330840" cy="2739240"/>
          </a:xfrm>
          <a:prstGeom prst="bentConnector2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62440" y="1076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ahoma"/>
              </a:rPr>
              <a:t>Reposicio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ceso de desarrollo de nuevos produc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89" idx="1"/>
          </p:cNvCxnSpPr>
          <p:nvPr/>
        </p:nvCxnSpPr>
        <p:spPr>
          <a:xfrm rot="5400000">
            <a:off x="1907640" y="4483080"/>
            <a:ext cx="602280" cy="2160"/>
          </a:xfrm>
          <a:prstGeom prst="bentConnector3">
            <a:avLst>
              <a:gd name="adj1" fmla="val 49820"/>
            </a:avLst>
          </a:prstGeom>
          <a:ln w="572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53F-47AC-428E-AD22-6D580040C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171440"/>
            <a:ext cx="813744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cepto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es la propuesta que la marca, producto o servicio desea transmiti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umb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la calidad no cuesta má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uta Norte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pisco que se consume en el carre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uper Cerd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el experto en cerd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asco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alidad y calidez para el hog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os estudios de concepto permiten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erificar necesidades insatisfech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valuar y redefinir ideas preliminares de productos o servicio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porcionar información para el desarrollo del producto o servicio y su public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A82-6061-4CBB-9232-FCCBF41C7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299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3560" y="971640"/>
            <a:ext cx="7443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ntender la necesidad que satisface el producto o servic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Frecuencia, importancia, insatisfac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ocer el marco competitiv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as conocidas, probadas, consumidas y rechazada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Atributos relevantes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-232920">
              <a:lnSpc>
                <a:spcPct val="6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valuación de conceptos (se muestran en una tarjeta o en una pantalla)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329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eacciones espontáne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Aspectos de agrado y desag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prueb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Ventajas/desventaja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Credibilid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ncipales sustit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ercepción de precio y atributo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Evaluación gener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Intención de compr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555120" indent="-162360"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Ranking de conceptos y razones de preferencia/recha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48440" y="1273320"/>
            <a:ext cx="1524240" cy="50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44080" y="471600"/>
            <a:ext cx="7236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13600" y="1816200"/>
            <a:ext cx="1954080" cy="12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922-8E87-4A1F-9045-5164B5B458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285920"/>
            <a:ext cx="83804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valuación del concepto que se desea transmitir con la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troducción al mercado de un nuevo tipo jug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98748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5240" y="2462040"/>
            <a:ext cx="4498920" cy="2737080"/>
          </a:xfrm>
          <a:prstGeom prst="bevel">
            <a:avLst>
              <a:gd name="adj" fmla="val 3403"/>
            </a:avLst>
          </a:pr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a50021"/>
                </a:solidFill>
                <a:latin typeface="Tahoma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ntidad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6 s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Integrantes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: 10 personas por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Duración: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45 a 60 min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Tahoma"/>
              </a:rPr>
              <a:t>Característi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da sesión se hace con personas homogén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ersonas heterogéneas entre cada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Basado en una pauta de conversación está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57E-E249-401B-A39F-78DFE0377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2138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3560" y="843120"/>
            <a:ext cx="83804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56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Hoy en día, si le quieres dar jugo a tu familia tienes 3 alternativa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Prim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preparar jugo natural, pero… debes hacer un gran esfuerzo en exprimir o cortar mucha fruta, y sólo de la est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gund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jugo de tu sabor favorito, en botella o caja, pero… es caro y difícil de transportar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Tercera:</a:t>
            </a: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 comprar un envase de jugo en polvo de tu sabor preferido, vertirlo en un jarro y agregarle agua, pero… es artificial, ya que tiene sólo saborizantes y no contien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 presentamos un nuevo concepto de jugo, el cual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una nueva, práctica y económica forma de disfrutar con tu familia de un verdadero néctar de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56680" indent="-2566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s muy fácil de utilizar, pues sólo tienes que vaciar el contenido del envase en un jarro y agregarle agua, es económico pues tiene el precio justo, alcanza para toda la familia y tiene verdadero sabor a fruta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FB0-F75B-4E35-843A-3D026395A0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st de conceptos cualitativ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480" y="1157040"/>
            <a:ext cx="7948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lgunas conclusion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62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65640" y="221616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puest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ducto ge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ter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0560" y="4361040"/>
            <a:ext cx="2035080" cy="1330200"/>
          </a:xfrm>
          <a:custGeom>
            <a:avLst/>
            <a:gdLst>
              <a:gd name="textAreaLeft" fmla="*/ 0 w 2035080"/>
              <a:gd name="textAreaRight" fmla="*/ 2035440 w 203508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0c0c3"/>
              </a:gs>
              <a:gs pos="100000">
                <a:srgbClr val="bbe0e3"/>
              </a:gs>
            </a:gsLst>
            <a:lin ang="13500000"/>
          </a:gradFill>
          <a:ln w="190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Men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genera moles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301-FF5E-4E20-B3C6-110A7F68D9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10-17T01:39:45Z</dcterms:modified>
  <cp:revision>406</cp:revision>
  <dc:subject/>
  <dc:title>IN627</dc:title>
</cp:coreProperties>
</file>