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FC4-DDC4-48DF-9124-E238586C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143-CBD9-4F74-A38D-C046CD96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59B-D744-469F-B323-A3A9DBE8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A2F-A9E7-445F-AE19-44C6E871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B540F-9FA7-4610-AE9E-9CBD1D5413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3A204-880B-4808-82B4-17976D6F52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40276-C64F-45EB-AB29-E97310039D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BF802-1C05-423C-AAD7-8569C2169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86DCF-A577-4E35-BD3F-0E7A1DBA4F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1AAAD-D3FA-4CC4-BB05-026EB6489C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4F08F-1BC0-41CA-A20B-0A5C8631A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EEA-68B1-410B-885E-834E5EA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54D27-E771-4662-8ADB-CD3726737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0AFC2-7FAC-4A13-A0F4-0024F28D66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922EE-C0B8-4413-98A7-9001BC7DBE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8740C-7E2C-491A-A5CB-B6464E4D95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4758F-0911-430A-9F35-A02AD7FC6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461-A680-4A79-8A6B-BC685F71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FB7-6EB7-44A9-976C-7CE080C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D4B-8DF2-4211-8309-A1A77E3D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A10-EBAF-4F5C-AC8B-CB6878E3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661-F3BA-4D9E-93E3-37B36A3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DD0-4541-47E7-AA62-AA5D7426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42A-982C-484F-BD2F-3A0B8E9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859-55A2-4DB3-999F-52E6F38FA9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18CD-6E7A-4327-99F9-D49A1010AC6C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7F3-2EAB-4C93-B2F4-69738B8143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9A5-ADDA-4FDC-8D59-7327B52A6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471-DB7F-4EA5-9559-BFBC37E90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B2E-858E-45B6-81D8-A186279259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30F-E006-4DB0-9279-216020B22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E62-8D0F-47A8-B2BF-D307C75400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386-2F2A-4828-98ED-6630325AC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A61-EE66-4A3F-81AB-5C22B33001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A53-0455-4CE5-AF40-47EF8102B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254-BF21-4243-925F-6FC1E4BEE1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8B8-6FFD-41A9-9EE9-C7C3AD7D16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E3E-7D68-4D50-9E8F-75103D38677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73C-30B7-4F0C-A75F-129CF834C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5DC-F6B6-44A2-908A-CDEE5FC263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3BC-9DC5-42D2-BC34-92EB2AD39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F16-E8F0-49F7-8EA3-D054A5EF0B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6CB-5A3D-4834-83B1-289B830388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489-23D4-4A75-9E8D-EF04E1510A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CA4-0317-4B43-AC94-C2EC544FB9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920-A57E-44C5-87C2-409A3BE997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737-4ECE-4F74-A787-9474FF2B11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497-64BA-4226-8BDC-D2D93F3BFE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601-16A7-4CF7-9295-09E4F8205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BB6-600B-4A2A-A482-42003C044A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397-B18F-43A3-B48E-81C6161BC2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A41-CC4F-4821-B43B-466B5D5F1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858-E536-489E-A4A1-317A56A5D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10-17T01:39:45Z</dcterms:modified>
  <cp:revision>406</cp:revision>
  <dc:subject/>
  <dc:title>IN627</dc:title>
</cp:coreProperties>
</file>