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1254-48EF-48FB-8D48-1EA9D6A6C5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D98D-FC01-4525-8200-90A8D6FA63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4AB-48E3-42A8-8344-E17B01A90D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657B-9B41-415D-9581-D033876EEF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6C1F-58AC-41C5-B5BF-0DB467B15A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5003-F072-4A25-A900-A59F2E2A9C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98F9-CBCF-4F36-B2F2-BF1B27FF47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6DFE-5F9D-4DE5-9FD3-196CC06148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51F9-5943-4285-ADA5-289416621D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B11E-3761-4456-9966-757B9B346B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F909-45F5-4E7C-B6FF-D1D1699A43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484C-FA5C-4DCB-AF69-C5ED78804B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D130-8EB8-4BB9-9A07-3A0C96E9FE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E8AD-E88E-4954-A5CB-62505B099D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1132-3180-44FF-AFFB-29EF77ABF2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0E18-B86B-4460-BE3A-BC2E20F493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2E79-F72E-49D7-A026-F5D2CCB7AF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4C21-8D3B-4933-974A-4D3C96FBB5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2443-5AA3-4F8E-B5C4-D123D8E985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FE9B-134C-4CDF-8543-894296F0C8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ED67-72DF-413F-88B2-840F488D16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173CA-FEB7-4AEA-B130-8CFADCCD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2D3BC-36F1-43DF-A033-826C60975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F3C1A-35FB-48A5-920B-F67CFCF7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78CA6-B08B-4B72-8DF6-45ECF549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0CC15-55D5-413F-8CA3-9915966D79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B0E58-A3E3-49B9-8388-6E7B340A2A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9C4C7-B5D5-4ED7-A24F-1E48BB6ED9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D34E5-8273-4C55-B467-B2AAB01A7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BFD23-2E0F-43EA-804C-EC53CC7EB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29C9E-88D5-489A-B8D2-7C2B16478D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67F72-C79E-4267-8ABA-C397673738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742F-040E-45B1-A800-27054F0D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88397-B2FC-439B-B731-3C967D346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B50F9-B795-4C89-9B0A-C10B5E9B1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4A32B-1790-424A-BDEF-8D9CBBC9B7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34032-E78D-4A57-8C9E-88E7ADB341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9CB1D2-E946-4111-93E0-65537212D0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F3BA-C98A-4443-A77F-1106AE90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2DDB-424A-4BDA-8CC7-3A5524F56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8002E-53D9-4AE3-84B6-0879D9C9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B74B-761A-4CE5-A93A-725CF27F3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030C-C4D0-4B6C-92E2-8C33EC6C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C85D-4ECC-445B-A935-633C0C86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B533-6582-46D8-B039-274526213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ED57-1E52-4077-BF3E-EF1C107C0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757B-05AE-450A-AFED-BAC0E9DE24DE}"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E69AE17-880E-4A44-B5ED-CADC9D238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22395FE-AD08-45B7-BFAE-D53287456AD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7AE52BD-D58A-4ED3-A8E0-06CD64C7881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8B09B47B-08B8-4CE8-A98A-AEDE0D6964A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460FCD1-5ED0-4201-98D9-3E0AB5751BC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2C287742-168C-4658-827D-10E0F222536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9ECE716-4485-43D2-9AEF-EA3C9D3DAD23}"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9F7EEAB-A3B0-4A9E-AB2F-985D3D25D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64D573C-7F4C-4EFC-A131-DC3847C89F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46DE69-E5FB-476C-958D-71455FD98A07}"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2CA886-B939-4EE9-AA8A-33386E34CE8A}"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97D3CF3-E3CF-4827-8A1A-1E5399A33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D1A85E0-B174-4329-B114-EBB6B6EFF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CA03DA6E-7035-45C1-B8DB-DBC533CE62F7}"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1000E816-6B1D-4D26-A8FE-385EB64BCE80}"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4527E91E-5BD2-4F57-8E40-217D5258EB6C}"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BEA89059-5966-4025-A4C4-726C1171ED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5768301E-84D6-4B0F-A36B-BD006C32BF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877CBF0-C235-4C74-BCD3-B431714B9E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4DDB961-6264-4A60-9981-FD17D40EC6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B1BCC94-78DB-4A91-95D8-FE2C4ED62440}"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3EFE4C52-B480-47B9-B613-3D475E50F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3406309-65B9-45BD-8C58-9E5635264C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14C31EE-F3CF-4993-BA7C-1AEA617790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42D6F9-16F6-4C3A-B1DB-1A934A70B7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440C95C-F855-46AC-BD6C-F3DE6E10D0BF}"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2F0BC00-6B24-42EF-923D-999957335CEC}"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CD5B658A-F680-4023-A1B1-3625E5911D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3C4F7B2-E57D-4B24-80FF-135026D422A5}"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907FFE3-2847-41D0-8835-99C94C0A09DB}"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5770046-FBE6-480B-A0BF-BAEE66BBEB95}"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62CCCCB-512E-4B41-867E-00404B53F14C}"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8258808-C3E9-4C74-B9B3-4D3AC23B2C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F6331DF-7BA2-4415-8FC9-BAEE4DEDD78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5B5E64C1-1278-481B-92D8-DE43EA47C6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8A8FDE6-439C-4CF2-A14B-8DD6F29A629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927C6E-C46B-4140-9B52-A80D2ECB9E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F75606F-3182-43FB-B517-EE27AE70C5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766C63-7003-45CE-8AB2-85F9022800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29D6AF34-D452-42C1-89AF-610A8BD0340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61E30A-929A-4926-851F-75AB6F6C0E67}"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4955591-1633-422A-81D6-48FF845C1B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EDD1AC-BEE9-42AC-8F61-FC06073F86F8}"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54D29018-62E0-4E14-B661-99E563B374CF}"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4EEF9C0-B197-4C40-AA9C-CEF26DD6B0A8}"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66AD3C7-CC08-47FF-ACE9-61756BBB3907}"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EBD3A84C-FE67-4E7D-A457-6976740EFCF7}"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0FC553AA-5D08-4CBE-951D-38E84C6A7E72}"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B0727DB-1170-4732-BF6A-BA98FC4E41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56E4B0-9227-41D9-A9CE-012EA899D715}"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A28576A-D0C2-4C43-9DA4-080E631CB6C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17A9C39-8C9E-4FA9-8044-D6907C604D5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7BF3D7B-33A2-4847-9A4A-52C7A6E696D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6093846-2E76-4D43-AAF7-118937BDFCC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417D84A-6620-4A74-BD6A-94A73585EFAD}"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2A4EC61-42F1-4198-966F-E39734668F2E}"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832B797-E15B-441A-909C-EC1C4CE7B0F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2173DE3-B725-4305-AAB7-2EB3D554444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D87F53E-74D0-47D2-AFBA-4AD611AB340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200E3FCE-F178-4F12-A6CC-7B33DA9E8A5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1B760D9-62BB-49D7-9ECA-D3AD5B82F173}"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95AA2D-3872-43F9-955B-47EAFEBA937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DB774E-D04C-4AFF-B336-DDF05F27755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F1CE20-D072-40D4-8879-113DE3F7967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C43A6F-8831-424B-94D4-17A7663A4B5C}"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5F9EAF-57B1-4EE3-ACB5-AA9845CF111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1CBF8C-304E-41F4-99E8-BB5A441723F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C16C9628-E841-4697-9EAD-D803359CB85B}"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E100543-4BC1-41D6-AFE3-7101694B0D7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4C657479-580F-4BE2-8B11-36BFE1678F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6C00F31-4076-4DEA-A7FF-145DFF8B941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B9FC80E-8910-4586-944B-6E7913213DF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CD4A88C-7D24-41C3-A442-830F7225752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247E183-9F9D-4A76-9F9F-B0A3D18DACC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0E870A0-5932-46E8-BCCE-FB1167AA7106}"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289D93C-69A9-43D8-A8D3-C547FC2B50B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76FBA4C-740F-43F6-9579-1E979FD9529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60E615F-320D-49E0-81B7-1F3084BC4BC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08ACB66-243C-4BE8-A816-09CBDE3A06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2A61AD8-13BA-4F20-941D-CDA0BC9EC3A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B112984-4EAC-4959-B0FD-A916C5928A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C313F0B-F9F5-41BD-85E6-C54458793A5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98E92DB-355E-445C-AACD-76C634B7C1C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7C73EB4-53E2-439D-94FF-E27F62BADA8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udir a las fuentes más cercanas (amigos, compañeros, familiares, etc.) o a especialistas e indaga: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6345E0E0-388B-46E0-924A-296C402097C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B87B03F-FD09-4400-9D14-E8968BDE9B7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AAD8675-A163-4230-8DF7-00B07B42857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FB171AE-6495-4E7C-B8A8-42A6E1A8DE6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11DA4DE-86EA-4901-A98D-AF3BC7D25C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ED4BB57-C0AE-482E-8BA5-A5DCC4CEE76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81615C2-C453-4FD9-AFAB-D051D459E1B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D1F35D28-45D4-4264-B7EE-500AEBEDCAB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54E162-21FE-4156-A8B0-1CE76B80422B}"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8BB0B38-9C97-48E7-A825-2E85AB9488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2152C0-5043-4AB0-8CC2-C9D49B5DA3CD}"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673DC2-D3F6-4768-A0EC-24A6A64B6AB0}"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56899E-F82D-48D2-8601-35333644FDB0}"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2B3DA3-31FD-46F6-9593-6223C7F55D1C}"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DF0342-320B-46A4-9812-8E38FCC8FD25}"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3FE7AA-050E-4CBC-B345-0D15779F89BE}"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8F4A72-8A7A-426F-A284-BEC86CA4F93E}"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504D4954-94CF-4B21-83EB-4B664CB0DD6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F7B49C0F-0BEA-49D2-AF8D-AD79AB376C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955E71EB-1C74-4956-B3C1-85F7A00AC3D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laudio Salvatore</cp:lastModifiedBy>
  <dcterms:modified xsi:type="dcterms:W3CDTF">2006-09-04T22:43:35Z</dcterms:modified>
  <cp:revision>309</cp:revision>
  <dc:subject/>
  <dc:title>IN627</dc:title>
</cp:coreProperties>
</file>