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1935-BE3C-4CD3-908F-F6386EAFA2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8362-1BA2-4A1B-AEFD-4104844613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DC0A-F171-4B6A-8E69-C19D2D103F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0890-0432-4CA5-9D42-B5D3F2F22A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E65E-FA9C-4768-A069-A9893EF747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EDF1-0A63-4799-B7A4-5C3814A45B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B2E9-DA59-4A7C-828E-9BEA8988B6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8F3E-CDE3-42D3-BC03-39726292AE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30E1-A26E-46F0-ADA0-3E82537A62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FF29-24FD-4D9A-81F0-40A6BBBF58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611A-172D-4BEA-8AB5-01AD81AF04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7376-9754-4B28-A63A-ED4D4CA237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D3DF-9A3B-4412-9BC9-569AA5B3110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92BE-97B6-4B88-AFC2-12FD600399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4A7B-ED8F-4D02-ACDB-7AD194B4E3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C66C-41AC-4BD1-93C1-E4B3C5154D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4C2A-D1DE-4D7F-96ED-949103622E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9B25-D557-4949-ADE2-86D8E571DF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7F20-C8AB-4E21-8A55-CFE3FEC213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EB22-F622-4A5E-BC63-A96D6CCE4A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DC1A-A54F-4F52-B862-B1C8D3F1EC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B45A5-78CC-4D2B-BD4F-953F88D9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5C4B3-9B55-49D3-AFA5-C9F50A0B6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7E515-7DBA-4DDC-9C72-00C4E0742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2C283-B91A-455D-8AB4-4F4EEF110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71279F-C0FA-4444-A355-9B87E576A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7BF24-E7A8-46EB-A71F-B3D59E6E30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323D2D-A74A-4EDE-BA60-C9D8028C05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07158-F4D2-464E-A7AD-129DFCB68C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32066-CEEF-4FDC-8562-40F9553AA2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8D680-8E0D-46C5-8811-C8C1602433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DE2A4-2CDD-4192-A93A-BA6D063013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FAEC-C140-48DB-8E2C-B75AA68A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D99E86-16E4-44AA-8894-6EB4F232ED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A3F5D-645A-4556-9F9C-52800E1868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653EDC-7A27-4131-9DF1-1C729A72C6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3C676-1A79-433E-829E-DB86141881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5F252F-11DD-438A-88ED-B5DE2E3DFE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609D-6ED5-489B-92BF-373EAD01A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C5245-B7C9-4135-BF72-9018FC855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57BC3-954D-46C3-B40D-B508ADF0F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EB47C-8DA8-4A05-892A-A5F33E46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7ED9-5570-4B15-9DC1-247146633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7E57-FEB5-4E03-9520-B9355EB5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EFEA3-9020-414C-8110-D32987E8B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62D6-A08E-48A0-B6A3-593B29CFF4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8117-ED78-4355-ABBC-C04A497C8818}"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9005B23-E828-4196-AF4A-C04CD6D6F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2A5C459-C4B9-4E12-81F2-DED9C188ACB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5D0EB81-8EB4-4064-8622-85088F7A981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26EF251A-E8DB-4EB8-BB9C-02AA5604D4E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B774FFA-45D5-457F-AE0E-D170AEC1972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B9ECECC2-DED7-4147-8669-CFC7642773E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6512CDD-2D9C-43DA-A6B0-EA9CB6BBE4D4}"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8439182-11C9-44E2-879D-48B79FD90C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46D6F209-DCAC-47DF-B66C-FC3278C68A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DCFEFE9-A614-4363-AD9A-3A2C469BD0D9}"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FFB8CA-1F55-4992-835F-39774C09D5B9}"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4C767392-78CC-4A07-95F3-A8D5E6141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E8868B8-5524-47E6-A9E4-927908C76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65CFEECB-39C5-4756-8335-05C2BC3A2965}"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5DD0A54F-9206-4602-9D61-38EC061B89D5}"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4A29842D-5EC0-4730-82BE-0B746B231F2C}"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D5046032-A938-4CB8-978A-9844954753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F1FB06E-5945-460C-8713-8B3AB73EEC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48EC9C0-6052-44DF-8787-1D290ECD67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B3312DA-17FB-4A0A-B3E9-13767A4F62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DFB14E9-58A8-4D78-9F39-6540C5AB30FF}"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60F16FED-8383-4283-B750-6F4A752A01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EF1FAFBE-FDE3-4340-BE65-1DF84D0B36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655D9D38-E3D7-47A1-8F94-BBAC7F811A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90DEEB-3E1D-4582-86AB-5C6CD7A0B1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A50220B-CEE2-4755-9E55-BB390E80D319}"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E0C2F14-542C-4EB0-974B-95158FA396C2}"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8D295E3-9C0B-4193-83A6-CD81092E18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AFC50F5-7921-4070-8D13-7BB07043ECBA}"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27FD9D2-1EBE-42B8-86B5-489A12E462C4}"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D026F18-E8CD-4425-BD5B-CEC0B51CE9B9}"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5599596-F3F2-4E1C-8608-9342153FAFC9}"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77CE302-D0E9-404D-A6D3-10EEA36231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4537EC6-2F08-4843-BE2E-30A0C458B8F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6781028E-CDBB-4F19-A1C4-1A6B0012BD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F19CF99-B8CD-4F5B-8612-375CC752D8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D40B3FA-BA4B-4283-9F38-6BA2895D56E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87F9DEA-7D3C-4503-8874-D75417C95F5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7192DC-886E-438C-A31F-89F4A6489B1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F0373023-AC99-4208-A010-B466DF9F02A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3B33054-8768-4D1C-A084-D886419911C0}"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17CEB67-50AA-41B5-BD1E-441C30E52B1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B06872-C1C7-47A0-B47E-9ED3F941C73B}"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FA818D9E-5C22-4C55-A5D9-A4410EF7211A}"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DD69089B-B0B8-4DC8-A3FD-B8FAB694C9AA}"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96E8679D-23D9-4C9D-AC57-F0756EFA0000}"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F63A3D01-3E20-41DC-BF8C-C093567178A7}"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05129DED-D396-4000-8287-EF213BB5BD75}"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90E774A-164D-4EBD-9430-7B179795D5C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8A2A1DB-1D0D-433E-8AEC-41A17CAA98B0}"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7B89795-2E56-4B13-8B9E-8668B62D9EE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1BBE25C-2CE2-4DD0-8D1C-83459306FC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D6AA946-37DB-4AE4-9C03-CF2E3551743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D388292-A2EF-427D-8D83-28C05861F3E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0E95E5F-7BB0-4536-A53D-8A646A578E33}"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02B87DE-7340-409A-8B77-B0C999C8D82F}"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6B5F0FB-2D27-4105-87E9-EB10C035743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D2CB536-FB73-430A-9C5F-CA5E38F579F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DF57B9F-8A54-43F0-9214-0E886AE54ED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F86C0175-D735-4108-9B59-EB6B6169673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AE5D2F0-61CD-47FB-890C-CA28612F5DF3}"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555FAE-E022-4C2E-B09F-3A369A97CEF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2E265A-53BF-4AB8-9200-C57B5FB294E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87341A-CA05-4295-ACB2-790D70CEEF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B05C40-73C0-41B4-BD7B-1BCFCFEA368A}"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AC765E-3918-442A-B429-ED262EF594A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6FC2FD4-BB59-444C-A066-8A93442BFB8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B497537D-857E-47A0-9841-42FBC84E3AB9}"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EF1FC8E-BF73-4713-9B9D-FF6D9820E0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02E4B313-AD28-49CF-BC02-0F55117200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C86BD71-D693-4A69-B430-00C22872CAD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8B89890-97EE-4F90-83BE-CF3007F58B4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2E4A1DE-C1C8-4312-BECA-56D1FDBC70E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3B83EFF-8B11-4A0C-9CEE-F543F63E856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415A560-629A-4056-8783-7E04EBD1C81F}"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D1A9826-3483-4679-9AE7-E27C039DDCB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EF3A1BE2-5417-43D3-B46B-08DC5F32A97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99FCC26-80FE-4796-B44D-1FEEC3F3A87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DE154F6-5104-4B67-BFBE-B2F637E6DA9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D8C3E50-1743-4DFC-A39A-4A5CA8B6FE2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BA58ED0-219E-44BD-A4B8-D8AF9B34E9E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271F1D2-7798-4053-AF0B-706A9BC8073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3AD0830-4A1A-47E1-B376-7F21D50ABDF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EA1D0FF-A090-45B1-ADAF-53541E20F56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udir a las fuentes más cercanas (amigos, compañeros, familiares, etc.) o a especialistas e indaga: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F43E51E-71E8-45D7-B040-775555B7DCC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AE1810C-B009-45C4-B43D-57D8FD5CB32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3CF68EE-7F04-4B77-8061-5A075165EED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3E9DCCB-157C-4C90-9628-1BF48F0CD4B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469FE41-F9EC-45DE-8B24-7C95A18E344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C88CFF7-6491-4094-A10E-40D9876A33E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45A3F777-0408-4CB6-8B78-F4399F5532D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E42F998B-0998-4EA6-B54E-05515A1179E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DF5B27-B8FF-42D3-9899-6D903533039E}"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510B5FA-D464-4644-ADCE-B3491C6D014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396FAE-3229-43E1-8E69-22A45A132ED0}"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98FC67-67C3-441D-95FF-16E9E3DE0FBE}"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BB0BFC-C9F8-413E-9708-EFCC1C1EE90A}"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81FD3D-FEBB-4D0A-B460-E6D974334778}"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B99458-7830-4BBF-A4F0-06846F365973}"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55594C-9B39-4412-ABA5-32CEE077C5E8}"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CD302D-1CDB-470C-8170-A5F66492FF75}"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327A90EF-5E66-4944-8787-DC9EB63CBD0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79D55A53-1E4C-4250-81F9-ABCED6F86E1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591C5A17-C49C-40DF-A6B7-5BC7C469C38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laudio Salvatore</cp:lastModifiedBy>
  <dcterms:modified xsi:type="dcterms:W3CDTF">2006-09-04T22:43:35Z</dcterms:modified>
  <cp:revision>309</cp:revision>
  <dc:subject/>
  <dc:title>IN627</dc:title>
</cp:coreProperties>
</file>