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44735-C93D-45C4-900A-75AE1812A1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E261-4887-4BE3-B8C7-14580684CCE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3C5B-3CA5-4FFD-926B-EA974A8F85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7D80-7C7A-41B7-BC0A-F783EBB1DE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7E7D-2E75-4187-8CCB-9586477783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1717-F200-4F8E-92B2-DACF44FCE4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A786-566A-4768-865C-D5624C4F3F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E529-ACFB-40E3-B215-430A784E58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B328-E691-476E-84C0-3B0B86B9C1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D66D-4EA3-4F85-AF1C-E69CCFAEE5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DD28-FDB6-46B0-9915-45034DBFCF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04B2-6906-479E-AC44-60AE12ED44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3914-B1A0-464E-9375-3D3A9011DA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4C8C-9C43-4954-847D-45D5B47C92A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CD992-B328-47AB-B870-21B44FA8FB6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F986-7B1B-4FC0-9345-DDD5441879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CF31E-F3F1-4A41-9B78-76B7D35753F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741E-F872-449A-8B96-3370752B6E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83A9-1048-4B7E-8780-2220248C7B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6E068-4D29-4998-ADC8-4D342714D0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28802-101C-465D-86DD-5F746065AC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7883D-F28E-4488-AB68-E3C10458E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C045A-6B40-4A45-8F0E-B90A1AD85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ACA19-321D-4761-A114-5F87BA874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58048-7FF6-4B18-B2FB-E443892C0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BCC4EB-80C0-48AD-BEC5-9CEC2DADA8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240B8-F6F2-4EB9-973F-27BB5598A1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656F9B-68E4-4E7B-A31F-80D9168323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F3052-4C79-4AAA-B0CE-FF63C21FD4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F692C4-2B8A-4AF5-B0A6-D63147A1B8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DBC60A-67DF-4151-B295-0D2FEA71E1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A8C83-E266-4B8D-99DA-03A370DCCC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7DC9-21DF-48FA-A664-517BEF27D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0B73B-6601-4B10-9F4F-123CC07E85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6B0E4-B073-4673-BA25-A3FC16B33B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B1D33B-85F0-4ED0-B253-8D7ABE6C71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2B5F06-ABA1-4863-A57D-9B73DE7896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41D768-9378-4A0F-BB00-CD0C19DBC6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AAD2C-9191-42C1-8929-A24BFB466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1DFB7-1F8C-4274-9D8C-E44DED416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94D87-BEEE-4CE5-AF08-07CC2AA5E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C815-92CD-4696-9CC5-231C8D31D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3E7B4-5324-452F-88A8-D6D253BA4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CB58F-5D8C-42DC-B17A-BA82B14AB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D0135-942B-41C0-AD77-2731AE47F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DFB5-173B-4E33-8162-10729CC44E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C89D-214B-4B72-8701-87898D4FE262}"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A2E1906-C818-4E14-91B9-6655BBDF21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FD58BBB-3B0B-486D-A995-05B6241CD72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697B220-3716-4DF6-8A87-9500B8CD19C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08341687-EDC3-43DD-8D2C-D313D2949DC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C1E19B8-6C5D-4AEF-83DA-40BC04A9194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3569D0CF-A24E-4712-A6BF-BA79E868421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AC7B780-FAD3-4215-A26B-66DAD3801D8B}"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3118CF39-90BF-4886-819E-D31E825309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51C1C8EB-46BE-4858-B1FB-04A6BA2BF8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42BB2A9-607A-4E51-A1D8-0520024F9A3F}"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9A1DCAD-6397-4BDF-9903-00D9AC6EB086}"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8841F941-E28A-486A-9D12-7CDBA6D04B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4A5EEDD-FAD6-4799-AEE9-2FFDFAC040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2DB62D59-D862-41FB-ADB1-1F4DA7431351}"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F053CD46-A3BE-4F8D-8013-5E61183EE8BA}"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BC6EDDFC-48CB-4487-8AA4-05E620EC3262}"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261AE243-EFE6-4D70-9F9F-8F4F432BEE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263C304-9CAB-43F5-92FB-FB721EC3F0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6305EBC-ED27-4337-BAE6-7923D9CCF2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06DB566E-4C8E-4928-9893-26EA08EB40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2412044D-B595-4A0B-BD5D-2BDA25F7404A}"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ACB91BB6-1063-4661-BA28-47744CF52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DEC19F3-7D99-40AE-946A-A0F370CB48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B403B530-B878-40B7-B587-97DC9A6927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637AB14-AD0D-4FAC-A097-E450763892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CB8DACE-E24C-4B2B-92B6-63CFCF49D3F2}"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D8DC5F3-08AA-4CB4-B213-50B0542551D1}"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BD8871AF-56C8-4CFF-A3D8-0AB4E388ED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47C4863-7E7A-419D-A550-C2C26F0489C1}"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C2C8667-326F-4760-9F27-6705C906BD9B}"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2B7D197-76B8-4901-8402-F9347E112018}"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0382793C-F86B-45A3-A4FC-2FCFD094A295}"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1121778-00EF-4D10-9438-5353156AFA4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3F3C7084-A3F5-4FC4-8879-AF43DB6B5C4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003FFF5D-6FA0-4586-85BA-AA21885983B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1BA28C2-10EA-483F-B10E-E828860B92B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70F4875-041E-46E8-9A0D-06BA2662C49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D2E9DC5-E3C5-4A2D-96D3-EB4AF222189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7254674-C1CC-40FC-B74F-0197C5DA39E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5C657404-51C1-43D8-9B95-C58BB4FDE3E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F34262A-C678-4D26-873E-74F3078BF224}"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BC01B31-BCA1-46FB-9AF2-EB6891EDC29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73BBBB5-903B-4136-97A1-94639DD98A6A}"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B3569D3E-A5BB-4B19-B67D-85D53EB3B08C}"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24FC3055-2ED0-4A4D-85A0-5F65A2B3AFC3}"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B0A099DA-0D7F-4B97-9A41-F04FB54773ED}"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C7CDA9BC-7E9E-487A-8215-150F206D0425}"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383D22CE-24B6-4528-997B-0F2B6DD6961E}"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9BDD3EF-76FD-4336-B11E-13637330036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D0DF284-08DE-4225-8C1D-6A55A2EA0F7A}"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1FC0834-50C1-4E2E-957B-82A49E564AC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55C6CDC-6BFA-43F8-97FE-C2D571AA4D0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B83B2ECD-3D49-49C9-8A48-F763E4B95DA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F9BF40C-A165-4448-BBF8-7E3059A681D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2314480-7DF8-4539-9A93-C0A72736B5DB}"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B47100F-E158-456C-9F7D-A21D6A5CB59B}"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882C678-26C6-47D7-91E4-155A446D9A2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438983C5-4B4C-43E8-BFDE-421271C8C85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29B7BEB-A5CD-488A-8956-CAC7DEC2ED2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5A0CD898-3376-4D82-9C2C-4DF4BCF0E80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7D3DA7AE-A11D-4541-A70D-20B9E1405144}"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A65ECE-F16F-444C-B5FF-CBD977614A2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DA50018-3BCF-44A9-B1E3-1F18F4286BC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127963-EF99-4386-B5AE-75AC9924F4C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9029B82-19B1-45FA-AD43-24CBE5F69290}"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E633E8C-2B6C-4D54-82E0-611DC6C2604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CC55E0-3857-41E7-9821-64FE39C01AC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6156B55E-EB38-476D-974F-77D5C1FE4E6D}"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1BE9A8B1-F096-4391-B091-8F7235538ED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89C07979-B209-4958-A331-055E14CD28D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78E8E40-E264-44B7-B4E4-33730B5863F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58BA745-45D3-4D1C-A5D5-ADF715CC016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C56D9501-584C-4C27-8C36-15F417B5BBB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6BCA528-1C52-4861-9D48-954015BACA4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52AB4B03-17B6-4B1F-B13A-DD8E5A0C9AFB}"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97ECA2B-6ACE-4C56-88E9-10B3423CB8D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01B7B9D7-13A9-4E4F-99C0-D44BD88C43B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00A5CF37-95FD-4F4C-BFBF-8D354B0886D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946197E4-969A-455D-8F61-6E7CBBF7C1C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BC86A6B-24F1-4CD9-B2B2-C70F756ED10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D9E37F48-A2C9-43C7-AA4B-CE31406C813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601B82B-92E1-4C78-A1B6-9E82D9D2F56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EF89C594-12FA-44A6-8E49-C9EF753DFE0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ADA8CDA-C50E-4BDC-AD7B-2B1805795D7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udir a las fuentes más cercanas (amigos, compañeros, familiares, etc.) o a especialistas e indaga: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D1FC528E-47FA-42BD-BFBA-F82FD1026C3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0859E80C-0245-4B8D-895E-E01D77FF417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052A3B9-24E3-48A7-A52B-36B4399DFF73}"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1C4C724-9E10-42EC-BCAE-49331BC8EF6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5D1B055B-7CB4-4B5F-A897-00BDBDA464D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D47DEFF-6979-48F4-8099-741847E5287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50D2716-0F07-4C96-931F-FDF6FED0999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776E9F52-B40E-4961-926B-73EB123A734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CCFC4FE-DF6F-424E-AA81-63F60927CF2C}"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7325609-FC8C-4ED4-9302-A2A0A7257C6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D377F97-3E24-4450-8193-D7DFC028822A}"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46979CE-216C-4206-AA48-47AD8B27595C}"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0318FB6-D1E3-4611-BF46-264853BA9E82}"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066834A-3111-43C6-BAF2-AB8C2A70463E}"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8CF0A6-A41F-4C20-B294-0C5238E43B8D}"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2FC4058-611C-4199-B9AB-082FF8901794}"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109BF6-1150-4EE5-B519-9AF13EBE4CEC}"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B89943BB-D38D-4ACA-A56D-8C4A9686A80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B179731F-1734-4276-B30E-54128715B99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2B5855D7-6AE8-47C2-80E9-ABBAC32C189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laudio Salvatore</cp:lastModifiedBy>
  <dcterms:modified xsi:type="dcterms:W3CDTF">2006-09-04T22:43:35Z</dcterms:modified>
  <cp:revision>309</cp:revision>
  <dc:subject/>
  <dc:title>IN627</dc:title>
</cp:coreProperties>
</file>