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B383-F0C9-4C5D-8651-A8D4B241E1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474A-9F07-4F02-91BE-B1F94992D1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4CF5-9A53-4BE4-BD65-210C72AAD2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09DC-604C-47D3-BFA7-997487A1F0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7919-D5A3-45C3-8EED-C2A2D20C9B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7540-86D8-4F5E-85BF-E0059D6467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15CF-5F4C-4627-A158-A06A1C30B8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4BBC-D72E-448F-9444-1DCE221526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8629-1DFA-4065-85A6-DECE261F1D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8E13-E06C-4313-ABB1-9157DB0ACA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FCA8-E35D-4158-8A8E-D44F1015A0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0721-7758-4F89-9E8E-5967699A36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4E5E-13DB-4E0F-86B7-BE7EEB6013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8D4D-3BE4-471E-AEB5-5F18FE0804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D2E9-7C42-46E3-845C-A415443FF3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E493-2B67-4CCA-A3AF-855091B954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E17E-8572-4791-8391-2CFA02639C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4F0B-058E-4C68-90B6-08EDE80F51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86B1-FA47-48CE-BF10-3162605F07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3BC4-0E8D-4C2C-ABB7-C1021B43DF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1470-AED0-4E00-8F31-8C5E95F6C2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1CAD9-599D-49A4-8390-4ED7BE406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B332-5D1E-4933-A644-C31372E30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93BC1-685B-400D-A524-F512BD723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0E45-807B-4185-ABA9-2DE18C09B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50DD0A-7614-438B-822E-88C46FE57B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A77A7-64F9-4C0A-83B8-299C0149D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6D9D6-A7BD-4A1A-99F3-6822E1B51C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03CC5-E951-4FB5-B68C-86F49D7D6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B9059-E9B4-4504-A6E4-FC322E90C0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1E7AED-B10B-40DE-A369-7927CA9D0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5EEB6-8D31-4029-9F80-29890EBAA7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C542-8325-4D8A-9640-3136B1397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98096-1177-4F72-B283-84C17106B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3640F-1CD2-4B72-B531-4F78AE5B18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8C3DE-7DC9-40EA-958B-CD115299C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5D892C-D28F-4F8D-8532-51B671178D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19D435-40AB-4271-A747-407D7A3AF6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DC333-76BF-47A9-B149-1D454863E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F353-F0D2-474D-B27A-CFB03F30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CB90E-1CA4-4C39-8E7E-3C4DE183A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AF0F-E1CC-4283-8AF8-711A9894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A541-19E5-40C6-A932-F94A0497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44EF-841C-4067-8621-E11B3780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0751-63F5-49FC-BED4-3A31ABA36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24A8-F3BB-4E06-97FC-FBE57A166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E82C-AA36-4232-8785-25A7FFC7A09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E47E971-334D-4174-91EA-97007680A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C58FC4A-F008-4E4E-A72D-91B84F4818A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70FD437-5035-425B-9287-D29DCB33BB8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82503E56-D5BA-4028-AA6C-BC673BE5157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E2E7F4C-C864-454A-B384-CDDAE4E0FFA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188D1F0E-24C5-416A-94C2-0AD78E5B9EC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9504C51-DF38-41FA-90D1-946C6313A108}"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3B2EE53-29F9-40FC-88DA-BFCBD9449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1A28F0EE-806C-4463-AD3B-2D702DA83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0F6DD0-F146-44C1-A293-B559DA382828}"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6917BB1-3CFB-4702-8625-799CF120E9AE}"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0903E66B-C2F3-4418-B163-EF6D16B72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0D95494-1A93-48D5-94E8-2639F64C1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A8227638-3E40-4D95-8282-FEDAFCFC7E25}"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73E2F484-BBC5-4D86-88B7-FC418C0DEA9E}"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FD8D136C-5CB3-42E0-886A-DDF27DB64DC6}"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691B13EF-6B22-4632-8620-D0F38264D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333CF58-9867-4D85-AF4E-69B92636F3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E2DACE1-2C8E-4FD1-9A25-EABECFE3ED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1B386CD-6D76-4AAE-BF6A-A7DBA029B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A36CF30-4662-409A-A922-CDAAEB4A0C0F}"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6B5D8A9B-F11F-4D55-A6D4-96F35D2626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4343251-C443-414E-86C9-4190251C4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058542F-3A51-4979-9356-74CA2EA15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ED7C72-B7B8-4B4A-83AE-04ACF02110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4AE216F-C3B6-4FA7-8D79-CC74C06634E1}"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FCAFDB9-BB9C-4C26-95D8-4884C1B979BC}"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9F71D246-047E-44CB-BFCA-41C60AD7C8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8BE7DA2-6804-43E9-A120-573E525CF289}"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8D1606D-6881-4DA0-9C40-EA4473393BC4}"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1DF4B90-3073-4FEB-AF2A-0930B7B7C23F}"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1D420B6-B016-4E8C-A621-40260F188B62}"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C5E8249-02B5-44D0-833B-567324625D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D1F125E-E14B-4DF8-BABE-3A927CA398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61645B4F-6680-44E4-8CA9-C045F1CA57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4CED49-4D55-41EF-AA26-4F5D9895F9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549E04-9AE6-4C59-9FBE-C8CFC8C7D74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672631F-FA49-481B-AB31-4B4A41067C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98DDD5-C57E-433A-973A-3EE38730FD1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95720FF1-059F-45A4-9898-9A8452643D7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507665-D175-4F0E-8726-3F90033D2099}"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B1F382A-AF2C-4FB8-A0E7-154752272E3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41F6B2-B700-40F8-A256-384AC1D75762}"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282FFC1F-40BA-4559-A46D-78ABB000F8C3}"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AFD952A-52DF-45C0-B9DD-B188A1F24306}"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1CF81E5-503D-4822-8968-C33D6FF22976}"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DA176811-89FC-4702-9D3A-0AA1B79CDCFC}"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78EDC41-984D-4091-B436-66D21E09130B}"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35DCA9B-C6DF-49FA-8AAA-FB0E48F521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13C274-A28A-4B31-BD62-CAA2AA3F78FA}"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4364012-C3C7-46DD-B5C5-3C896AC7FB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37C97E8-88AB-48E3-8C63-3ABD8AC856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EBB3244-A80E-47F2-A2F9-C42C729DED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9568FFD-C06B-4774-9D46-855DB0AA5A8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FF905E5-AF11-4ADC-8B8F-5DB3734EF92C}"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A05A1AA-B830-45BD-93B4-A9B72A78CC14}"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3F15563-37DC-43EB-8E9E-0D62A365D49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D115AD86-002E-4D7F-8488-26434CCD97D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F3AC597-A8C1-446E-BE25-916410C261C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012DF9AE-B478-42F4-AA3B-0989858C3A5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0017AD3-3DF2-41E9-8CEB-2D6B42ECEB2D}"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BFCDEA-B544-4332-A188-B054E2EDF36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760712-1002-4D8E-9B21-D51723C7B02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C68B57-6E72-4ABE-9ECE-032C1E3D67F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B68632-74AB-4DF1-A43F-4ADE4F4C137A}"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3EFB03-9FEC-44DB-B9E4-2EBD7FA7F95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B2A1CF5-9C29-4D24-8D05-F6B91131957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A8D56150-1BDD-4DD7-9CF2-89A37B6C9F02}"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57D346B-4CB5-493B-B6B7-1690CEAABAA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1FE55435-5126-4E8A-A8AF-B6E9B84218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41E1A2C-F83B-4712-B71A-CAE8081000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9115FE8-6268-46AC-AFB7-C06A5C7458D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EEA7DB1D-BE62-43F8-A60C-2898D7701CC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9A2CBCF-887C-4CFA-A438-30513F457F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5ECA5A2-9646-4C3B-9C64-731FE9DDE033}"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7EA0FF-ADBD-4DDD-87A8-E65853DC058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87973A5-86A3-4169-AE1C-423AE09CD24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62F33D8-0707-4B8F-BFC8-FEB2C4AC06D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0ED90D3-D982-4A31-91F8-E090687316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15D7365-7F24-4B15-A2F3-71A63B30F63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A41E369-42A6-439C-9A33-5E85F311ED8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A5CAB68-2FE6-4C3D-BFFE-0C974BD8CEC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3C57560-BF2B-479F-890C-A5B93E4923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C07F574-8EC8-4904-90DA-A88C2ED582C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udir a las fuentes más cercanas (amigos, compañeros, familiares, etc.) o a especialistas e indaga: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3A02B0CA-E400-46CA-8699-85868C225BB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10509AF-EBE5-4EDE-9BEA-8237EC95E00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FB61DF6-EB68-4EFC-861E-67CE5214CF6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E942B82-40E5-4F38-BF5D-4C7C398076A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E802A54-1CE9-4768-A48E-DE6C84C2F16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BC2DAA2-BF01-48C2-99FA-5F98D501F6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4BE87C5-907D-42E8-979C-726ED578DB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305EA178-E29C-4E50-9BE6-7BECA05D120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D525D5-CC55-4031-B1F1-77FDBF325733}"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95E56C8-59D6-4046-87FD-0CE0B901F2D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E4272E-9785-4000-A317-10D3F90E7E85}"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E18C82-4FAC-47D9-A171-DD67FA77609E}"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DD5E02-E6B2-4AE3-A26D-12A984BB8F84}"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5A547A-8656-4664-978D-5C7318FE2517}"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28086D-4E22-4C43-8712-01E3AE3F617A}"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1B2706-0A37-4D25-A4E2-95F2781F8B8D}"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8842D9-B650-4A78-B422-BDEF2632709B}"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EF8508E4-C284-41D1-96C5-8EE82D71850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BAF1EFFF-31E0-4BBC-87A0-8C2F911C2F1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33F5E565-FC32-427B-827A-E439E3EB3E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laudio Salvatore</cp:lastModifiedBy>
  <dcterms:modified xsi:type="dcterms:W3CDTF">2006-09-04T22:43:35Z</dcterms:modified>
  <cp:revision>309</cp:revision>
  <dc:subject/>
  <dc:title>IN627</dc:title>
</cp:coreProperties>
</file>