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3C96-CA74-429B-9A2B-65917E021D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C5E8-F95D-4FFB-A843-35ECE7B867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67904-F7CC-462F-A98B-4A069F4A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5683A-0938-4D5E-8FFC-2E8F47775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62063-76B3-4D20-92E9-05385C327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30E97-4398-4F94-9F05-54CAE1D40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2B77F1-5371-4DB9-91FC-61B55513F7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6EDEB-35A0-4BDF-8D37-FF6457879F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A510B-D13E-4369-A080-BA6C942DD8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30C2B-54CA-4C7B-8D57-A8966C860E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6531D-FC54-4F32-A809-C54FBA68A5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2E727-4FD3-448B-B008-8CB617EA7C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2FA57-D116-450A-B9A4-746075480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B7EDA-277E-4D40-8B73-6C25239C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F3CB2-E9FE-4420-9E2D-66C7311FC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8E93D-8A2B-4B4F-B349-D6828E4559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44A1ED-2F77-4E6C-8C9B-5FF6A9C4B1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6E67BC-84B4-4389-BE3A-5D51E08B80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26DD6B-91B4-4917-9823-31253648C7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F35E-8257-42F3-B5AD-C08CFEACF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BF84F-4E7F-4D10-8634-80DAFC591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D583E-5144-4CF1-AA0F-B83154012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80710-AE32-43C5-85EA-8A49E59A8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B4D6-D4CF-4148-B97C-ECB8F1B9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D68BF-3593-4083-9698-4BCEB14B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2728-BE46-4BE6-8759-FFC9A2F4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2E1E-6763-4370-A761-B99711C04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EB46-440E-4566-90D0-0DA5BD5C9A6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51DA744-3ECB-4512-893D-EC6F9681EB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8F5143AD-C2EB-4A40-8F7F-4C5EA1677E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A75FA715-0D82-4E95-864B-571643C5AC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254016A-6FF3-4ACC-8DD8-DD0DFB0F9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7928CC-8279-4985-8C8E-043747E31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777DA47E-6F0F-4A2F-92E5-3E07329731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E978B3A-19BE-402F-A1B6-0D81766383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B1AE85DF-5989-4082-A09C-31A12A9E0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B47B924B-43B9-4BA9-ACC8-1ABB9005E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627,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1721C0A8-4AAB-4E1D-9903-C1683639B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1B3A9F29-8AEC-4D9C-B42E-F5954B824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BF74A8B1-3C1D-49AA-8162-3A434C23B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356D90C8-D18E-4C6B-BEEE-1A9D6D29E9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E2FAF6D-16A8-4B9E-909D-445A45802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654525-D3A2-43F8-ACD5-072E1546B1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8F1C02C-CE0D-4913-B4BD-D742CB318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559A1E4E-9A66-4873-A254-87B676E0F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255A26D7-DC72-4C25-B13D-1DE1719C54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24144BFA-FB29-41F2-B144-075456B296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8877E76-4CC0-4006-8143-74045EA0E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22D759E-0A89-4B6C-B4B1-AEA149B3B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282302-12BE-40E3-AAE5-C1694F5D16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7B120C80-7C9A-4C5E-A99D-50C13A7C3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3CE80AD-73BA-4D9A-9524-FD970E485F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8BAC8107-1A75-4E61-A609-91F4F8B1DA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45BD68E8-D6D9-4B9C-818C-CE614EC5B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D4631F5-16B2-4AEF-BFEC-237168F3E82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FFC6EA5-BEB8-4016-905A-43BD5017DF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1C69E2C7-127A-4502-A7E4-1D22C8C2F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74FABB2F-469B-4811-B416-6C5871B9A2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86DB03B-3029-4235-8D9B-ED3B010E08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29CEB70E-8474-441B-8970-7413D20E88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4ABF777F-2494-48A7-A534-28827E6AB0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E0F0D43-15EF-45A1-820D-F38597447FE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0F5F943F-E56A-478C-B9A3-5AAA07738A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E3972B78-9F73-4514-B2C8-C0318C5F04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97A5F3DF-61B2-4AAC-BF16-655CEEA5E9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143D8D02-003A-4D18-A21E-44B1723FD1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C61A98E0-975B-48C7-BEA6-E8128096DC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EBBD0D7E-C995-4B57-B361-5E196FF2CF7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2BA2960-7AA3-4C39-87E3-7C92CB5EFD3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70DF98F-B7BD-42EE-9E4D-F5950E4B99C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EF08D68-A9CB-46AB-AE42-AC5689BBA69D}"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429DAD-15AE-479C-B29F-1F73F82FECF8}"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9529ADD-623F-4E69-A93F-AD683C0928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7CCCD3A-0489-489F-A6DD-EBCC517BC363}"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04EB75-C792-4FAC-A5ED-5F169E4848FF}"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059280" y="3267000"/>
                <a:ext cx="1465200" cy="4287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0A9C829-02D6-487D-AD33-478BBCBDAF7C}"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29BB624-1771-4CE2-92C1-93942F0CC808}"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CD471DD-2B64-47F6-A603-D04FC6C4F8A1}"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2D78544-C656-492C-B5E8-00FB77F3E331}"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CD7906C-DD11-4A65-A51F-B087C27DA65E}"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738BA01-20B7-466C-8918-FF2E73BB4FAE}"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2A60BC3-F694-473A-A850-61FEBEA5F034}"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5E464A-31C2-4D6A-B2C8-6B66855ED08E}"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EA920B4F-3D86-479B-8B94-5B5183EC7B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FCC5F21-40B3-4CC0-8827-51B46A64AAB4}"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7DBD9B-BA53-42FE-B217-C1AA22800BC4}"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494866F-AD54-402B-849F-826F1C74F377}"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C975C4-4D5F-467B-B2A7-B3ABA09E028F}"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D1D5DDA-F100-4FCA-9A38-05513746FCB2}"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F10C530-4660-48FA-B6EC-2B096369D5BF}"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F4C986B-66FE-4242-82A6-4938939B7F3E}"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3CE857-C6CA-48F2-8DFA-5938D1A98F94}"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E9AD1E77-AA5F-49DD-B569-A2EF1BDDB4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25677C2A-7FE7-4B3A-9F62-BFFB32F457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56EDD782-B112-4EF6-89CD-928D840F8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29T04:20:30Z</dcterms:modified>
  <cp:revision>246</cp:revision>
  <dc:subject/>
  <dc:title>IN627</dc:title>
</cp:coreProperties>
</file>