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5B32-8B68-4DCA-A060-66563C441B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4C04-9541-4364-AFBC-D7F860DD2A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6413A-DF67-46C0-AD7A-D40C679F0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133CB-449B-40CD-8761-6A1AFF45F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6BA71-E3E0-40C4-8292-557D5C04E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D5EBA-0A00-40FC-9EDD-B2A76D904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619C91-8E57-405E-9023-D16EB8E1EB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227366-CD86-4520-828B-B09C7A55BD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FA251-C754-4158-BD6F-880FA9E37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ACCA90-982F-467C-B60C-040AB3760F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C92B1D-DEBD-4EAA-9602-4EC8138CB0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81ED2-99DF-4514-BEF2-052006D90A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9CE02-9C27-4994-8F21-AAA2636502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B870B-0AE0-4D31-8778-9A297D5AE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7F16F-76B9-4E75-8982-EB810CF2FE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E984A-843D-46BE-A924-C94AB90A1E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C06E3-2BAC-4CCD-84FA-262874E2B1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BAF07-F29D-45BC-BE7A-B3156FC77B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6143F5-112D-40DB-951C-E191C829EA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806E8-0F73-4928-8E00-1E0811DE6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246F-BD43-4FD1-BE0D-EFED9F052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44491-67E8-49B6-ABB0-4A9802EE9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94497-1FDA-4404-BB83-9DDD366D8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A876-D0CF-40FB-A698-3A84893AF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1114-7CE9-42AB-96A6-F4DA5F8E9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E2F2-3ED0-4354-ADFC-65E195141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943C-EF3B-4C8F-8C04-41163E3E1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EEA2-05A1-48E1-9997-A9F5BFFFF3FF}"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7089CF6-611B-4AEC-8856-ADC68DF5FD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B93597BC-22E5-48E4-9B73-5FB655A64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B39B63FB-50D3-4DAB-AF48-4F40ADF2E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B5D3CA7-2C51-413D-A0CC-B95DC5BE51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1374EB-DA4E-4BD8-9D69-ED5E43ACF7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3C9FD148-458A-4CBE-ABE6-C97607F63A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30501A4-A423-435E-8970-599DB8F88A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C60294BA-CAD3-4E59-932A-98E3B5A6EA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9399C8E4-56B7-48F8-8928-1CA947A86F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627,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F926D3C3-48E7-47D3-92C7-B9FCD68F48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4E96EC9B-96B8-4756-9BD5-1BA3321956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0C547064-DAEE-4660-9A49-627BE0D6B8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8D582121-1B6B-4496-B4E8-618219B053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C852178-F730-4E6C-8964-DB4838972B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55D0480-D528-4446-99B9-24FBD53047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309DF910-C3B0-4872-B014-970F997578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B619419C-6DAF-4122-BEFC-3CCA047A7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C88117F4-07EC-4B7F-B2E8-6103B67CD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93207BCF-FC4B-448C-A8A6-5DD011C8DE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D5138DE-16A8-49BE-93EC-E585F798B9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7B6A386-D4A2-4F8F-8671-765CED4B9E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85FE82-3AA6-4B74-B8E9-FFE0403279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6834C720-E989-404C-A2BD-032BE5B8F3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E46C2A7F-350B-47BB-BFD4-4F22799E51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A45E273A-4088-4D55-8405-C377C29960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7F0D009C-EEAC-44F8-93B3-840DF1E844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983E87DB-37F0-4D6F-9E1D-6D86ACC92CF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826C643-46F9-40F1-A9EE-DC81D0CA64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17D7FC8B-A352-472B-9DB0-255FC68E99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A2232CA5-64FB-4806-9BBE-94EC490E57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EF1A606-A835-4009-8C3E-ED98BBD382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BC4FAF03-95E2-4B97-BAFA-4BB5DF070D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63BDC37A-E430-4C36-A764-567DD4B99C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739D7A8-8F1C-43A5-B9F8-B64A873027F2}"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5958706B-FA54-49F3-9E2A-507CA35CFF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9BE2D8DF-1E67-4D7C-ABC6-EBA2A9B866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17AF83D2-F95D-435E-995D-42139B2F86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4B485107-112D-4442-98A4-62C91B5424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90871D28-1CF3-47CE-9754-9BBF78B507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2996B82F-4599-4225-B6E1-2E9B87A334F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F8F4326-A478-418F-BD09-F8C6871729F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CB79E92-09BF-491D-AB18-7CF2BD99976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C728CAC-BED5-4AF9-A342-1A001C95712B}"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09DCD4A-5944-49AE-B19B-B85BFEEF17E5}"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14E73FBB-C30E-4905-8E1D-5D7CE73A94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05E0454-0DDF-49F9-9001-C1ECD1C026A1}"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40CD46E-EE4F-404C-83BC-ED48F01101D0}"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059280" y="3267000"/>
                <a:ext cx="1465200" cy="4287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0E0056E-B568-42F0-B148-018B0C21FFC1}"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7C1312A-F451-4890-842C-72DE79C90DDD}"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ADBF0B0-4AD6-4FF9-945E-001B9B71E392}"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BB859A2-5FA8-447E-A29F-05B913EA92D8}"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F37669A-5EA2-406C-92F5-C017B97F467A}"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A27BA28-1701-47E5-9F33-41A63E3420EF}"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F8DB3A8-0D10-496B-8667-73B83C026FB4}"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CA0F1E5-3A56-4F61-AA15-D4BE73F25501}"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8E4E4D33-B083-48E0-BA30-8D6AF2496F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B93A199-A89E-4B4F-A3A9-66F0BD089E67}"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29C1801-2E63-4BFC-A43C-3006AB7D36C6}"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D0A5E8B-9C3F-4095-B7D8-398A69E2F97F}"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1FCD82A-085F-4E89-A973-BD6100994B9B}"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D4876D5-400D-4B19-912F-01BE7906F04E}"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DE423B3-5EF3-49B5-BAEF-245882B01B51}"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F6B5016-BA45-473F-853D-F83B9998BF8C}"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6FFEA96-C831-446A-80F3-EDDFDA387EC8}"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BD8C8EEE-EC96-4706-A3C7-B76EB76E38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E5BF5295-6108-415F-8984-0F8128E37D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7C5ACE7E-AA47-4FD9-BF9A-A837353326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8-29T04:20:30Z</dcterms:modified>
  <cp:revision>246</cp:revision>
  <dc:subject/>
  <dc:title>IN627</dc:title>
</cp:coreProperties>
</file>