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54E-5F1D-40EC-90BB-99E2428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1B7-F3FB-4CDB-BCFC-196AF018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8E7-F696-4645-9916-621CD353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000-409C-4D1F-A010-CC38E4ED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649DE-EC75-4557-865E-4C87F79ECB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D0853-2784-4342-BE76-609C14EB3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B34B9-43B1-4394-B787-961C287A7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49FE-5101-4328-A1A4-7243CFB1F5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171E3-AED6-4B23-B9DA-C8861F1FBA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57591-821D-4202-B958-57AB4839B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226BA-CE5D-440E-866D-C4FB5C5B7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7A3-88D8-4B9E-B859-3C8A740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5D225-45E0-4D5D-932F-C76DF9EC1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6601-B094-41FB-96F3-B3E375AB79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731D-C221-4841-B9BA-83F19E1C3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728F2-618D-4572-B593-916B4ACE81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83CC-8044-43CE-87ED-929B94DD7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3FD-5A0B-41EB-8057-38377880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CBB-27C3-4A77-AE68-D3C4787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CF4-10AC-4D07-B939-BD2ACAF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8F2-E13E-4499-B455-622E71C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FAE-9CB4-4981-9EC1-3A3E204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FEB-E586-48F0-B1B0-54FEF91A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46B-9B7E-48CF-8C62-3342C5D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DE2-3170-44BC-99E8-F9C4192A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BC16-A1B9-4140-901B-8778F6FC6B6A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627</a:t>
            </a:r>
            <a:br>
              <a:rPr sz="3600"/>
            </a:b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vestigación de Mercado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BEF-3005-4FF6-BD35-EB19C5A592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2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2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7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7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C46-2A19-4AE4-BBB7-333272C92849}" type="slidenum">
              <a:t>10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8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8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9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9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9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20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20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20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1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1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1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2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206-82A1-4381-8518-82B7D22A7102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2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ra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3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3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3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4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049-205C-44F8-9496-2A7305D1AF97}" type="slidenum">
              <a:t>1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133-738C-440E-9F5B-01ADC5D72A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D47-0F37-482E-BAAC-8CF51933AC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7" idx="2"/>
            <a:endCxn id="25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8" idx="2"/>
            <a:endCxn id="25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endCxn id="25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0" idx="1"/>
            <a:endCxn id="25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64F-9A57-4F51-A689-48AE394D7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2"/>
            <a:endCxn id="27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0" idx="2"/>
            <a:endCxn id="27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2"/>
            <a:endCxn id="27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2"/>
            <a:endCxn id="27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318-5E60-47C7-8E76-DA15F908A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260280"/>
            <a:ext cx="854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0880" y="1679400"/>
            <a:ext cx="7602480" cy="1130400"/>
            <a:chOff x="380880" y="1679400"/>
            <a:chExt cx="7602480" cy="1130400"/>
          </a:xfrm>
        </p:grpSpPr>
        <p:sp>
          <p:nvSpPr>
            <p:cNvPr id="280" name=""/>
            <p:cNvSpPr/>
            <p:nvPr/>
          </p:nvSpPr>
          <p:spPr>
            <a:xfrm>
              <a:off x="1155600" y="1679400"/>
              <a:ext cx="682776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380880" y="18288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80880" y="2868480"/>
            <a:ext cx="7547040" cy="1130400"/>
            <a:chOff x="380880" y="2868480"/>
            <a:chExt cx="7547040" cy="1130400"/>
          </a:xfrm>
        </p:grpSpPr>
        <p:sp>
          <p:nvSpPr>
            <p:cNvPr id="283" name=""/>
            <p:cNvSpPr/>
            <p:nvPr/>
          </p:nvSpPr>
          <p:spPr>
            <a:xfrm>
              <a:off x="1143000" y="2868480"/>
              <a:ext cx="678492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stimar el Valor de la 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nto se está dispuesto a pagar por la información? ¿Cuánto gano o dejo de perder si cuento con esta información para tomar mis decision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380880" y="2971800"/>
              <a:ext cx="762120" cy="7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380880" y="3884760"/>
            <a:ext cx="7675560" cy="1130040"/>
            <a:chOff x="380880" y="3884760"/>
            <a:chExt cx="7675560" cy="1130040"/>
          </a:xfrm>
        </p:grpSpPr>
        <p:sp>
          <p:nvSpPr>
            <p:cNvPr id="286" name=""/>
            <p:cNvSpPr/>
            <p:nvPr/>
          </p:nvSpPr>
          <p:spPr>
            <a:xfrm>
              <a:off x="1143000" y="388476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80880" y="403848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80880" y="665280"/>
            <a:ext cx="7531200" cy="1130040"/>
            <a:chOff x="380880" y="665280"/>
            <a:chExt cx="7531200" cy="1130040"/>
          </a:xfrm>
        </p:grpSpPr>
        <p:sp>
          <p:nvSpPr>
            <p:cNvPr id="289" name=""/>
            <p:cNvSpPr/>
            <p:nvPr/>
          </p:nvSpPr>
          <p:spPr>
            <a:xfrm>
              <a:off x="1181160" y="66528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0880" y="838080"/>
              <a:ext cx="685800" cy="762120"/>
              <a:chOff x="380880" y="838080"/>
              <a:chExt cx="685800" cy="762120"/>
            </a:xfrm>
          </p:grpSpPr>
          <p:sp>
            <p:nvSpPr>
              <p:cNvPr id="291" name=""/>
              <p:cNvSpPr/>
              <p:nvPr/>
            </p:nvSpPr>
            <p:spPr>
              <a:xfrm>
                <a:off x="389160" y="85140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7880" y="99036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3120" y="108684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7880" y="90324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3880" y="12070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6640" y="119844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6880" y="122472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960" y="140400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6280" y="85140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60" y="141264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680" y="118584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80" y="98172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89136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840" y="122580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8680" y="104148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4920" y="136548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8040" y="109008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3120" y="111672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7720" y="101160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040" y="106344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9560" y="104148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3120" y="114624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8240" y="99108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5240" y="100440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2560" y="102564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6880" y="85284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040" y="85140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1400" y="141696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880" y="104256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3440" y="120456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4040" y="103068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2680" y="123048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5240" y="87228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80" y="97740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8960" y="118152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960" y="101952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6520" y="100476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2600" y="83808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480" y="140400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34200" y="107172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040" y="119124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2760" y="135756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4240" y="97416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8800" y="98748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080" y="99756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0400" y="122904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0960" y="122328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80880" y="4807080"/>
            <a:ext cx="7704360" cy="1130040"/>
            <a:chOff x="380880" y="4807080"/>
            <a:chExt cx="7704360" cy="1130040"/>
          </a:xfrm>
        </p:grpSpPr>
        <p:sp>
          <p:nvSpPr>
            <p:cNvPr id="339" name=""/>
            <p:cNvSpPr/>
            <p:nvPr/>
          </p:nvSpPr>
          <p:spPr>
            <a:xfrm>
              <a:off x="1171440" y="480708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380880" y="502920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5727600"/>
            <a:ext cx="7765920" cy="1130400"/>
            <a:chOff x="304920" y="5727600"/>
            <a:chExt cx="7765920" cy="1130400"/>
          </a:xfrm>
        </p:grpSpPr>
        <p:sp>
          <p:nvSpPr>
            <p:cNvPr id="342" name=""/>
            <p:cNvSpPr/>
            <p:nvPr/>
          </p:nvSpPr>
          <p:spPr>
            <a:xfrm>
              <a:off x="1157400" y="572760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304920" y="594360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D63-A659-4CFC-9E59-3678BB9BB480}" type="slidenum">
              <a:t>1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4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E55-0B14-4C0D-8D27-873850C3D531}" type="slidenum">
              <a:t>18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3EC-69DB-45FE-ADBC-D2BA3A109581}" type="slidenum">
              <a:t>19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700280"/>
            <a:ext cx="7559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gene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finir, diseñar, desarrollar e interpretar una investigación de mercados para, a partir de los resultados de esta, poder entregar información útil y relevante para la toma de decisiones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348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E7F-EA76-4D69-B571-00F9BBF902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490400" y="1133280"/>
            <a:ext cx="71960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Estimar el Valor de la Informació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¿Cuánto estamos dispuestos a pagar por la información?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cepto de valor espera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14400" cy="89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80880" y="4815000"/>
            <a:ext cx="1657440" cy="79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viene gente ($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1360" y="4815000"/>
            <a:ext cx="230364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400 personas semanales ($15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59640" y="4815000"/>
            <a:ext cx="237492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1000 personas semanales ($40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05000" y="373392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Poner un nuevo Karting en Las Condes… $10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2960" y="5857920"/>
            <a:ext cx="8037720" cy="346680"/>
            <a:chOff x="552960" y="5857920"/>
            <a:chExt cx="8037720" cy="346680"/>
          </a:xfrm>
        </p:grpSpPr>
        <p:sp>
          <p:nvSpPr>
            <p:cNvPr id="408" name=""/>
            <p:cNvSpPr/>
            <p:nvPr/>
          </p:nvSpPr>
          <p:spPr>
            <a:xfrm>
              <a:off x="552960" y="585792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0284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7920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219320" y="4060800"/>
            <a:ext cx="6629400" cy="685800"/>
            <a:chOff x="1219320" y="4060800"/>
            <a:chExt cx="6629400" cy="685800"/>
          </a:xfrm>
        </p:grpSpPr>
        <p:sp>
          <p:nvSpPr>
            <p:cNvPr id="412" name=""/>
            <p:cNvSpPr/>
            <p:nvPr/>
          </p:nvSpPr>
          <p:spPr>
            <a:xfrm>
              <a:off x="4572000" y="4060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43657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93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87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458-84C7-466D-B93C-719048E40D82}" type="slidenum">
              <a:t>20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stimar el valor de la inform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te para saber cuánto estamos dispuestos a invertir en un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l valor de la información puede modificar radicalmente el diseño de l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Herramienta tradiciona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B09-853F-469A-87D8-3D2C74883E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24092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Ejemplo: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Evaluar la introducción al mercado de un nuevo servicio bancario para el próximo verano, a través de una prueba de concepto (por ej. cualitativa mediante focus groups)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1: Éxit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ganancia MM$ 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2: Fracas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érdida MM$ -2,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éxito: P(E) = 0,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fracaso: P(F) = 0,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gún experiencia de la empresa de investigación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exitosos la prueba de concepto es positiva en 80% de los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fracasados el test de concepto es negativo 60% de las ve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¿Cuál es el valor máximo a pagar por el estudio (prueba de concepto)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51B-D2B5-4847-A9CD-04D119F3C2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27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32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437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447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452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38210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7543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9920" y="46483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8480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F60-CA15-4617-AC64-195EE8834A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Calculemos las probabilidad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P(Pos/E)*P(E) + P(Pos/F)*P(F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0,8*0,6 + 0,4*0,4 = 0,64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Pos) = 0,64 ; P(Neg) = 0,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P(E)*P(Pos/E]/P(Pos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0,6*0,8]/0,64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Pos) = 0,75 ; P(F/Pos) = 0,2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P(E)*P(Neg/E]/P(Neg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0,6*0,2]/0,36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Neg) = 0,33 ; P(F/Neg) = 0,67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362-83EC-4679-8345-6B6D8CC1C3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94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99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504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514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519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754360"/>
            <a:ext cx="1500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2,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48320"/>
            <a:ext cx="1576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-0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3848040"/>
            <a:ext cx="1514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6576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7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86480" y="3298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2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65760" y="38419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3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78560" y="51703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7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3279600"/>
            <a:ext cx="136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11280" y="5084640"/>
            <a:ext cx="136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0,36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0360" y="6237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63324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Valor máximo a pagar = MM$ 0,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ECD-E139-48A8-B70F-CAEFD428DE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8960" y="1142640"/>
            <a:ext cx="712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4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tallar el plan de trabajo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Se debe elegir el enfoque de la investigación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Tomar decisiones tácticas de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2BF-952A-4AAD-BF6D-ED7A75A07A34}" type="slidenum">
              <a:t>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Táctic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método de análisis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FFA-B079-40D4-9CE3-22C0ADFF4CB2}" type="slidenum">
              <a:t>27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EC7-5C45-43D7-8146-5B0E73669E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9A1-F3B2-4299-A1DC-E2B6C7D16E1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836640"/>
            <a:ext cx="748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específ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el contexto en el cual se sitúa la Investigación de Mercados en las organiz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proceso de Investigación de Mercados y definir sus etap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os distintos métodos de investigación, cualitativos y cuantitativ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as distintas técnicas de análisis de dat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comportamiento del consum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la relación entre el proceso de Investigación de Mercados y  los objetivos de marketing d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158-6E6E-49F8-A8E2-D21F36A5111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 (ej., establecer que un evento (diseño de un nuevo envase de producto) es el principal para producir otro evento (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F18-78DF-418F-A6A5-444928F5E3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838080" y="228600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93720" y="18288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umento en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1840" y="26668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8168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0912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416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434340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8000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59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6F4-E8C8-4C43-BBB3-4F55B81B8F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3DB-9E2B-47C4-9A4B-45EA3C32EF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969-31BC-432F-A3E0-EA5A55BC67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D86-534E-4CC7-9FE6-7F7637453E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549-C03C-4A26-AB72-66A7B175B0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Recolección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CCE-E079-4B5B-8C49-E292D5EEF22D}" type="slidenum">
              <a:t>36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179640" y="348840"/>
            <a:ext cx="92883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Método de Recolección de Da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621-DDD8-40A3-9796-32288BC6AD5A}" type="slidenum">
              <a:t>3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132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597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601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604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607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E3C-F1B1-4674-A443-A90BCC42B8E9}" type="slidenum">
              <a:t>38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612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617" name=""/>
              <p:cNvCxnSpPr>
                <a:stCxn id="612" idx="0"/>
                <a:endCxn id="618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19" name=""/>
              <p:cNvCxnSpPr>
                <a:stCxn id="613" idx="0"/>
                <a:endCxn id="618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0" name=""/>
              <p:cNvCxnSpPr>
                <a:stCxn id="614" idx="0"/>
                <a:endCxn id="618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1" name=""/>
              <p:cNvCxnSpPr>
                <a:stCxn id="615" idx="0"/>
                <a:endCxn id="618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622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623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"/>
            <p:cNvCxnSpPr>
              <a:stCxn id="623" idx="0"/>
              <a:endCxn id="626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27" name=""/>
            <p:cNvCxnSpPr>
              <a:stCxn id="624" idx="0"/>
              <a:endCxn id="626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28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618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"/>
            <p:cNvCxnSpPr>
              <a:stCxn id="618" idx="4"/>
              <a:endCxn id="630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626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stCxn id="626" idx="2"/>
              <a:endCxn id="633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635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5" idx="0"/>
              <a:endCxn id="638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39" name=""/>
            <p:cNvCxnSpPr>
              <a:stCxn id="636" idx="0"/>
              <a:endCxn id="638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0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633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33" idx="2"/>
              <a:endCxn id="610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643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646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638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"/>
            <p:cNvCxnSpPr>
              <a:stCxn id="638" idx="4"/>
              <a:endCxn id="630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0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651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"/>
            <p:cNvCxnSpPr>
              <a:stCxn id="651" idx="0"/>
              <a:endCxn id="638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3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654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"/>
            <p:cNvCxnSpPr>
              <a:stCxn id="654" idx="0"/>
              <a:endCxn id="638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6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630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"/>
            <p:cNvCxnSpPr>
              <a:stCxn id="630" idx="2"/>
              <a:endCxn id="610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8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659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"/>
            <p:cNvCxnSpPr>
              <a:stCxn id="659" idx="0"/>
              <a:endCxn id="662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63" name=""/>
            <p:cNvCxnSpPr>
              <a:stCxn id="660" idx="0"/>
              <a:endCxn id="662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4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2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66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667" name=""/>
            <p:cNvCxnSpPr>
              <a:stCxn id="662" idx="2"/>
              <a:endCxn id="633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2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FFC-1B9E-439C-817B-3559B8B7735A}" type="slidenum">
              <a:t>39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936720"/>
            <a:ext cx="7488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de Cát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ontro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  <a:ea typeface="Arial"/>
              </a:rPr>
              <a:t>2 Controles +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xamen (5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rabajo Grup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2 Informes + 2 Presentaciones (3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T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6 CTP (20%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har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Actividade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CE9-9320-4263-BB16-288E4C26A4F0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1425600"/>
            <a:ext cx="803916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63C-0087-457F-B464-1C5E1A8598FB}" type="slidenum">
              <a:t>40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673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2" name=""/>
            <p:cNvCxnSpPr>
              <a:stCxn id="673" idx="0"/>
              <a:endCxn id="681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3" name=""/>
            <p:cNvCxnSpPr>
              <a:stCxn id="673" idx="1"/>
              <a:endCxn id="674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74" idx="1"/>
              <a:endCxn id="680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>
              <a:stCxn id="674" idx="2"/>
              <a:endCxn id="679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6" name=""/>
            <p:cNvCxnSpPr>
              <a:stCxn id="674" idx="3"/>
              <a:endCxn id="678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7" name=""/>
            <p:cNvCxnSpPr>
              <a:stCxn id="681" idx="1"/>
              <a:endCxn id="676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8" name=""/>
            <p:cNvCxnSpPr>
              <a:stCxn id="681" idx="2"/>
              <a:endCxn id="677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9" name=""/>
            <p:cNvCxnSpPr>
              <a:stCxn id="681" idx="3"/>
              <a:endCxn id="675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690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9E8-BD79-421A-9B8C-01DAE02BB306}" type="slidenum">
              <a:t>41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F49-6C1D-4D9C-A294-6101B9728C0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F80-3B07-4EDB-B40C-14F2AAAB2D1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0" idx="2"/>
            <a:endCxn id="703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700" idx="2"/>
            <a:endCxn id="704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8" idx="2"/>
            <a:endCxn id="700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8" idx="2"/>
            <a:endCxn id="701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697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696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6" idx="2"/>
            <a:endCxn id="698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6" idx="2"/>
            <a:endCxn id="699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2C1-630F-4BC5-A3AD-353B84BC78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ECE-B962-4DFF-863F-C4DCDC07D5D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620-3A22-4214-8F71-42B49ED2478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DF1-05B5-48AA-B0A6-EB32E51F72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066680"/>
            <a:ext cx="7559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roducción a la Metodología de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l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stadística par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nt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-Diseño Cuest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bjetivos de Marketing asociados 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osicio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iseñ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jación de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ortamiento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tenid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500-9640-4518-95DC-A8EC386D4F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838-7A1F-477F-8492-6DEB7C767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132-6741-42B0-8B4D-275053A0F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9E6-1472-4C6D-977E-2ADB8FB22B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4D3-DB5E-4230-9EAE-5D526C8224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07-23T16:19:04Z</dcterms:modified>
  <cp:revision>157</cp:revision>
  <dc:subject/>
  <dc:title>IN627</dc:title>
</cp:coreProperties>
</file>