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A1A-95B0-491E-9D78-FA553A13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2292-89D3-4D8F-A51C-9F3ACAB5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4E9-CAD6-4588-AC3D-B172D45A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CB0B-1166-4717-9002-534A2B6E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F74EF-60AF-41EC-96A0-1A2A4AD0D5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0EE62-64DC-4220-B514-4926D4F73D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CC0E3-824E-401E-A4ED-6AB4A67981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E5BD-DDF2-42AF-8A52-5DB2B1BCB6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36A29-FB15-4664-BBCF-A00291400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7A403-F55E-4062-A2F3-B19AFD0BE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6E3FF-F223-421B-BD33-5075F6ECD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AD1-1F79-4810-9414-A733A17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25953-048F-46CA-B1CA-7EF0D7E276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3908-4732-4189-9E4F-D72022081D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B27C4-30ED-496E-9F0B-6D2742E788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A9FD6-7230-4BB2-853C-B7DCB8A72E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39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03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49589-84E7-44D8-9F46-7C876537AD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85D-E780-4826-AA0F-FBAEAFD3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1C-C799-46B2-A428-B0E7F7CF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281-499F-4A23-8BBA-09729D11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1CE-4313-45BB-9C72-3A83B87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B97-8631-4053-A662-B1B0739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03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593-6E88-4656-8E2C-1809B27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9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03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CB8-3822-4B26-93DC-64A6298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34560"/>
            <a:ext cx="31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1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3300"/>
                </a:solidFill>
                <a:latin typeface="Arial"/>
              </a:rPr>
              <a:t>IN627 Investigación de Mercad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9CE-AE03-406E-B550-AAE16BF2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100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d110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00992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647C-C432-4FCD-A481-9FE60E7AC891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627</a:t>
            </a:r>
            <a:br>
              <a:rPr sz="3600"/>
            </a:br>
            <a:r>
              <a:rPr b="1" lang="es-CL" sz="3600" spc="-1" strike="noStrike">
                <a:solidFill>
                  <a:srgbClr val="ff3300"/>
                </a:solidFill>
                <a:latin typeface="Arial"/>
              </a:rPr>
              <a:t>Investigación de Mercado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Profesor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milio Poli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Julio Troncos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729-66C6-463B-9ABA-711E106BC2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54120" y="5084640"/>
            <a:ext cx="6448320" cy="1175040"/>
            <a:chOff x="654120" y="5084640"/>
            <a:chExt cx="6448320" cy="1175040"/>
          </a:xfrm>
        </p:grpSpPr>
        <p:sp>
          <p:nvSpPr>
            <p:cNvPr id="121" name=""/>
            <p:cNvSpPr/>
            <p:nvPr/>
          </p:nvSpPr>
          <p:spPr>
            <a:xfrm>
              <a:off x="1547640" y="508464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xac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s fuentes de sesgo del 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 obtención de informa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54120" y="5372280"/>
              <a:ext cx="9367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900000" y="1030320"/>
            <a:ext cx="6202440" cy="1174680"/>
            <a:chOff x="900000" y="1030320"/>
            <a:chExt cx="6202440" cy="1174680"/>
          </a:xfrm>
        </p:grpSpPr>
        <p:sp>
          <p:nvSpPr>
            <p:cNvPr id="124" name=""/>
            <p:cNvSpPr/>
            <p:nvPr/>
          </p:nvSpPr>
          <p:spPr>
            <a:xfrm>
              <a:off x="1547640" y="1030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Relev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Reduce la incertidumbre y no debe sólo buscar satisfa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curiosidad o justificar decisiones ya tomada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900000" y="1319040"/>
              <a:ext cx="685440" cy="684000"/>
              <a:chOff x="900000" y="1319040"/>
              <a:chExt cx="685440" cy="684000"/>
            </a:xfrm>
          </p:grpSpPr>
          <p:sp>
            <p:nvSpPr>
              <p:cNvPr id="126" name=""/>
              <p:cNvSpPr/>
              <p:nvPr/>
            </p:nvSpPr>
            <p:spPr>
              <a:xfrm>
                <a:off x="900000" y="1477800"/>
                <a:ext cx="454680" cy="334800"/>
              </a:xfrm>
              <a:custGeom>
                <a:avLst/>
                <a:gdLst/>
                <a:ahLst/>
                <a:rect l="l" t="t" r="r" b="b"/>
                <a:pathLst>
                  <a:path w="1579" h="1234">
                    <a:moveTo>
                      <a:pt x="0" y="316"/>
                    </a:moveTo>
                    <a:lnTo>
                      <a:pt x="220" y="1234"/>
                    </a:lnTo>
                    <a:lnTo>
                      <a:pt x="1579" y="1019"/>
                    </a:lnTo>
                    <a:lnTo>
                      <a:pt x="1237" y="0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18000" y="1862280"/>
                <a:ext cx="647640" cy="140760"/>
              </a:xfrm>
              <a:custGeom>
                <a:avLst/>
                <a:gdLst/>
                <a:ahLst/>
                <a:rect l="l" t="t" r="r" b="b"/>
                <a:pathLst>
                  <a:path w="2253" h="519">
                    <a:moveTo>
                      <a:pt x="0" y="140"/>
                    </a:moveTo>
                    <a:lnTo>
                      <a:pt x="1077" y="0"/>
                    </a:lnTo>
                    <a:lnTo>
                      <a:pt x="2253" y="180"/>
                    </a:lnTo>
                    <a:lnTo>
                      <a:pt x="1043" y="519"/>
                    </a:lnTo>
                    <a:lnTo>
                      <a:pt x="0" y="14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bad9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76040" y="1673280"/>
                <a:ext cx="210960" cy="100800"/>
              </a:xfrm>
              <a:custGeom>
                <a:avLst/>
                <a:gdLst/>
                <a:ahLst/>
                <a:rect l="l" t="t" r="r" b="b"/>
                <a:pathLst>
                  <a:path w="735" h="374">
                    <a:moveTo>
                      <a:pt x="82" y="230"/>
                    </a:moveTo>
                    <a:lnTo>
                      <a:pt x="118" y="250"/>
                    </a:lnTo>
                    <a:lnTo>
                      <a:pt x="670" y="374"/>
                    </a:lnTo>
                    <a:lnTo>
                      <a:pt x="713" y="334"/>
                    </a:lnTo>
                    <a:lnTo>
                      <a:pt x="735" y="324"/>
                    </a:lnTo>
                    <a:lnTo>
                      <a:pt x="703" y="279"/>
                    </a:lnTo>
                    <a:lnTo>
                      <a:pt x="644" y="315"/>
                    </a:lnTo>
                    <a:lnTo>
                      <a:pt x="621" y="338"/>
                    </a:lnTo>
                    <a:lnTo>
                      <a:pt x="167" y="197"/>
                    </a:lnTo>
                    <a:lnTo>
                      <a:pt x="143" y="83"/>
                    </a:lnTo>
                    <a:lnTo>
                      <a:pt x="180" y="30"/>
                    </a:lnTo>
                    <a:lnTo>
                      <a:pt x="72" y="0"/>
                    </a:lnTo>
                    <a:lnTo>
                      <a:pt x="0" y="34"/>
                    </a:lnTo>
                    <a:lnTo>
                      <a:pt x="42" y="115"/>
                    </a:lnTo>
                    <a:lnTo>
                      <a:pt x="72" y="148"/>
                    </a:lnTo>
                    <a:lnTo>
                      <a:pt x="82" y="230"/>
                    </a:lnTo>
                    <a:lnTo>
                      <a:pt x="82" y="23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60200" y="1674000"/>
                <a:ext cx="37080" cy="32400"/>
              </a:xfrm>
              <a:custGeom>
                <a:avLst/>
                <a:gdLst/>
                <a:ahLst/>
                <a:rect l="l" t="t" r="r" b="b"/>
                <a:pathLst>
                  <a:path w="128" h="121">
                    <a:moveTo>
                      <a:pt x="118" y="0"/>
                    </a:moveTo>
                    <a:lnTo>
                      <a:pt x="27" y="0"/>
                    </a:lnTo>
                    <a:lnTo>
                      <a:pt x="0" y="23"/>
                    </a:lnTo>
                    <a:lnTo>
                      <a:pt x="24" y="65"/>
                    </a:lnTo>
                    <a:lnTo>
                      <a:pt x="20" y="108"/>
                    </a:lnTo>
                    <a:lnTo>
                      <a:pt x="128" y="121"/>
                    </a:lnTo>
                    <a:lnTo>
                      <a:pt x="102" y="79"/>
                    </a:lnTo>
                    <a:lnTo>
                      <a:pt x="89" y="42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b28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39200" y="1494720"/>
                <a:ext cx="31680" cy="418680"/>
              </a:xfrm>
              <a:custGeom>
                <a:avLst/>
                <a:gdLst/>
                <a:ahLst/>
                <a:rect l="l" t="t" r="r" b="b"/>
                <a:pathLst>
                  <a:path w="110" h="1544">
                    <a:moveTo>
                      <a:pt x="64" y="0"/>
                    </a:moveTo>
                    <a:lnTo>
                      <a:pt x="32" y="510"/>
                    </a:lnTo>
                    <a:lnTo>
                      <a:pt x="0" y="1544"/>
                    </a:lnTo>
                    <a:lnTo>
                      <a:pt x="78" y="1538"/>
                    </a:lnTo>
                    <a:lnTo>
                      <a:pt x="98" y="504"/>
                    </a:lnTo>
                    <a:lnTo>
                      <a:pt x="110" y="52"/>
                    </a:lnTo>
                    <a:lnTo>
                      <a:pt x="64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bc5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74400" y="1637640"/>
                <a:ext cx="97200" cy="248400"/>
              </a:xfrm>
              <a:custGeom>
                <a:avLst/>
                <a:gdLst/>
                <a:ahLst/>
                <a:rect l="l" t="t" r="r" b="b"/>
                <a:pathLst>
                  <a:path w="339" h="913">
                    <a:moveTo>
                      <a:pt x="81" y="913"/>
                    </a:moveTo>
                    <a:lnTo>
                      <a:pt x="125" y="881"/>
                    </a:lnTo>
                    <a:lnTo>
                      <a:pt x="52" y="704"/>
                    </a:lnTo>
                    <a:lnTo>
                      <a:pt x="32" y="540"/>
                    </a:lnTo>
                    <a:lnTo>
                      <a:pt x="111" y="317"/>
                    </a:lnTo>
                    <a:lnTo>
                      <a:pt x="339" y="36"/>
                    </a:lnTo>
                    <a:lnTo>
                      <a:pt x="248" y="0"/>
                    </a:lnTo>
                    <a:lnTo>
                      <a:pt x="59" y="386"/>
                    </a:lnTo>
                    <a:lnTo>
                      <a:pt x="0" y="596"/>
                    </a:lnTo>
                    <a:lnTo>
                      <a:pt x="13" y="753"/>
                    </a:lnTo>
                    <a:lnTo>
                      <a:pt x="81" y="913"/>
                    </a:lnTo>
                    <a:lnTo>
                      <a:pt x="81" y="913"/>
                    </a:lnTo>
                    <a:close/>
                  </a:path>
                </a:pathLst>
              </a:custGeom>
              <a:solidFill>
                <a:srgbClr val="f2e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26800" y="1606320"/>
                <a:ext cx="221400" cy="286920"/>
              </a:xfrm>
              <a:custGeom>
                <a:avLst/>
                <a:gdLst/>
                <a:ahLst/>
                <a:rect l="l" t="t" r="r" b="b"/>
                <a:pathLst>
                  <a:path w="771" h="1055">
                    <a:moveTo>
                      <a:pt x="22" y="321"/>
                    </a:moveTo>
                    <a:lnTo>
                      <a:pt x="39" y="230"/>
                    </a:lnTo>
                    <a:lnTo>
                      <a:pt x="71" y="0"/>
                    </a:lnTo>
                    <a:lnTo>
                      <a:pt x="130" y="19"/>
                    </a:lnTo>
                    <a:lnTo>
                      <a:pt x="327" y="72"/>
                    </a:lnTo>
                    <a:lnTo>
                      <a:pt x="601" y="59"/>
                    </a:lnTo>
                    <a:lnTo>
                      <a:pt x="751" y="46"/>
                    </a:lnTo>
                    <a:lnTo>
                      <a:pt x="771" y="112"/>
                    </a:lnTo>
                    <a:lnTo>
                      <a:pt x="601" y="439"/>
                    </a:lnTo>
                    <a:lnTo>
                      <a:pt x="562" y="530"/>
                    </a:lnTo>
                    <a:lnTo>
                      <a:pt x="484" y="537"/>
                    </a:lnTo>
                    <a:lnTo>
                      <a:pt x="444" y="583"/>
                    </a:lnTo>
                    <a:lnTo>
                      <a:pt x="471" y="622"/>
                    </a:lnTo>
                    <a:lnTo>
                      <a:pt x="510" y="589"/>
                    </a:lnTo>
                    <a:lnTo>
                      <a:pt x="510" y="733"/>
                    </a:lnTo>
                    <a:lnTo>
                      <a:pt x="548" y="956"/>
                    </a:lnTo>
                    <a:lnTo>
                      <a:pt x="582" y="1055"/>
                    </a:lnTo>
                    <a:lnTo>
                      <a:pt x="451" y="1035"/>
                    </a:lnTo>
                    <a:lnTo>
                      <a:pt x="366" y="1008"/>
                    </a:lnTo>
                    <a:lnTo>
                      <a:pt x="0" y="567"/>
                    </a:lnTo>
                    <a:lnTo>
                      <a:pt x="22" y="321"/>
                    </a:lnTo>
                    <a:lnTo>
                      <a:pt x="22" y="321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31360" y="1343160"/>
                <a:ext cx="154080" cy="133560"/>
              </a:xfrm>
              <a:custGeom>
                <a:avLst/>
                <a:gdLst/>
                <a:ahLst/>
                <a:rect l="l" t="t" r="r" b="b"/>
                <a:pathLst>
                  <a:path w="537" h="491">
                    <a:moveTo>
                      <a:pt x="112" y="491"/>
                    </a:moveTo>
                    <a:lnTo>
                      <a:pt x="327" y="223"/>
                    </a:lnTo>
                    <a:lnTo>
                      <a:pt x="537" y="20"/>
                    </a:lnTo>
                    <a:lnTo>
                      <a:pt x="452" y="0"/>
                    </a:lnTo>
                    <a:lnTo>
                      <a:pt x="0" y="413"/>
                    </a:lnTo>
                    <a:lnTo>
                      <a:pt x="112" y="491"/>
                    </a:lnTo>
                    <a:lnTo>
                      <a:pt x="112" y="49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54680" y="1320480"/>
                <a:ext cx="219960" cy="159480"/>
              </a:xfrm>
              <a:custGeom>
                <a:avLst/>
                <a:gdLst/>
                <a:ahLst/>
                <a:rect l="l" t="t" r="r" b="b"/>
                <a:pathLst>
                  <a:path w="765" h="589">
                    <a:moveTo>
                      <a:pt x="0" y="269"/>
                    </a:moveTo>
                    <a:lnTo>
                      <a:pt x="255" y="184"/>
                    </a:lnTo>
                    <a:lnTo>
                      <a:pt x="366" y="137"/>
                    </a:lnTo>
                    <a:lnTo>
                      <a:pt x="333" y="0"/>
                    </a:lnTo>
                    <a:lnTo>
                      <a:pt x="765" y="85"/>
                    </a:lnTo>
                    <a:lnTo>
                      <a:pt x="353" y="439"/>
                    </a:lnTo>
                    <a:lnTo>
                      <a:pt x="353" y="550"/>
                    </a:lnTo>
                    <a:lnTo>
                      <a:pt x="6" y="589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41560" y="1362960"/>
                <a:ext cx="219600" cy="142560"/>
              </a:xfrm>
              <a:custGeom>
                <a:avLst/>
                <a:gdLst/>
                <a:ahLst/>
                <a:rect l="l" t="t" r="r" b="b"/>
                <a:pathLst>
                  <a:path w="765" h="525">
                    <a:moveTo>
                      <a:pt x="0" y="269"/>
                    </a:moveTo>
                    <a:lnTo>
                      <a:pt x="340" y="525"/>
                    </a:lnTo>
                    <a:lnTo>
                      <a:pt x="360" y="413"/>
                    </a:lnTo>
                    <a:lnTo>
                      <a:pt x="712" y="419"/>
                    </a:lnTo>
                    <a:lnTo>
                      <a:pt x="751" y="439"/>
                    </a:lnTo>
                    <a:lnTo>
                      <a:pt x="765" y="105"/>
                    </a:lnTo>
                    <a:lnTo>
                      <a:pt x="373" y="85"/>
                    </a:lnTo>
                    <a:lnTo>
                      <a:pt x="333" y="0"/>
                    </a:lnTo>
                    <a:lnTo>
                      <a:pt x="0" y="269"/>
                    </a:lnTo>
                    <a:lnTo>
                      <a:pt x="0" y="26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0280" y="1850760"/>
                <a:ext cx="77400" cy="93600"/>
              </a:xfrm>
              <a:custGeom>
                <a:avLst/>
                <a:gdLst/>
                <a:ahLst/>
                <a:rect l="l" t="t" r="r" b="b"/>
                <a:pathLst>
                  <a:path w="270" h="344">
                    <a:moveTo>
                      <a:pt x="74" y="17"/>
                    </a:moveTo>
                    <a:lnTo>
                      <a:pt x="140" y="17"/>
                    </a:lnTo>
                    <a:lnTo>
                      <a:pt x="225" y="0"/>
                    </a:lnTo>
                    <a:lnTo>
                      <a:pt x="270" y="298"/>
                    </a:lnTo>
                    <a:lnTo>
                      <a:pt x="91" y="344"/>
                    </a:lnTo>
                    <a:lnTo>
                      <a:pt x="0" y="340"/>
                    </a:lnTo>
                    <a:lnTo>
                      <a:pt x="51" y="173"/>
                    </a:lnTo>
                    <a:lnTo>
                      <a:pt x="74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66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178280" y="182484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170" h="118">
                    <a:moveTo>
                      <a:pt x="27" y="34"/>
                    </a:moveTo>
                    <a:lnTo>
                      <a:pt x="0" y="118"/>
                    </a:lnTo>
                    <a:lnTo>
                      <a:pt x="52" y="112"/>
                    </a:lnTo>
                    <a:lnTo>
                      <a:pt x="170" y="115"/>
                    </a:lnTo>
                    <a:lnTo>
                      <a:pt x="128" y="0"/>
                    </a:lnTo>
                    <a:lnTo>
                      <a:pt x="27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fa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31040" y="1726200"/>
                <a:ext cx="236520" cy="218880"/>
              </a:xfrm>
              <a:custGeom>
                <a:avLst/>
                <a:gdLst/>
                <a:ahLst/>
                <a:rect l="l" t="t" r="r" b="b"/>
                <a:pathLst>
                  <a:path w="823" h="805">
                    <a:moveTo>
                      <a:pt x="236" y="4"/>
                    </a:moveTo>
                    <a:lnTo>
                      <a:pt x="160" y="88"/>
                    </a:lnTo>
                    <a:lnTo>
                      <a:pt x="75" y="262"/>
                    </a:lnTo>
                    <a:lnTo>
                      <a:pt x="42" y="471"/>
                    </a:lnTo>
                    <a:lnTo>
                      <a:pt x="33" y="625"/>
                    </a:lnTo>
                    <a:lnTo>
                      <a:pt x="0" y="694"/>
                    </a:lnTo>
                    <a:lnTo>
                      <a:pt x="49" y="736"/>
                    </a:lnTo>
                    <a:lnTo>
                      <a:pt x="363" y="805"/>
                    </a:lnTo>
                    <a:lnTo>
                      <a:pt x="448" y="798"/>
                    </a:lnTo>
                    <a:lnTo>
                      <a:pt x="491" y="690"/>
                    </a:lnTo>
                    <a:lnTo>
                      <a:pt x="520" y="432"/>
                    </a:lnTo>
                    <a:lnTo>
                      <a:pt x="585" y="370"/>
                    </a:lnTo>
                    <a:lnTo>
                      <a:pt x="693" y="321"/>
                    </a:lnTo>
                    <a:lnTo>
                      <a:pt x="820" y="190"/>
                    </a:lnTo>
                    <a:lnTo>
                      <a:pt x="823" y="161"/>
                    </a:lnTo>
                    <a:lnTo>
                      <a:pt x="808" y="131"/>
                    </a:lnTo>
                    <a:lnTo>
                      <a:pt x="663" y="151"/>
                    </a:lnTo>
                    <a:lnTo>
                      <a:pt x="503" y="115"/>
                    </a:lnTo>
                    <a:lnTo>
                      <a:pt x="396" y="46"/>
                    </a:lnTo>
                    <a:lnTo>
                      <a:pt x="334" y="0"/>
                    </a:lnTo>
                    <a:lnTo>
                      <a:pt x="320" y="33"/>
                    </a:lnTo>
                    <a:lnTo>
                      <a:pt x="281" y="39"/>
                    </a:lnTo>
                    <a:lnTo>
                      <a:pt x="248" y="29"/>
                    </a:lnTo>
                    <a:lnTo>
                      <a:pt x="236" y="4"/>
                    </a:lnTo>
                    <a:lnTo>
                      <a:pt x="236" y="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58840" y="1604160"/>
                <a:ext cx="197280" cy="26640"/>
              </a:xfrm>
              <a:custGeom>
                <a:avLst/>
                <a:gdLst/>
                <a:ahLst/>
                <a:rect l="l" t="t" r="r" b="b"/>
                <a:pathLst>
                  <a:path w="687" h="101">
                    <a:moveTo>
                      <a:pt x="0" y="25"/>
                    </a:moveTo>
                    <a:lnTo>
                      <a:pt x="30" y="53"/>
                    </a:lnTo>
                    <a:lnTo>
                      <a:pt x="81" y="77"/>
                    </a:lnTo>
                    <a:lnTo>
                      <a:pt x="138" y="91"/>
                    </a:lnTo>
                    <a:lnTo>
                      <a:pt x="217" y="101"/>
                    </a:lnTo>
                    <a:lnTo>
                      <a:pt x="345" y="98"/>
                    </a:lnTo>
                    <a:lnTo>
                      <a:pt x="472" y="96"/>
                    </a:lnTo>
                    <a:lnTo>
                      <a:pt x="575" y="91"/>
                    </a:lnTo>
                    <a:lnTo>
                      <a:pt x="645" y="87"/>
                    </a:lnTo>
                    <a:lnTo>
                      <a:pt x="687" y="77"/>
                    </a:lnTo>
                    <a:lnTo>
                      <a:pt x="653" y="53"/>
                    </a:lnTo>
                    <a:lnTo>
                      <a:pt x="619" y="44"/>
                    </a:lnTo>
                    <a:lnTo>
                      <a:pt x="548" y="44"/>
                    </a:lnTo>
                    <a:lnTo>
                      <a:pt x="461" y="53"/>
                    </a:lnTo>
                    <a:lnTo>
                      <a:pt x="328" y="61"/>
                    </a:lnTo>
                    <a:lnTo>
                      <a:pt x="204" y="61"/>
                    </a:lnTo>
                    <a:lnTo>
                      <a:pt x="138" y="53"/>
                    </a:lnTo>
                    <a:lnTo>
                      <a:pt x="76" y="34"/>
                    </a:lnTo>
                    <a:lnTo>
                      <a:pt x="28" y="9"/>
                    </a:lnTo>
                    <a:lnTo>
                      <a:pt x="11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45600" y="1382400"/>
                <a:ext cx="113040" cy="11880"/>
              </a:xfrm>
              <a:custGeom>
                <a:avLst/>
                <a:gdLst/>
                <a:ahLst/>
                <a:rect l="l" t="t" r="r" b="b"/>
                <a:pathLst>
                  <a:path w="392" h="43">
                    <a:moveTo>
                      <a:pt x="18" y="0"/>
                    </a:moveTo>
                    <a:lnTo>
                      <a:pt x="214" y="2"/>
                    </a:lnTo>
                    <a:lnTo>
                      <a:pt x="345" y="17"/>
                    </a:lnTo>
                    <a:lnTo>
                      <a:pt x="392" y="41"/>
                    </a:lnTo>
                    <a:lnTo>
                      <a:pt x="275" y="43"/>
                    </a:lnTo>
                    <a:lnTo>
                      <a:pt x="194" y="41"/>
                    </a:lnTo>
                    <a:lnTo>
                      <a:pt x="87" y="41"/>
                    </a:lnTo>
                    <a:lnTo>
                      <a:pt x="12" y="32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57920" y="1397160"/>
                <a:ext cx="8280" cy="48960"/>
              </a:xfrm>
              <a:custGeom>
                <a:avLst/>
                <a:gdLst/>
                <a:ahLst/>
                <a:rect l="l" t="t" r="r" b="b"/>
                <a:pathLst>
                  <a:path w="30" h="181">
                    <a:moveTo>
                      <a:pt x="0" y="3"/>
                    </a:moveTo>
                    <a:lnTo>
                      <a:pt x="4" y="181"/>
                    </a:lnTo>
                    <a:lnTo>
                      <a:pt x="21" y="147"/>
                    </a:lnTo>
                    <a:lnTo>
                      <a:pt x="30" y="85"/>
                    </a:lnTo>
                    <a:lnTo>
                      <a:pt x="2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64760" y="1360440"/>
                <a:ext cx="92160" cy="34920"/>
              </a:xfrm>
              <a:custGeom>
                <a:avLst/>
                <a:gdLst/>
                <a:ahLst/>
                <a:rect l="l" t="t" r="r" b="b"/>
                <a:pathLst>
                  <a:path w="323" h="128">
                    <a:moveTo>
                      <a:pt x="0" y="108"/>
                    </a:moveTo>
                    <a:lnTo>
                      <a:pt x="61" y="76"/>
                    </a:lnTo>
                    <a:lnTo>
                      <a:pt x="141" y="39"/>
                    </a:lnTo>
                    <a:lnTo>
                      <a:pt x="207" y="16"/>
                    </a:lnTo>
                    <a:lnTo>
                      <a:pt x="266" y="0"/>
                    </a:lnTo>
                    <a:lnTo>
                      <a:pt x="323" y="2"/>
                    </a:lnTo>
                    <a:lnTo>
                      <a:pt x="245" y="47"/>
                    </a:lnTo>
                    <a:lnTo>
                      <a:pt x="161" y="78"/>
                    </a:lnTo>
                    <a:lnTo>
                      <a:pt x="68" y="111"/>
                    </a:lnTo>
                    <a:lnTo>
                      <a:pt x="12" y="128"/>
                    </a:lnTo>
                    <a:lnTo>
                      <a:pt x="0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239840" y="1469520"/>
                <a:ext cx="109440" cy="24120"/>
              </a:xfrm>
              <a:custGeom>
                <a:avLst/>
                <a:gdLst/>
                <a:ahLst/>
                <a:rect l="l" t="t" r="r" b="b"/>
                <a:pathLst>
                  <a:path w="382" h="90">
                    <a:moveTo>
                      <a:pt x="16" y="0"/>
                    </a:moveTo>
                    <a:lnTo>
                      <a:pt x="96" y="2"/>
                    </a:lnTo>
                    <a:lnTo>
                      <a:pt x="339" y="8"/>
                    </a:lnTo>
                    <a:lnTo>
                      <a:pt x="382" y="20"/>
                    </a:lnTo>
                    <a:lnTo>
                      <a:pt x="348" y="44"/>
                    </a:lnTo>
                    <a:lnTo>
                      <a:pt x="52" y="40"/>
                    </a:lnTo>
                    <a:lnTo>
                      <a:pt x="35" y="46"/>
                    </a:lnTo>
                    <a:lnTo>
                      <a:pt x="23" y="90"/>
                    </a:lnTo>
                    <a:lnTo>
                      <a:pt x="8" y="69"/>
                    </a:ln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800" y="1356480"/>
                <a:ext cx="105840" cy="77040"/>
              </a:xfrm>
              <a:custGeom>
                <a:avLst/>
                <a:gdLst/>
                <a:ahLst/>
                <a:rect l="l" t="t" r="r" b="b"/>
                <a:pathLst>
                  <a:path w="371" h="284">
                    <a:moveTo>
                      <a:pt x="338" y="106"/>
                    </a:moveTo>
                    <a:lnTo>
                      <a:pt x="335" y="38"/>
                    </a:lnTo>
                    <a:lnTo>
                      <a:pt x="245" y="108"/>
                    </a:lnTo>
                    <a:lnTo>
                      <a:pt x="126" y="190"/>
                    </a:lnTo>
                    <a:lnTo>
                      <a:pt x="17" y="284"/>
                    </a:lnTo>
                    <a:lnTo>
                      <a:pt x="0" y="266"/>
                    </a:lnTo>
                    <a:lnTo>
                      <a:pt x="76" y="199"/>
                    </a:lnTo>
                    <a:lnTo>
                      <a:pt x="180" y="120"/>
                    </a:lnTo>
                    <a:lnTo>
                      <a:pt x="295" y="35"/>
                    </a:lnTo>
                    <a:lnTo>
                      <a:pt x="338" y="0"/>
                    </a:lnTo>
                    <a:lnTo>
                      <a:pt x="371" y="35"/>
                    </a:lnTo>
                    <a:lnTo>
                      <a:pt x="365" y="73"/>
                    </a:lnTo>
                    <a:lnTo>
                      <a:pt x="338" y="106"/>
                    </a:lnTo>
                    <a:lnTo>
                      <a:pt x="338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3640" y="1431360"/>
                <a:ext cx="113040" cy="76680"/>
              </a:xfrm>
              <a:custGeom>
                <a:avLst/>
                <a:gdLst/>
                <a:ahLst/>
                <a:rect l="l" t="t" r="r" b="b"/>
                <a:pathLst>
                  <a:path w="394" h="284">
                    <a:moveTo>
                      <a:pt x="0" y="23"/>
                    </a:moveTo>
                    <a:lnTo>
                      <a:pt x="53" y="55"/>
                    </a:lnTo>
                    <a:lnTo>
                      <a:pt x="116" y="93"/>
                    </a:lnTo>
                    <a:lnTo>
                      <a:pt x="184" y="143"/>
                    </a:lnTo>
                    <a:lnTo>
                      <a:pt x="263" y="213"/>
                    </a:lnTo>
                    <a:lnTo>
                      <a:pt x="324" y="264"/>
                    </a:lnTo>
                    <a:lnTo>
                      <a:pt x="365" y="284"/>
                    </a:lnTo>
                    <a:lnTo>
                      <a:pt x="394" y="269"/>
                    </a:lnTo>
                    <a:lnTo>
                      <a:pt x="344" y="228"/>
                    </a:lnTo>
                    <a:lnTo>
                      <a:pt x="254" y="154"/>
                    </a:lnTo>
                    <a:lnTo>
                      <a:pt x="157" y="79"/>
                    </a:lnTo>
                    <a:lnTo>
                      <a:pt x="76" y="29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60440" y="1348200"/>
                <a:ext cx="223200" cy="162000"/>
              </a:xfrm>
              <a:custGeom>
                <a:avLst/>
                <a:gdLst/>
                <a:ahLst/>
                <a:rect l="l" t="t" r="r" b="b"/>
                <a:pathLst>
                  <a:path w="775" h="597">
                    <a:moveTo>
                      <a:pt x="0" y="493"/>
                    </a:moveTo>
                    <a:lnTo>
                      <a:pt x="76" y="454"/>
                    </a:lnTo>
                    <a:lnTo>
                      <a:pt x="181" y="397"/>
                    </a:lnTo>
                    <a:lnTo>
                      <a:pt x="268" y="356"/>
                    </a:lnTo>
                    <a:lnTo>
                      <a:pt x="277" y="383"/>
                    </a:lnTo>
                    <a:lnTo>
                      <a:pt x="298" y="388"/>
                    </a:lnTo>
                    <a:lnTo>
                      <a:pt x="305" y="413"/>
                    </a:lnTo>
                    <a:lnTo>
                      <a:pt x="324" y="413"/>
                    </a:lnTo>
                    <a:lnTo>
                      <a:pt x="309" y="322"/>
                    </a:lnTo>
                    <a:lnTo>
                      <a:pt x="344" y="317"/>
                    </a:lnTo>
                    <a:lnTo>
                      <a:pt x="357" y="388"/>
                    </a:lnTo>
                    <a:lnTo>
                      <a:pt x="495" y="257"/>
                    </a:lnTo>
                    <a:lnTo>
                      <a:pt x="612" y="145"/>
                    </a:lnTo>
                    <a:lnTo>
                      <a:pt x="746" y="17"/>
                    </a:lnTo>
                    <a:lnTo>
                      <a:pt x="770" y="0"/>
                    </a:lnTo>
                    <a:lnTo>
                      <a:pt x="775" y="38"/>
                    </a:lnTo>
                    <a:lnTo>
                      <a:pt x="656" y="143"/>
                    </a:lnTo>
                    <a:lnTo>
                      <a:pt x="575" y="221"/>
                    </a:lnTo>
                    <a:lnTo>
                      <a:pt x="731" y="365"/>
                    </a:lnTo>
                    <a:lnTo>
                      <a:pt x="761" y="386"/>
                    </a:lnTo>
                    <a:lnTo>
                      <a:pt x="764" y="400"/>
                    </a:lnTo>
                    <a:lnTo>
                      <a:pt x="752" y="422"/>
                    </a:lnTo>
                    <a:lnTo>
                      <a:pt x="710" y="443"/>
                    </a:lnTo>
                    <a:lnTo>
                      <a:pt x="500" y="550"/>
                    </a:lnTo>
                    <a:lnTo>
                      <a:pt x="390" y="597"/>
                    </a:lnTo>
                    <a:lnTo>
                      <a:pt x="387" y="508"/>
                    </a:lnTo>
                    <a:lnTo>
                      <a:pt x="0" y="493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449360" y="1319040"/>
                <a:ext cx="126720" cy="35640"/>
              </a:xfrm>
              <a:custGeom>
                <a:avLst/>
                <a:gdLst/>
                <a:ahLst/>
                <a:rect l="l" t="t" r="r" b="b"/>
                <a:pathLst>
                  <a:path w="439" h="132">
                    <a:moveTo>
                      <a:pt x="21" y="132"/>
                    </a:moveTo>
                    <a:lnTo>
                      <a:pt x="0" y="48"/>
                    </a:lnTo>
                    <a:lnTo>
                      <a:pt x="3" y="12"/>
                    </a:lnTo>
                    <a:lnTo>
                      <a:pt x="33" y="0"/>
                    </a:lnTo>
                    <a:lnTo>
                      <a:pt x="230" y="39"/>
                    </a:lnTo>
                    <a:lnTo>
                      <a:pt x="439" y="81"/>
                    </a:lnTo>
                    <a:lnTo>
                      <a:pt x="422" y="102"/>
                    </a:lnTo>
                    <a:lnTo>
                      <a:pt x="392" y="108"/>
                    </a:lnTo>
                    <a:lnTo>
                      <a:pt x="129" y="60"/>
                    </a:lnTo>
                    <a:lnTo>
                      <a:pt x="44" y="42"/>
                    </a:lnTo>
                    <a:lnTo>
                      <a:pt x="44" y="111"/>
                    </a:lnTo>
                    <a:lnTo>
                      <a:pt x="21" y="132"/>
                    </a:lnTo>
                    <a:lnTo>
                      <a:pt x="21" y="1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52960" y="1352160"/>
                <a:ext cx="111960" cy="92520"/>
              </a:xfrm>
              <a:custGeom>
                <a:avLst/>
                <a:gdLst/>
                <a:ahLst/>
                <a:rect l="l" t="t" r="r" b="b"/>
                <a:pathLst>
                  <a:path w="389" h="341">
                    <a:moveTo>
                      <a:pt x="358" y="0"/>
                    </a:moveTo>
                    <a:lnTo>
                      <a:pt x="204" y="135"/>
                    </a:lnTo>
                    <a:lnTo>
                      <a:pt x="53" y="272"/>
                    </a:lnTo>
                    <a:lnTo>
                      <a:pt x="0" y="330"/>
                    </a:lnTo>
                    <a:lnTo>
                      <a:pt x="15" y="341"/>
                    </a:lnTo>
                    <a:lnTo>
                      <a:pt x="101" y="261"/>
                    </a:lnTo>
                    <a:lnTo>
                      <a:pt x="254" y="123"/>
                    </a:lnTo>
                    <a:lnTo>
                      <a:pt x="389" y="12"/>
                    </a:lnTo>
                    <a:lnTo>
                      <a:pt x="358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50360" y="1486080"/>
                <a:ext cx="28440" cy="142200"/>
              </a:xfrm>
              <a:custGeom>
                <a:avLst/>
                <a:gdLst/>
                <a:ahLst/>
                <a:rect l="l" t="t" r="r" b="b"/>
                <a:pathLst>
                  <a:path w="98" h="525">
                    <a:moveTo>
                      <a:pt x="0" y="395"/>
                    </a:moveTo>
                    <a:lnTo>
                      <a:pt x="5" y="15"/>
                    </a:lnTo>
                    <a:lnTo>
                      <a:pt x="32" y="3"/>
                    </a:lnTo>
                    <a:lnTo>
                      <a:pt x="68" y="0"/>
                    </a:lnTo>
                    <a:lnTo>
                      <a:pt x="98" y="13"/>
                    </a:lnTo>
                    <a:lnTo>
                      <a:pt x="65" y="525"/>
                    </a:lnTo>
                    <a:lnTo>
                      <a:pt x="44" y="500"/>
                    </a:lnTo>
                    <a:lnTo>
                      <a:pt x="62" y="141"/>
                    </a:lnTo>
                    <a:lnTo>
                      <a:pt x="35" y="144"/>
                    </a:lnTo>
                    <a:lnTo>
                      <a:pt x="20" y="305"/>
                    </a:lnTo>
                    <a:lnTo>
                      <a:pt x="0" y="395"/>
                    </a:lnTo>
                    <a:lnTo>
                      <a:pt x="0" y="3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33800" y="1675800"/>
                <a:ext cx="109440" cy="240840"/>
              </a:xfrm>
              <a:custGeom>
                <a:avLst/>
                <a:gdLst/>
                <a:ahLst/>
                <a:rect l="l" t="t" r="r" b="b"/>
                <a:pathLst>
                  <a:path w="383" h="888">
                    <a:moveTo>
                      <a:pt x="105" y="0"/>
                    </a:moveTo>
                    <a:lnTo>
                      <a:pt x="90" y="363"/>
                    </a:lnTo>
                    <a:lnTo>
                      <a:pt x="87" y="599"/>
                    </a:lnTo>
                    <a:lnTo>
                      <a:pt x="105" y="824"/>
                    </a:lnTo>
                    <a:lnTo>
                      <a:pt x="195" y="828"/>
                    </a:lnTo>
                    <a:lnTo>
                      <a:pt x="285" y="840"/>
                    </a:lnTo>
                    <a:lnTo>
                      <a:pt x="365" y="858"/>
                    </a:lnTo>
                    <a:lnTo>
                      <a:pt x="383" y="879"/>
                    </a:lnTo>
                    <a:lnTo>
                      <a:pt x="356" y="884"/>
                    </a:lnTo>
                    <a:lnTo>
                      <a:pt x="189" y="884"/>
                    </a:lnTo>
                    <a:lnTo>
                      <a:pt x="30" y="888"/>
                    </a:lnTo>
                    <a:lnTo>
                      <a:pt x="10" y="872"/>
                    </a:lnTo>
                    <a:lnTo>
                      <a:pt x="3" y="842"/>
                    </a:lnTo>
                    <a:lnTo>
                      <a:pt x="0" y="615"/>
                    </a:lnTo>
                    <a:lnTo>
                      <a:pt x="12" y="348"/>
                    </a:lnTo>
                    <a:lnTo>
                      <a:pt x="24" y="46"/>
                    </a:lnTo>
                    <a:lnTo>
                      <a:pt x="60" y="0"/>
                    </a:lnTo>
                    <a:lnTo>
                      <a:pt x="39" y="432"/>
                    </a:lnTo>
                    <a:lnTo>
                      <a:pt x="28" y="815"/>
                    </a:lnTo>
                    <a:lnTo>
                      <a:pt x="33" y="854"/>
                    </a:lnTo>
                    <a:lnTo>
                      <a:pt x="58" y="854"/>
                    </a:lnTo>
                    <a:lnTo>
                      <a:pt x="60" y="337"/>
                    </a:lnTo>
                    <a:lnTo>
                      <a:pt x="78" y="91"/>
                    </a:lnTo>
                    <a:lnTo>
                      <a:pt x="90" y="16"/>
                    </a:lnTo>
                    <a:lnTo>
                      <a:pt x="105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107720" y="158544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" y="4"/>
                    </a:moveTo>
                    <a:lnTo>
                      <a:pt x="0" y="39"/>
                    </a:lnTo>
                    <a:lnTo>
                      <a:pt x="14" y="75"/>
                    </a:lnTo>
                    <a:lnTo>
                      <a:pt x="32" y="64"/>
                    </a:lnTo>
                    <a:lnTo>
                      <a:pt x="53" y="13"/>
                    </a:lnTo>
                    <a:lnTo>
                      <a:pt x="27" y="0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285560" y="1635840"/>
                <a:ext cx="90360" cy="121320"/>
              </a:xfrm>
              <a:custGeom>
                <a:avLst/>
                <a:gdLst/>
                <a:ahLst/>
                <a:rect l="l" t="t" r="r" b="b"/>
                <a:pathLst>
                  <a:path w="314" h="447">
                    <a:moveTo>
                      <a:pt x="215" y="0"/>
                    </a:moveTo>
                    <a:lnTo>
                      <a:pt x="269" y="13"/>
                    </a:lnTo>
                    <a:lnTo>
                      <a:pt x="314" y="40"/>
                    </a:lnTo>
                    <a:lnTo>
                      <a:pt x="251" y="135"/>
                    </a:lnTo>
                    <a:lnTo>
                      <a:pt x="170" y="234"/>
                    </a:lnTo>
                    <a:lnTo>
                      <a:pt x="108" y="318"/>
                    </a:lnTo>
                    <a:lnTo>
                      <a:pt x="71" y="362"/>
                    </a:lnTo>
                    <a:lnTo>
                      <a:pt x="42" y="408"/>
                    </a:lnTo>
                    <a:lnTo>
                      <a:pt x="27" y="447"/>
                    </a:lnTo>
                    <a:lnTo>
                      <a:pt x="0" y="426"/>
                    </a:lnTo>
                    <a:lnTo>
                      <a:pt x="14" y="381"/>
                    </a:lnTo>
                    <a:lnTo>
                      <a:pt x="51" y="300"/>
                    </a:lnTo>
                    <a:lnTo>
                      <a:pt x="92" y="296"/>
                    </a:lnTo>
                    <a:lnTo>
                      <a:pt x="138" y="246"/>
                    </a:lnTo>
                    <a:lnTo>
                      <a:pt x="195" y="171"/>
                    </a:lnTo>
                    <a:lnTo>
                      <a:pt x="257" y="80"/>
                    </a:lnTo>
                    <a:lnTo>
                      <a:pt x="281" y="52"/>
                    </a:lnTo>
                    <a:lnTo>
                      <a:pt x="209" y="21"/>
                    </a:lnTo>
                    <a:lnTo>
                      <a:pt x="215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256040" y="1744920"/>
                <a:ext cx="35280" cy="21240"/>
              </a:xfrm>
              <a:custGeom>
                <a:avLst/>
                <a:gdLst/>
                <a:ahLst/>
                <a:rect l="l" t="t" r="r" b="b"/>
                <a:pathLst>
                  <a:path w="122" h="78">
                    <a:moveTo>
                      <a:pt x="0" y="52"/>
                    </a:moveTo>
                    <a:lnTo>
                      <a:pt x="47" y="16"/>
                    </a:lnTo>
                    <a:lnTo>
                      <a:pt x="80" y="0"/>
                    </a:lnTo>
                    <a:lnTo>
                      <a:pt x="110" y="6"/>
                    </a:lnTo>
                    <a:lnTo>
                      <a:pt x="122" y="48"/>
                    </a:lnTo>
                    <a:lnTo>
                      <a:pt x="115" y="69"/>
                    </a:lnTo>
                    <a:lnTo>
                      <a:pt x="83" y="78"/>
                    </a:lnTo>
                    <a:lnTo>
                      <a:pt x="44" y="75"/>
                    </a:lnTo>
                    <a:lnTo>
                      <a:pt x="53" y="57"/>
                    </a:lnTo>
                    <a:lnTo>
                      <a:pt x="97" y="54"/>
                    </a:lnTo>
                    <a:lnTo>
                      <a:pt x="77" y="36"/>
                    </a:lnTo>
                    <a:lnTo>
                      <a:pt x="38" y="48"/>
                    </a:lnTo>
                    <a:lnTo>
                      <a:pt x="17" y="69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94920" y="1631160"/>
                <a:ext cx="58680" cy="95040"/>
              </a:xfrm>
              <a:custGeom>
                <a:avLst/>
                <a:gdLst/>
                <a:ahLst/>
                <a:rect l="l" t="t" r="r" b="b"/>
                <a:pathLst>
                  <a:path w="204" h="352">
                    <a:moveTo>
                      <a:pt x="171" y="0"/>
                    </a:moveTo>
                    <a:lnTo>
                      <a:pt x="115" y="125"/>
                    </a:lnTo>
                    <a:lnTo>
                      <a:pt x="39" y="266"/>
                    </a:lnTo>
                    <a:lnTo>
                      <a:pt x="0" y="352"/>
                    </a:lnTo>
                    <a:lnTo>
                      <a:pt x="42" y="343"/>
                    </a:lnTo>
                    <a:lnTo>
                      <a:pt x="106" y="221"/>
                    </a:lnTo>
                    <a:lnTo>
                      <a:pt x="168" y="95"/>
                    </a:lnTo>
                    <a:lnTo>
                      <a:pt x="198" y="32"/>
                    </a:lnTo>
                    <a:lnTo>
                      <a:pt x="204" y="5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32920" y="1605600"/>
                <a:ext cx="21960" cy="77400"/>
              </a:xfrm>
              <a:custGeom>
                <a:avLst/>
                <a:gdLst/>
                <a:ahLst/>
                <a:rect l="l" t="t" r="r" b="b"/>
                <a:pathLst>
                  <a:path w="76" h="285">
                    <a:moveTo>
                      <a:pt x="39" y="7"/>
                    </a:moveTo>
                    <a:lnTo>
                      <a:pt x="21" y="177"/>
                    </a:lnTo>
                    <a:lnTo>
                      <a:pt x="0" y="285"/>
                    </a:lnTo>
                    <a:lnTo>
                      <a:pt x="21" y="267"/>
                    </a:lnTo>
                    <a:lnTo>
                      <a:pt x="46" y="204"/>
                    </a:lnTo>
                    <a:lnTo>
                      <a:pt x="57" y="120"/>
                    </a:lnTo>
                    <a:lnTo>
                      <a:pt x="60" y="42"/>
                    </a:lnTo>
                    <a:lnTo>
                      <a:pt x="76" y="0"/>
                    </a:lnTo>
                    <a:lnTo>
                      <a:pt x="39" y="7"/>
                    </a:lnTo>
                    <a:lnTo>
                      <a:pt x="3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80080" y="1847880"/>
                <a:ext cx="30960" cy="11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9" y="0"/>
                    </a:moveTo>
                    <a:lnTo>
                      <a:pt x="42" y="14"/>
                    </a:lnTo>
                    <a:lnTo>
                      <a:pt x="78" y="18"/>
                    </a:lnTo>
                    <a:lnTo>
                      <a:pt x="108" y="18"/>
                    </a:lnTo>
                    <a:lnTo>
                      <a:pt x="93" y="35"/>
                    </a:lnTo>
                    <a:lnTo>
                      <a:pt x="54" y="44"/>
                    </a:lnTo>
                    <a:lnTo>
                      <a:pt x="0" y="24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228680" y="1868760"/>
                <a:ext cx="61200" cy="27720"/>
              </a:xfrm>
              <a:custGeom>
                <a:avLst/>
                <a:gdLst/>
                <a:ahLst/>
                <a:rect l="l" t="t" r="r" b="b"/>
                <a:pathLst>
                  <a:path w="211" h="101">
                    <a:moveTo>
                      <a:pt x="0" y="0"/>
                    </a:moveTo>
                    <a:lnTo>
                      <a:pt x="62" y="30"/>
                    </a:lnTo>
                    <a:lnTo>
                      <a:pt x="122" y="44"/>
                    </a:lnTo>
                    <a:lnTo>
                      <a:pt x="182" y="63"/>
                    </a:lnTo>
                    <a:lnTo>
                      <a:pt x="211" y="92"/>
                    </a:lnTo>
                    <a:lnTo>
                      <a:pt x="185" y="101"/>
                    </a:lnTo>
                    <a:lnTo>
                      <a:pt x="113" y="86"/>
                    </a:lnTo>
                    <a:lnTo>
                      <a:pt x="65" y="69"/>
                    </a:lnTo>
                    <a:lnTo>
                      <a:pt x="14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71880" y="1761120"/>
                <a:ext cx="43920" cy="135000"/>
              </a:xfrm>
              <a:custGeom>
                <a:avLst/>
                <a:gdLst/>
                <a:ahLst/>
                <a:rect l="l" t="t" r="r" b="b"/>
                <a:pathLst>
                  <a:path w="152" h="497">
                    <a:moveTo>
                      <a:pt x="24" y="0"/>
                    </a:moveTo>
                    <a:lnTo>
                      <a:pt x="6" y="63"/>
                    </a:lnTo>
                    <a:lnTo>
                      <a:pt x="0" y="130"/>
                    </a:lnTo>
                    <a:lnTo>
                      <a:pt x="6" y="240"/>
                    </a:lnTo>
                    <a:lnTo>
                      <a:pt x="14" y="309"/>
                    </a:lnTo>
                    <a:lnTo>
                      <a:pt x="33" y="381"/>
                    </a:lnTo>
                    <a:lnTo>
                      <a:pt x="51" y="431"/>
                    </a:lnTo>
                    <a:lnTo>
                      <a:pt x="72" y="468"/>
                    </a:lnTo>
                    <a:lnTo>
                      <a:pt x="90" y="497"/>
                    </a:lnTo>
                    <a:lnTo>
                      <a:pt x="105" y="482"/>
                    </a:lnTo>
                    <a:lnTo>
                      <a:pt x="83" y="435"/>
                    </a:lnTo>
                    <a:lnTo>
                      <a:pt x="60" y="383"/>
                    </a:lnTo>
                    <a:lnTo>
                      <a:pt x="44" y="327"/>
                    </a:lnTo>
                    <a:lnTo>
                      <a:pt x="33" y="245"/>
                    </a:lnTo>
                    <a:lnTo>
                      <a:pt x="27" y="177"/>
                    </a:lnTo>
                    <a:lnTo>
                      <a:pt x="24" y="114"/>
                    </a:lnTo>
                    <a:lnTo>
                      <a:pt x="39" y="210"/>
                    </a:lnTo>
                    <a:lnTo>
                      <a:pt x="62" y="300"/>
                    </a:lnTo>
                    <a:lnTo>
                      <a:pt x="80" y="357"/>
                    </a:lnTo>
                    <a:lnTo>
                      <a:pt x="113" y="417"/>
                    </a:lnTo>
                    <a:lnTo>
                      <a:pt x="99" y="431"/>
                    </a:lnTo>
                    <a:lnTo>
                      <a:pt x="105" y="452"/>
                    </a:lnTo>
                    <a:lnTo>
                      <a:pt x="135" y="459"/>
                    </a:lnTo>
                    <a:lnTo>
                      <a:pt x="152" y="429"/>
                    </a:lnTo>
                    <a:lnTo>
                      <a:pt x="131" y="399"/>
                    </a:lnTo>
                    <a:lnTo>
                      <a:pt x="108" y="348"/>
                    </a:lnTo>
                    <a:lnTo>
                      <a:pt x="87" y="294"/>
                    </a:lnTo>
                    <a:lnTo>
                      <a:pt x="72" y="204"/>
                    </a:lnTo>
                    <a:lnTo>
                      <a:pt x="62" y="108"/>
                    </a:lnTo>
                    <a:lnTo>
                      <a:pt x="53" y="39"/>
                    </a:lnTo>
                    <a:lnTo>
                      <a:pt x="57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07800" y="1820880"/>
                <a:ext cx="35280" cy="113040"/>
              </a:xfrm>
              <a:custGeom>
                <a:avLst/>
                <a:gdLst/>
                <a:ahLst/>
                <a:rect l="l" t="t" r="r" b="b"/>
                <a:pathLst>
                  <a:path w="123" h="416">
                    <a:moveTo>
                      <a:pt x="0" y="15"/>
                    </a:moveTo>
                    <a:lnTo>
                      <a:pt x="18" y="56"/>
                    </a:lnTo>
                    <a:lnTo>
                      <a:pt x="39" y="117"/>
                    </a:lnTo>
                    <a:lnTo>
                      <a:pt x="57" y="189"/>
                    </a:lnTo>
                    <a:lnTo>
                      <a:pt x="75" y="276"/>
                    </a:lnTo>
                    <a:lnTo>
                      <a:pt x="82" y="416"/>
                    </a:lnTo>
                    <a:lnTo>
                      <a:pt x="121" y="393"/>
                    </a:lnTo>
                    <a:lnTo>
                      <a:pt x="123" y="306"/>
                    </a:lnTo>
                    <a:lnTo>
                      <a:pt x="115" y="217"/>
                    </a:lnTo>
                    <a:lnTo>
                      <a:pt x="96" y="134"/>
                    </a:lnTo>
                    <a:lnTo>
                      <a:pt x="73" y="69"/>
                    </a:lnTo>
                    <a:lnTo>
                      <a:pt x="39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57760" y="1770480"/>
                <a:ext cx="111960" cy="173520"/>
              </a:xfrm>
              <a:custGeom>
                <a:avLst/>
                <a:gdLst/>
                <a:ahLst/>
                <a:rect l="l" t="t" r="r" b="b"/>
                <a:pathLst>
                  <a:path w="391" h="641">
                    <a:moveTo>
                      <a:pt x="379" y="0"/>
                    </a:moveTo>
                    <a:lnTo>
                      <a:pt x="331" y="51"/>
                    </a:lnTo>
                    <a:lnTo>
                      <a:pt x="268" y="116"/>
                    </a:lnTo>
                    <a:lnTo>
                      <a:pt x="218" y="152"/>
                    </a:lnTo>
                    <a:lnTo>
                      <a:pt x="167" y="185"/>
                    </a:lnTo>
                    <a:lnTo>
                      <a:pt x="124" y="200"/>
                    </a:lnTo>
                    <a:lnTo>
                      <a:pt x="92" y="205"/>
                    </a:lnTo>
                    <a:lnTo>
                      <a:pt x="74" y="233"/>
                    </a:lnTo>
                    <a:lnTo>
                      <a:pt x="59" y="301"/>
                    </a:lnTo>
                    <a:lnTo>
                      <a:pt x="50" y="404"/>
                    </a:lnTo>
                    <a:lnTo>
                      <a:pt x="41" y="503"/>
                    </a:lnTo>
                    <a:lnTo>
                      <a:pt x="23" y="572"/>
                    </a:lnTo>
                    <a:lnTo>
                      <a:pt x="0" y="628"/>
                    </a:lnTo>
                    <a:lnTo>
                      <a:pt x="27" y="641"/>
                    </a:lnTo>
                    <a:lnTo>
                      <a:pt x="59" y="554"/>
                    </a:lnTo>
                    <a:lnTo>
                      <a:pt x="74" y="503"/>
                    </a:lnTo>
                    <a:lnTo>
                      <a:pt x="86" y="430"/>
                    </a:lnTo>
                    <a:lnTo>
                      <a:pt x="92" y="361"/>
                    </a:lnTo>
                    <a:lnTo>
                      <a:pt x="98" y="305"/>
                    </a:lnTo>
                    <a:lnTo>
                      <a:pt x="106" y="269"/>
                    </a:lnTo>
                    <a:lnTo>
                      <a:pt x="134" y="242"/>
                    </a:lnTo>
                    <a:lnTo>
                      <a:pt x="173" y="230"/>
                    </a:lnTo>
                    <a:lnTo>
                      <a:pt x="209" y="218"/>
                    </a:lnTo>
                    <a:lnTo>
                      <a:pt x="250" y="188"/>
                    </a:lnTo>
                    <a:lnTo>
                      <a:pt x="301" y="152"/>
                    </a:lnTo>
                    <a:lnTo>
                      <a:pt x="340" y="116"/>
                    </a:lnTo>
                    <a:lnTo>
                      <a:pt x="379" y="69"/>
                    </a:lnTo>
                    <a:lnTo>
                      <a:pt x="391" y="30"/>
                    </a:lnTo>
                    <a:lnTo>
                      <a:pt x="379" y="0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5840" y="1722960"/>
                <a:ext cx="170640" cy="52920"/>
              </a:xfrm>
              <a:custGeom>
                <a:avLst/>
                <a:gdLst/>
                <a:ahLst/>
                <a:rect l="l" t="t" r="r" b="b"/>
                <a:pathLst>
                  <a:path w="595" h="193">
                    <a:moveTo>
                      <a:pt x="0" y="55"/>
                    </a:moveTo>
                    <a:lnTo>
                      <a:pt x="26" y="69"/>
                    </a:lnTo>
                    <a:lnTo>
                      <a:pt x="54" y="87"/>
                    </a:lnTo>
                    <a:lnTo>
                      <a:pt x="125" y="97"/>
                    </a:lnTo>
                    <a:lnTo>
                      <a:pt x="177" y="108"/>
                    </a:lnTo>
                    <a:lnTo>
                      <a:pt x="230" y="124"/>
                    </a:lnTo>
                    <a:lnTo>
                      <a:pt x="283" y="147"/>
                    </a:lnTo>
                    <a:lnTo>
                      <a:pt x="350" y="168"/>
                    </a:lnTo>
                    <a:lnTo>
                      <a:pt x="427" y="186"/>
                    </a:lnTo>
                    <a:lnTo>
                      <a:pt x="482" y="193"/>
                    </a:lnTo>
                    <a:lnTo>
                      <a:pt x="533" y="177"/>
                    </a:lnTo>
                    <a:lnTo>
                      <a:pt x="586" y="156"/>
                    </a:lnTo>
                    <a:lnTo>
                      <a:pt x="595" y="129"/>
                    </a:lnTo>
                    <a:lnTo>
                      <a:pt x="538" y="147"/>
                    </a:lnTo>
                    <a:lnTo>
                      <a:pt x="460" y="156"/>
                    </a:lnTo>
                    <a:lnTo>
                      <a:pt x="409" y="147"/>
                    </a:lnTo>
                    <a:lnTo>
                      <a:pt x="326" y="124"/>
                    </a:lnTo>
                    <a:lnTo>
                      <a:pt x="251" y="99"/>
                    </a:lnTo>
                    <a:lnTo>
                      <a:pt x="182" y="48"/>
                    </a:lnTo>
                    <a:lnTo>
                      <a:pt x="143" y="12"/>
                    </a:lnTo>
                    <a:lnTo>
                      <a:pt x="120" y="0"/>
                    </a:lnTo>
                    <a:lnTo>
                      <a:pt x="92" y="12"/>
                    </a:lnTo>
                    <a:lnTo>
                      <a:pt x="102" y="39"/>
                    </a:lnTo>
                    <a:lnTo>
                      <a:pt x="125" y="42"/>
                    </a:lnTo>
                    <a:lnTo>
                      <a:pt x="152" y="67"/>
                    </a:lnTo>
                    <a:lnTo>
                      <a:pt x="117" y="69"/>
                    </a:lnTo>
                    <a:lnTo>
                      <a:pt x="69" y="67"/>
                    </a:lnTo>
                    <a:lnTo>
                      <a:pt x="42" y="51"/>
                    </a:lnTo>
                    <a:lnTo>
                      <a:pt x="21" y="39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1760" y="1910520"/>
                <a:ext cx="344880" cy="51840"/>
              </a:xfrm>
              <a:custGeom>
                <a:avLst/>
                <a:gdLst/>
                <a:ahLst/>
                <a:rect l="l" t="t" r="r" b="b"/>
                <a:pathLst>
                  <a:path w="1202" h="192">
                    <a:moveTo>
                      <a:pt x="30" y="25"/>
                    </a:moveTo>
                    <a:lnTo>
                      <a:pt x="96" y="57"/>
                    </a:lnTo>
                    <a:lnTo>
                      <a:pt x="188" y="85"/>
                    </a:lnTo>
                    <a:lnTo>
                      <a:pt x="312" y="103"/>
                    </a:lnTo>
                    <a:lnTo>
                      <a:pt x="422" y="108"/>
                    </a:lnTo>
                    <a:lnTo>
                      <a:pt x="547" y="94"/>
                    </a:lnTo>
                    <a:lnTo>
                      <a:pt x="656" y="64"/>
                    </a:lnTo>
                    <a:lnTo>
                      <a:pt x="706" y="42"/>
                    </a:lnTo>
                    <a:lnTo>
                      <a:pt x="718" y="0"/>
                    </a:lnTo>
                    <a:lnTo>
                      <a:pt x="766" y="21"/>
                    </a:lnTo>
                    <a:lnTo>
                      <a:pt x="874" y="39"/>
                    </a:lnTo>
                    <a:lnTo>
                      <a:pt x="954" y="48"/>
                    </a:lnTo>
                    <a:lnTo>
                      <a:pt x="982" y="66"/>
                    </a:lnTo>
                    <a:lnTo>
                      <a:pt x="1017" y="87"/>
                    </a:lnTo>
                    <a:lnTo>
                      <a:pt x="1191" y="129"/>
                    </a:lnTo>
                    <a:lnTo>
                      <a:pt x="1202" y="156"/>
                    </a:lnTo>
                    <a:lnTo>
                      <a:pt x="1191" y="172"/>
                    </a:lnTo>
                    <a:lnTo>
                      <a:pt x="907" y="156"/>
                    </a:lnTo>
                    <a:lnTo>
                      <a:pt x="877" y="172"/>
                    </a:lnTo>
                    <a:lnTo>
                      <a:pt x="859" y="192"/>
                    </a:lnTo>
                    <a:lnTo>
                      <a:pt x="832" y="189"/>
                    </a:lnTo>
                    <a:lnTo>
                      <a:pt x="773" y="174"/>
                    </a:lnTo>
                    <a:lnTo>
                      <a:pt x="395" y="156"/>
                    </a:lnTo>
                    <a:lnTo>
                      <a:pt x="243" y="137"/>
                    </a:lnTo>
                    <a:lnTo>
                      <a:pt x="135" y="111"/>
                    </a:lnTo>
                    <a:lnTo>
                      <a:pt x="66" y="81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50760" y="171504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131" h="46">
                    <a:moveTo>
                      <a:pt x="0" y="19"/>
                    </a:moveTo>
                    <a:lnTo>
                      <a:pt x="21" y="0"/>
                    </a:lnTo>
                    <a:lnTo>
                      <a:pt x="56" y="0"/>
                    </a:lnTo>
                    <a:lnTo>
                      <a:pt x="106" y="12"/>
                    </a:lnTo>
                    <a:lnTo>
                      <a:pt x="131" y="33"/>
                    </a:lnTo>
                    <a:lnTo>
                      <a:pt x="101" y="46"/>
                    </a:lnTo>
                    <a:lnTo>
                      <a:pt x="26" y="40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28520" y="1728720"/>
                <a:ext cx="63000" cy="185400"/>
              </a:xfrm>
              <a:custGeom>
                <a:avLst/>
                <a:gdLst/>
                <a:ahLst/>
                <a:rect l="l" t="t" r="r" b="b"/>
                <a:pathLst>
                  <a:path w="218" h="686">
                    <a:moveTo>
                      <a:pt x="209" y="0"/>
                    </a:moveTo>
                    <a:lnTo>
                      <a:pt x="158" y="62"/>
                    </a:lnTo>
                    <a:lnTo>
                      <a:pt x="122" y="126"/>
                    </a:lnTo>
                    <a:lnTo>
                      <a:pt x="89" y="185"/>
                    </a:lnTo>
                    <a:lnTo>
                      <a:pt x="61" y="248"/>
                    </a:lnTo>
                    <a:lnTo>
                      <a:pt x="39" y="353"/>
                    </a:lnTo>
                    <a:lnTo>
                      <a:pt x="36" y="419"/>
                    </a:lnTo>
                    <a:lnTo>
                      <a:pt x="32" y="544"/>
                    </a:lnTo>
                    <a:lnTo>
                      <a:pt x="29" y="613"/>
                    </a:lnTo>
                    <a:lnTo>
                      <a:pt x="18" y="649"/>
                    </a:lnTo>
                    <a:lnTo>
                      <a:pt x="0" y="686"/>
                    </a:lnTo>
                    <a:lnTo>
                      <a:pt x="27" y="682"/>
                    </a:lnTo>
                    <a:lnTo>
                      <a:pt x="57" y="656"/>
                    </a:lnTo>
                    <a:lnTo>
                      <a:pt x="68" y="622"/>
                    </a:lnTo>
                    <a:lnTo>
                      <a:pt x="71" y="509"/>
                    </a:lnTo>
                    <a:lnTo>
                      <a:pt x="83" y="374"/>
                    </a:lnTo>
                    <a:lnTo>
                      <a:pt x="95" y="299"/>
                    </a:lnTo>
                    <a:lnTo>
                      <a:pt x="116" y="222"/>
                    </a:lnTo>
                    <a:lnTo>
                      <a:pt x="155" y="140"/>
                    </a:lnTo>
                    <a:lnTo>
                      <a:pt x="194" y="75"/>
                    </a:lnTo>
                    <a:lnTo>
                      <a:pt x="218" y="29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58680" y="16390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32" h="104">
                    <a:moveTo>
                      <a:pt x="0" y="32"/>
                    </a:moveTo>
                    <a:lnTo>
                      <a:pt x="39" y="53"/>
                    </a:lnTo>
                    <a:lnTo>
                      <a:pt x="80" y="77"/>
                    </a:lnTo>
                    <a:lnTo>
                      <a:pt x="105" y="104"/>
                    </a:lnTo>
                    <a:lnTo>
                      <a:pt x="126" y="95"/>
                    </a:lnTo>
                    <a:lnTo>
                      <a:pt x="132" y="71"/>
                    </a:lnTo>
                    <a:lnTo>
                      <a:pt x="96" y="35"/>
                    </a:lnTo>
                    <a:lnTo>
                      <a:pt x="60" y="8"/>
                    </a:lnTo>
                    <a:lnTo>
                      <a:pt x="36" y="0"/>
                    </a:lnTo>
                    <a:lnTo>
                      <a:pt x="13" y="8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05120" y="1668240"/>
                <a:ext cx="14400" cy="1368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11"/>
                    </a:moveTo>
                    <a:lnTo>
                      <a:pt x="18" y="0"/>
                    </a:lnTo>
                    <a:lnTo>
                      <a:pt x="42" y="11"/>
                    </a:lnTo>
                    <a:lnTo>
                      <a:pt x="51" y="47"/>
                    </a:lnTo>
                    <a:lnTo>
                      <a:pt x="26" y="50"/>
                    </a:lnTo>
                    <a:lnTo>
                      <a:pt x="5" y="4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34280" y="163656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55" h="68">
                    <a:moveTo>
                      <a:pt x="25" y="0"/>
                    </a:moveTo>
                    <a:lnTo>
                      <a:pt x="0" y="17"/>
                    </a:lnTo>
                    <a:lnTo>
                      <a:pt x="0" y="48"/>
                    </a:lnTo>
                    <a:lnTo>
                      <a:pt x="25" y="68"/>
                    </a:lnTo>
                    <a:lnTo>
                      <a:pt x="55" y="56"/>
                    </a:lnTo>
                    <a:lnTo>
                      <a:pt x="55" y="23"/>
                    </a:lnTo>
                    <a:lnTo>
                      <a:pt x="48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66320" y="1613880"/>
                <a:ext cx="14400" cy="1836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3"/>
                    </a:moveTo>
                    <a:lnTo>
                      <a:pt x="3" y="37"/>
                    </a:lnTo>
                    <a:lnTo>
                      <a:pt x="21" y="66"/>
                    </a:lnTo>
                    <a:lnTo>
                      <a:pt x="48" y="69"/>
                    </a:lnTo>
                    <a:lnTo>
                      <a:pt x="52" y="21"/>
                    </a:lnTo>
                    <a:lnTo>
                      <a:pt x="36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54080" y="1545480"/>
                <a:ext cx="18000" cy="46800"/>
              </a:xfrm>
              <a:custGeom>
                <a:avLst/>
                <a:gdLst/>
                <a:ahLst/>
                <a:rect l="l" t="t" r="r" b="b"/>
                <a:pathLst>
                  <a:path w="63" h="173">
                    <a:moveTo>
                      <a:pt x="0" y="26"/>
                    </a:moveTo>
                    <a:lnTo>
                      <a:pt x="3" y="132"/>
                    </a:lnTo>
                    <a:lnTo>
                      <a:pt x="16" y="162"/>
                    </a:lnTo>
                    <a:lnTo>
                      <a:pt x="33" y="173"/>
                    </a:lnTo>
                    <a:lnTo>
                      <a:pt x="51" y="143"/>
                    </a:lnTo>
                    <a:lnTo>
                      <a:pt x="63" y="90"/>
                    </a:lnTo>
                    <a:lnTo>
                      <a:pt x="51" y="15"/>
                    </a:lnTo>
                    <a:lnTo>
                      <a:pt x="21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8120" y="1550880"/>
                <a:ext cx="56880" cy="78840"/>
              </a:xfrm>
              <a:custGeom>
                <a:avLst/>
                <a:gdLst/>
                <a:ahLst/>
                <a:rect l="l" t="t" r="r" b="b"/>
                <a:pathLst>
                  <a:path w="197" h="290">
                    <a:moveTo>
                      <a:pt x="3" y="122"/>
                    </a:moveTo>
                    <a:lnTo>
                      <a:pt x="119" y="5"/>
                    </a:lnTo>
                    <a:lnTo>
                      <a:pt x="146" y="0"/>
                    </a:lnTo>
                    <a:lnTo>
                      <a:pt x="180" y="9"/>
                    </a:lnTo>
                    <a:lnTo>
                      <a:pt x="192" y="51"/>
                    </a:lnTo>
                    <a:lnTo>
                      <a:pt x="171" y="99"/>
                    </a:lnTo>
                    <a:lnTo>
                      <a:pt x="153" y="152"/>
                    </a:lnTo>
                    <a:lnTo>
                      <a:pt x="185" y="155"/>
                    </a:lnTo>
                    <a:lnTo>
                      <a:pt x="197" y="186"/>
                    </a:lnTo>
                    <a:lnTo>
                      <a:pt x="183" y="290"/>
                    </a:lnTo>
                    <a:lnTo>
                      <a:pt x="141" y="263"/>
                    </a:lnTo>
                    <a:lnTo>
                      <a:pt x="144" y="218"/>
                    </a:lnTo>
                    <a:lnTo>
                      <a:pt x="102" y="207"/>
                    </a:lnTo>
                    <a:lnTo>
                      <a:pt x="84" y="182"/>
                    </a:lnTo>
                    <a:lnTo>
                      <a:pt x="96" y="131"/>
                    </a:lnTo>
                    <a:lnTo>
                      <a:pt x="105" y="104"/>
                    </a:lnTo>
                    <a:lnTo>
                      <a:pt x="89" y="125"/>
                    </a:lnTo>
                    <a:lnTo>
                      <a:pt x="69" y="182"/>
                    </a:lnTo>
                    <a:lnTo>
                      <a:pt x="36" y="186"/>
                    </a:lnTo>
                    <a:lnTo>
                      <a:pt x="0" y="152"/>
                    </a:lnTo>
                    <a:lnTo>
                      <a:pt x="3" y="122"/>
                    </a:lnTo>
                    <a:lnTo>
                      <a:pt x="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84680" y="1685520"/>
                <a:ext cx="19440" cy="53640"/>
              </a:xfrm>
              <a:custGeom>
                <a:avLst/>
                <a:gdLst/>
                <a:ahLst/>
                <a:rect l="l" t="t" r="r" b="b"/>
                <a:pathLst>
                  <a:path w="69" h="200">
                    <a:moveTo>
                      <a:pt x="0" y="15"/>
                    </a:moveTo>
                    <a:lnTo>
                      <a:pt x="21" y="53"/>
                    </a:lnTo>
                    <a:lnTo>
                      <a:pt x="35" y="108"/>
                    </a:lnTo>
                    <a:lnTo>
                      <a:pt x="51" y="191"/>
                    </a:lnTo>
                    <a:lnTo>
                      <a:pt x="69" y="200"/>
                    </a:lnTo>
                    <a:lnTo>
                      <a:pt x="65" y="96"/>
                    </a:lnTo>
                    <a:lnTo>
                      <a:pt x="54" y="53"/>
                    </a:lnTo>
                    <a:lnTo>
                      <a:pt x="26" y="21"/>
                    </a:lnTo>
                    <a:lnTo>
                      <a:pt x="12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7200" y="1670040"/>
                <a:ext cx="43920" cy="5868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12" y="2"/>
                    </a:moveTo>
                    <a:lnTo>
                      <a:pt x="60" y="0"/>
                    </a:lnTo>
                    <a:lnTo>
                      <a:pt x="108" y="9"/>
                    </a:lnTo>
                    <a:lnTo>
                      <a:pt x="147" y="23"/>
                    </a:lnTo>
                    <a:lnTo>
                      <a:pt x="155" y="54"/>
                    </a:lnTo>
                    <a:lnTo>
                      <a:pt x="138" y="78"/>
                    </a:lnTo>
                    <a:lnTo>
                      <a:pt x="125" y="96"/>
                    </a:lnTo>
                    <a:lnTo>
                      <a:pt x="129" y="135"/>
                    </a:lnTo>
                    <a:lnTo>
                      <a:pt x="143" y="165"/>
                    </a:lnTo>
                    <a:lnTo>
                      <a:pt x="150" y="218"/>
                    </a:lnTo>
                    <a:lnTo>
                      <a:pt x="122" y="213"/>
                    </a:lnTo>
                    <a:lnTo>
                      <a:pt x="116" y="174"/>
                    </a:lnTo>
                    <a:lnTo>
                      <a:pt x="104" y="140"/>
                    </a:lnTo>
                    <a:lnTo>
                      <a:pt x="95" y="110"/>
                    </a:lnTo>
                    <a:lnTo>
                      <a:pt x="74" y="92"/>
                    </a:lnTo>
                    <a:lnTo>
                      <a:pt x="116" y="60"/>
                    </a:lnTo>
                    <a:lnTo>
                      <a:pt x="116" y="48"/>
                    </a:lnTo>
                    <a:lnTo>
                      <a:pt x="69" y="48"/>
                    </a:lnTo>
                    <a:lnTo>
                      <a:pt x="51" y="32"/>
                    </a:lnTo>
                    <a:lnTo>
                      <a:pt x="30" y="30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060200" y="1670040"/>
                <a:ext cx="35280" cy="39600"/>
              </a:xfrm>
              <a:custGeom>
                <a:avLst/>
                <a:gdLst/>
                <a:ahLst/>
                <a:rect l="l" t="t" r="r" b="b"/>
                <a:pathLst>
                  <a:path w="123" h="145">
                    <a:moveTo>
                      <a:pt x="78" y="0"/>
                    </a:moveTo>
                    <a:lnTo>
                      <a:pt x="36" y="4"/>
                    </a:lnTo>
                    <a:lnTo>
                      <a:pt x="12" y="16"/>
                    </a:lnTo>
                    <a:lnTo>
                      <a:pt x="0" y="37"/>
                    </a:lnTo>
                    <a:lnTo>
                      <a:pt x="9" y="60"/>
                    </a:lnTo>
                    <a:lnTo>
                      <a:pt x="21" y="78"/>
                    </a:lnTo>
                    <a:lnTo>
                      <a:pt x="30" y="97"/>
                    </a:lnTo>
                    <a:lnTo>
                      <a:pt x="21" y="121"/>
                    </a:lnTo>
                    <a:lnTo>
                      <a:pt x="48" y="133"/>
                    </a:lnTo>
                    <a:lnTo>
                      <a:pt x="81" y="136"/>
                    </a:lnTo>
                    <a:lnTo>
                      <a:pt x="123" y="145"/>
                    </a:lnTo>
                    <a:lnTo>
                      <a:pt x="117" y="106"/>
                    </a:lnTo>
                    <a:lnTo>
                      <a:pt x="78" y="108"/>
                    </a:lnTo>
                    <a:lnTo>
                      <a:pt x="60" y="106"/>
                    </a:lnTo>
                    <a:lnTo>
                      <a:pt x="66" y="90"/>
                    </a:lnTo>
                    <a:lnTo>
                      <a:pt x="57" y="73"/>
                    </a:lnTo>
                    <a:lnTo>
                      <a:pt x="36" y="58"/>
                    </a:lnTo>
                    <a:lnTo>
                      <a:pt x="36" y="40"/>
                    </a:lnTo>
                    <a:lnTo>
                      <a:pt x="60" y="30"/>
                    </a:lnTo>
                    <a:lnTo>
                      <a:pt x="78" y="19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611280" y="3693960"/>
            <a:ext cx="6491160" cy="1175040"/>
            <a:chOff x="611280" y="3693960"/>
            <a:chExt cx="6491160" cy="1175040"/>
          </a:xfrm>
        </p:grpSpPr>
        <p:sp>
          <p:nvSpPr>
            <p:cNvPr id="175" name=""/>
            <p:cNvSpPr/>
            <p:nvPr/>
          </p:nvSpPr>
          <p:spPr>
            <a:xfrm>
              <a:off x="1547640" y="3693960"/>
              <a:ext cx="5554800" cy="117504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fic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La información puede ser costosa de obtener sólo si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decisión es importante y la información es útil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611280" y="3838680"/>
              <a:ext cx="950760" cy="80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"/>
          <p:cNvGrpSpPr/>
          <p:nvPr/>
        </p:nvGrpSpPr>
        <p:grpSpPr>
          <a:xfrm>
            <a:off x="826920" y="2254320"/>
            <a:ext cx="6275520" cy="1174680"/>
            <a:chOff x="826920" y="2254320"/>
            <a:chExt cx="6275520" cy="1174680"/>
          </a:xfrm>
        </p:grpSpPr>
        <p:sp>
          <p:nvSpPr>
            <p:cNvPr id="178" name=""/>
            <p:cNvSpPr/>
            <p:nvPr/>
          </p:nvSpPr>
          <p:spPr>
            <a:xfrm>
              <a:off x="1547640" y="2254320"/>
              <a:ext cx="5554800" cy="1174680"/>
            </a:xfrm>
            <a:prstGeom prst="bevel">
              <a:avLst>
                <a:gd name="adj" fmla="val 8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por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Entrega la información disponi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ahoma"/>
                </a:rPr>
                <a:t>al momento de la toma de decision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826920" y="2470320"/>
              <a:ext cx="733680" cy="77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8560" y="329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Características de la información útil</a:t>
            </a:r>
            <a:endParaRPr b="1" lang="en-US" sz="2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573-B39B-4908-99C9-0B431EAD528A}" type="slidenum">
              <a:t>10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280" y="152280"/>
            <a:ext cx="9410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Rol de la Investigación de Merc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en los objetivos de marketing de las organiz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6640" y="1019160"/>
            <a:ext cx="1483560" cy="3230640"/>
            <a:chOff x="116640" y="1019160"/>
            <a:chExt cx="1483560" cy="3230640"/>
          </a:xfrm>
        </p:grpSpPr>
        <p:sp>
          <p:nvSpPr>
            <p:cNvPr id="183" name=""/>
            <p:cNvSpPr/>
            <p:nvPr/>
          </p:nvSpPr>
          <p:spPr>
            <a:xfrm>
              <a:off x="1441440" y="1019160"/>
              <a:ext cx="158760" cy="3230640"/>
            </a:xfrm>
            <a:custGeom>
              <a:avLst/>
              <a:gdLst>
                <a:gd name="textAreaLeft" fmla="*/ 101520 w 158760"/>
                <a:gd name="textAreaRight" fmla="*/ 159120 w 158760"/>
                <a:gd name="textAreaTop" fmla="*/ 84240 h 3230640"/>
                <a:gd name="textAreaBottom" fmla="*/ 3146400 h 323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640" y="2295360"/>
              <a:ext cx="132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stratégi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2640" y="4595760"/>
            <a:ext cx="1555200" cy="2019240"/>
            <a:chOff x="62640" y="4595760"/>
            <a:chExt cx="1555200" cy="2019240"/>
          </a:xfrm>
        </p:grpSpPr>
        <p:sp>
          <p:nvSpPr>
            <p:cNvPr id="186" name=""/>
            <p:cNvSpPr/>
            <p:nvPr/>
          </p:nvSpPr>
          <p:spPr>
            <a:xfrm>
              <a:off x="62640" y="531972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Oper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4595760"/>
              <a:ext cx="169920" cy="2019240"/>
            </a:xfrm>
            <a:custGeom>
              <a:avLst/>
              <a:gdLst>
                <a:gd name="textAreaLeft" fmla="*/ 108720 w 169920"/>
                <a:gd name="textAreaRight" fmla="*/ 170280 w 169920"/>
                <a:gd name="textAreaTop" fmla="*/ 52560 h 2019240"/>
                <a:gd name="textAreaBottom" fmla="*/ 196668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b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676520" y="107172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dentificación y análisi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tendencias del ambien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ecesidades y des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76640" y="1066680"/>
            <a:ext cx="4000680" cy="835200"/>
            <a:chOff x="4076640" y="1066680"/>
            <a:chExt cx="4000680" cy="835200"/>
          </a:xfrm>
        </p:grpSpPr>
        <p:sp>
          <p:nvSpPr>
            <p:cNvPr id="190" name=""/>
            <p:cNvSpPr/>
            <p:nvPr/>
          </p:nvSpPr>
          <p:spPr>
            <a:xfrm>
              <a:off x="5029200" y="1066680"/>
              <a:ext cx="3048120" cy="83520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necesidad satisface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uál es el tamaño del mercad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ntra quién competimo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ómo cambiarán m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nsumidores en el tiemp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4165560" y="1231200"/>
              <a:ext cx="315720" cy="493920"/>
            </a:xfrm>
            <a:prstGeom prst="downArrow">
              <a:avLst>
                <a:gd name="adj1" fmla="val 50000"/>
                <a:gd name="adj2" fmla="val 3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76520" y="2209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egmentación de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y selección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514600" y="1919160"/>
            <a:ext cx="4114800" cy="281160"/>
            <a:chOff x="2514600" y="1919160"/>
            <a:chExt cx="4114800" cy="281160"/>
          </a:xfrm>
        </p:grpSpPr>
        <p:sp>
          <p:nvSpPr>
            <p:cNvPr id="194" name=""/>
            <p:cNvSpPr/>
            <p:nvPr/>
          </p:nvSpPr>
          <p:spPr>
            <a:xfrm>
              <a:off x="6311880" y="1932120"/>
              <a:ext cx="3175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14600" y="191916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75200" y="2203560"/>
            <a:ext cx="4002120" cy="836640"/>
            <a:chOff x="4075200" y="2203560"/>
            <a:chExt cx="4002120" cy="836640"/>
          </a:xfrm>
        </p:grpSpPr>
        <p:sp>
          <p:nvSpPr>
            <p:cNvPr id="197" name=""/>
            <p:cNvSpPr/>
            <p:nvPr/>
          </p:nvSpPr>
          <p:spPr>
            <a:xfrm>
              <a:off x="5029200" y="2203560"/>
              <a:ext cx="3048120" cy="8366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Én qué se diferencian mis consumidore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hace que un consumidor 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comporte de una forma u otr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segmento es más convenient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165560" y="2424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676520" y="3352680"/>
            <a:ext cx="2131920" cy="82728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osicionamient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beneficio o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14600" y="3062160"/>
            <a:ext cx="4156200" cy="270000"/>
            <a:chOff x="2514600" y="3062160"/>
            <a:chExt cx="4156200" cy="270000"/>
          </a:xfrm>
        </p:grpSpPr>
        <p:sp>
          <p:nvSpPr>
            <p:cNvPr id="201" name=""/>
            <p:cNvSpPr/>
            <p:nvPr/>
          </p:nvSpPr>
          <p:spPr>
            <a:xfrm>
              <a:off x="6324480" y="3062160"/>
              <a:ext cx="34632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600" y="3063960"/>
              <a:ext cx="3142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075200" y="3336840"/>
            <a:ext cx="4002120" cy="865440"/>
            <a:chOff x="4075200" y="3336840"/>
            <a:chExt cx="4002120" cy="865440"/>
          </a:xfrm>
        </p:grpSpPr>
        <p:sp>
          <p:nvSpPr>
            <p:cNvPr id="204" name=""/>
            <p:cNvSpPr/>
            <p:nvPr/>
          </p:nvSpPr>
          <p:spPr>
            <a:xfrm>
              <a:off x="5027760" y="3336840"/>
              <a:ext cx="3049560" cy="8654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 importante para el consumidor 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omento de comprar/usar un producto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xiste una posición no utilizada q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sea atractiva para diferenciars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4165560" y="356724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6520" y="4572000"/>
            <a:ext cx="213192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Marketing M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oducto, punto de ven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precio y 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514600" y="4233960"/>
            <a:ext cx="4156200" cy="268200"/>
            <a:chOff x="2514600" y="4233960"/>
            <a:chExt cx="4156200" cy="268200"/>
          </a:xfrm>
        </p:grpSpPr>
        <p:sp>
          <p:nvSpPr>
            <p:cNvPr id="208" name=""/>
            <p:cNvSpPr/>
            <p:nvPr/>
          </p:nvSpPr>
          <p:spPr>
            <a:xfrm>
              <a:off x="6324480" y="4233960"/>
              <a:ext cx="34632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4233960"/>
              <a:ext cx="31608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75200" y="4572000"/>
            <a:ext cx="4002120" cy="878040"/>
            <a:chOff x="4075200" y="4572000"/>
            <a:chExt cx="4002120" cy="878040"/>
          </a:xfrm>
        </p:grpSpPr>
        <p:sp>
          <p:nvSpPr>
            <p:cNvPr id="211" name=""/>
            <p:cNvSpPr/>
            <p:nvPr/>
          </p:nvSpPr>
          <p:spPr>
            <a:xfrm>
              <a:off x="5027760" y="4572000"/>
              <a:ext cx="3049560" cy="87804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mpaque utilizar? ¿Qué canal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istribución? ¿Dónde hacer public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y/o promociones? ¿A qué precio vender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Como reaccionar a las acci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de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166280" y="4785120"/>
              <a:ext cx="314280" cy="496800"/>
            </a:xfrm>
            <a:prstGeom prst="downArrow">
              <a:avLst>
                <a:gd name="adj1" fmla="val 50000"/>
                <a:gd name="adj2" fmla="val 3951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676520" y="5791320"/>
            <a:ext cx="2133360" cy="826920"/>
          </a:xfrm>
          <a:prstGeom prst="rect">
            <a:avLst/>
          </a:prstGeom>
          <a:gradFill rotWithShape="0">
            <a:gsLst>
              <a:gs pos="0">
                <a:srgbClr val="dbaf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mplementación 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514600" y="5452920"/>
            <a:ext cx="4143240" cy="282600"/>
            <a:chOff x="2514600" y="5452920"/>
            <a:chExt cx="4143240" cy="282600"/>
          </a:xfrm>
        </p:grpSpPr>
        <p:sp>
          <p:nvSpPr>
            <p:cNvPr id="215" name=""/>
            <p:cNvSpPr/>
            <p:nvPr/>
          </p:nvSpPr>
          <p:spPr>
            <a:xfrm>
              <a:off x="6311880" y="5467320"/>
              <a:ext cx="345960" cy="268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452920"/>
              <a:ext cx="314280" cy="268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075200" y="5791320"/>
            <a:ext cx="4002120" cy="838080"/>
            <a:chOff x="4075200" y="5791320"/>
            <a:chExt cx="4002120" cy="838080"/>
          </a:xfrm>
        </p:grpSpPr>
        <p:sp>
          <p:nvSpPr>
            <p:cNvPr id="218" name=""/>
            <p:cNvSpPr/>
            <p:nvPr/>
          </p:nvSpPr>
          <p:spPr>
            <a:xfrm>
              <a:off x="5027760" y="5791320"/>
              <a:ext cx="3049560" cy="838080"/>
            </a:xfrm>
            <a:prstGeom prst="rect">
              <a:avLst/>
            </a:prstGeom>
            <a:gradFill rotWithShape="0">
              <a:gsLst>
                <a:gs pos="0">
                  <a:srgbClr val="693e00"/>
                </a:gs>
                <a:gs pos="100000">
                  <a:srgbClr val="e488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Está funcionando la estrateg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¿Qué está haciendo la competencia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4165560" y="6005520"/>
              <a:ext cx="316080" cy="496800"/>
            </a:xfrm>
            <a:prstGeom prst="downArrow">
              <a:avLst>
                <a:gd name="adj1" fmla="val 50000"/>
                <a:gd name="adj2" fmla="val 39294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236600" y="674640"/>
            <a:ext cx="6823080" cy="345240"/>
            <a:chOff x="1236600" y="674640"/>
            <a:chExt cx="6823080" cy="345240"/>
          </a:xfrm>
        </p:grpSpPr>
        <p:sp>
          <p:nvSpPr>
            <p:cNvPr id="221" name=""/>
            <p:cNvSpPr/>
            <p:nvPr/>
          </p:nvSpPr>
          <p:spPr>
            <a:xfrm>
              <a:off x="1236600" y="674640"/>
              <a:ext cx="295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o de Market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520" y="682560"/>
              <a:ext cx="295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formación Necesa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A08-DEBF-4B20-B2F4-44CDD9FADA95}" type="slidenum">
              <a:t>11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938520" y="901800"/>
            <a:ext cx="8172000" cy="3290760"/>
            <a:chOff x="938520" y="901800"/>
            <a:chExt cx="8172000" cy="3290760"/>
          </a:xfrm>
        </p:grpSpPr>
        <p:sp>
          <p:nvSpPr>
            <p:cNvPr id="224" name=""/>
            <p:cNvSpPr/>
            <p:nvPr/>
          </p:nvSpPr>
          <p:spPr>
            <a:xfrm>
              <a:off x="1905120" y="928800"/>
              <a:ext cx="6933960" cy="2895480"/>
            </a:xfrm>
            <a:custGeom>
              <a:avLst/>
              <a:gdLst/>
              <a:ahLst/>
              <a:rect l="l" t="t" r="r" b="b"/>
              <a:pathLst>
                <a:path w="4290" h="2013">
                  <a:moveTo>
                    <a:pt x="0" y="2013"/>
                  </a:moveTo>
                  <a:cubicBezTo>
                    <a:pt x="322" y="1959"/>
                    <a:pt x="645" y="1906"/>
                    <a:pt x="961" y="1643"/>
                  </a:cubicBezTo>
                  <a:cubicBezTo>
                    <a:pt x="1277" y="1380"/>
                    <a:pt x="1623" y="706"/>
                    <a:pt x="1898" y="435"/>
                  </a:cubicBezTo>
                  <a:cubicBezTo>
                    <a:pt x="2173" y="164"/>
                    <a:pt x="2350" y="32"/>
                    <a:pt x="2613" y="16"/>
                  </a:cubicBezTo>
                  <a:cubicBezTo>
                    <a:pt x="2876" y="0"/>
                    <a:pt x="3196" y="8"/>
                    <a:pt x="3476" y="337"/>
                  </a:cubicBezTo>
                  <a:cubicBezTo>
                    <a:pt x="3756" y="666"/>
                    <a:pt x="4023" y="1327"/>
                    <a:pt x="4290" y="1989"/>
                  </a:cubicBezTo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86120" y="914040"/>
              <a:ext cx="0" cy="291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38520" y="90180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60320" y="3824280"/>
              <a:ext cx="97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47960" y="3809880"/>
              <a:ext cx="71625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302600" y="4267080"/>
            <a:ext cx="1919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00"/>
                </a:solidFill>
                <a:latin typeface="Tahoma"/>
              </a:rPr>
              <a:t>Dec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lasticidad 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ensanchamiento de 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studios de arquitectura de mraca (fusiones, marca parag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898560"/>
            <a:ext cx="1877760" cy="5959440"/>
            <a:chOff x="1905120" y="898560"/>
            <a:chExt cx="1877760" cy="5959440"/>
          </a:xfrm>
        </p:grpSpPr>
        <p:sp>
          <p:nvSpPr>
            <p:cNvPr id="231" name=""/>
            <p:cNvSpPr/>
            <p:nvPr/>
          </p:nvSpPr>
          <p:spPr>
            <a:xfrm>
              <a:off x="1905120" y="4284720"/>
              <a:ext cx="187776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Introd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miento/prueba/uso de product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depuración/rediseños de produ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estrategias publici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7576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72000" y="898560"/>
            <a:ext cx="1919160" cy="5959440"/>
            <a:chOff x="3672000" y="898560"/>
            <a:chExt cx="1919160" cy="5959440"/>
          </a:xfrm>
        </p:grpSpPr>
        <p:sp>
          <p:nvSpPr>
            <p:cNvPr id="234" name=""/>
            <p:cNvSpPr/>
            <p:nvPr/>
          </p:nvSpPr>
          <p:spPr>
            <a:xfrm>
              <a:off x="3672000" y="4267080"/>
              <a:ext cx="1919160" cy="19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Cre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conocimiento/actitud/ opinión/asociación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uimiento (tracki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promo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8964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452920" y="898560"/>
            <a:ext cx="1935360" cy="5959440"/>
            <a:chOff x="5452920" y="898560"/>
            <a:chExt cx="1935360" cy="5959440"/>
          </a:xfrm>
        </p:grpSpPr>
        <p:sp>
          <p:nvSpPr>
            <p:cNvPr id="237" name=""/>
            <p:cNvSpPr/>
            <p:nvPr/>
          </p:nvSpPr>
          <p:spPr>
            <a:xfrm>
              <a:off x="5452920" y="4267080"/>
              <a:ext cx="1919520" cy="21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Madure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seg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stigación de estilos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reposicion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estructura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88280" y="898560"/>
              <a:ext cx="0" cy="595944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8560" y="152280"/>
            <a:ext cx="8785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iclo del Producto y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3683160"/>
            <a:ext cx="2057400" cy="3047760"/>
            <a:chOff x="0" y="3683160"/>
            <a:chExt cx="2057400" cy="3047760"/>
          </a:xfrm>
        </p:grpSpPr>
        <p:sp>
          <p:nvSpPr>
            <p:cNvPr id="241" name=""/>
            <p:cNvSpPr/>
            <p:nvPr/>
          </p:nvSpPr>
          <p:spPr>
            <a:xfrm>
              <a:off x="0" y="4257720"/>
              <a:ext cx="205740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60000"/>
                  </a:solidFill>
                  <a:latin typeface="Tahoma"/>
                </a:rPr>
                <a:t>Desarro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studios de definición de merc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dentificación de segmentos cl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concep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Evaluación de nombres y env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s de 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ercados de prue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Prueba de campaña de lanza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984320" y="3683160"/>
              <a:ext cx="0" cy="304776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431760" y="6613560"/>
            <a:ext cx="27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Fuente: Cristián Diez, Mktg. Decisional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EBA-8D04-4742-82E9-E1CDDBF8A8CE}" type="slidenum">
              <a:t>12</a:t>
            </a:fld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Overview del proceso de Investigación de Mercad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201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El proceso de Investigación de Mercados involucra respond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1800" spc="-1" strike="noStrike">
                <a:solidFill>
                  <a:srgbClr val="000099"/>
                </a:solidFill>
                <a:latin typeface="Arial"/>
              </a:rPr>
              <a:t>las siguientes preguntas claves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457280" y="2774880"/>
            <a:ext cx="91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or 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mos realizar esta investigación?</a:t>
            </a:r>
            <a:r>
              <a:rPr b="0" lang="en-US" sz="2000" spc="-1" strike="noStrike">
                <a:solidFill>
                  <a:srgbClr val="000000"/>
                </a:solidFill>
                <a:latin typeface="Univer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nvestigación debe ser realiz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8360" y="3857760"/>
            <a:ext cx="35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uánto val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a informa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-541440" y="4389480"/>
            <a:ext cx="9217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be ser diseñada la investigación para alcanzar los objetivos planteado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-533520" y="5202360"/>
            <a:ext cx="8610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Qué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remos con la investigació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E20-D076-4C4F-99AB-56104B5056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Backward” Market Research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49200"/>
            <a:ext cx="7991280" cy="520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La idea básica es que la investigación de mercados debe ser realizada desde el producto final hacia “atrás”. Hay  8 etapas descritas en orden: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cómo serán implementados los resultados de la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                 investigación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iagramar”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pecificar los análisis necesarios para realizar el reporte fin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terminar los datos neces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visar si existen datos secundarios disponibles y recolectar datos primari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levar a cabo el estud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2800" indent="-263520" algn="just"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Realizar el análisis, escribir el report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e esta forma, los resultados estarán orientados a la acción y los datos serán enfocados al problema apropiad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3716280"/>
            <a:ext cx="504720" cy="936720"/>
          </a:xfrm>
          <a:custGeom>
            <a:avLst/>
            <a:gdLst>
              <a:gd name="textAreaLeft" fmla="*/ 67320 w 504720"/>
              <a:gd name="textAreaRight" fmla="*/ 437400 w 5047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BF5-02AE-47E3-8CB1-40E5FFDCB56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27880" y="5589000"/>
            <a:ext cx="137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aker /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22560" y="1474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uerdo sobre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22560" y="2376360"/>
            <a:ext cx="27576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2560" y="332892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 de la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27240" y="42354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eño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27240" y="5230800"/>
            <a:ext cx="27576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V="1" rot="10800000">
            <a:off x="4401360" y="1963440"/>
            <a:ext cx="1080" cy="39420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7" idx="2"/>
            <a:endCxn id="258" idx="0"/>
          </p:cNvCxnSpPr>
          <p:nvPr/>
        </p:nvCxnSpPr>
        <p:spPr>
          <a:xfrm>
            <a:off x="4401720" y="2865600"/>
            <a:ext cx="108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8" idx="2"/>
            <a:endCxn id="259" idx="0"/>
          </p:cNvCxnSpPr>
          <p:nvPr/>
        </p:nvCxnSpPr>
        <p:spPr>
          <a:xfrm flipH="1" rot="16200000">
            <a:off x="4204080" y="4014360"/>
            <a:ext cx="399240" cy="54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9" idx="2"/>
            <a:endCxn id="260" idx="0"/>
          </p:cNvCxnSpPr>
          <p:nvPr/>
        </p:nvCxnSpPr>
        <p:spPr>
          <a:xfrm flipV="1" rot="10800000">
            <a:off x="4406040" y="4723920"/>
            <a:ext cx="1080" cy="48816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endCxn id="257" idx="1"/>
          </p:cNvCxnSpPr>
          <p:nvPr/>
        </p:nvCxnSpPr>
        <p:spPr>
          <a:xfrm flipH="1" flipV="1" rot="5400000">
            <a:off x="1282680" y="3785040"/>
            <a:ext cx="2894760" cy="5464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0" idx="1"/>
            <a:endCxn id="256" idx="1"/>
          </p:cNvCxnSpPr>
          <p:nvPr/>
        </p:nvCxnSpPr>
        <p:spPr>
          <a:xfrm rot="10800000">
            <a:off x="3002760" y="1708920"/>
            <a:ext cx="5400" cy="3756960"/>
          </a:xfrm>
          <a:prstGeom prst="bentConnector3">
            <a:avLst>
              <a:gd name="adj1" fmla="val 20028571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983-E721-470B-A736-168040A55D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l proceso de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55840" y="558900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lho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55960" y="1487520"/>
            <a:ext cx="3214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22560" y="2376360"/>
            <a:ext cx="3106800" cy="4701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plante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2560" y="3328920"/>
            <a:ext cx="30942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bajo de ca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235400"/>
            <a:ext cx="30924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paración analisi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2040" y="5230800"/>
            <a:ext cx="3133800" cy="4698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9" idx="2"/>
            <a:endCxn id="270" idx="0"/>
          </p:cNvCxnSpPr>
          <p:nvPr/>
        </p:nvCxnSpPr>
        <p:spPr>
          <a:xfrm flipH="1" rot="16200000">
            <a:off x="4379040" y="2160360"/>
            <a:ext cx="381600" cy="13320"/>
          </a:xfrm>
          <a:prstGeom prst="bentConnector3">
            <a:avLst>
              <a:gd name="adj1" fmla="val 49952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70" idx="2"/>
            <a:endCxn id="271" idx="0"/>
          </p:cNvCxnSpPr>
          <p:nvPr/>
        </p:nvCxnSpPr>
        <p:spPr>
          <a:xfrm flipH="1">
            <a:off x="4569840" y="2865600"/>
            <a:ext cx="6840" cy="4449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2"/>
            <a:endCxn id="272" idx="0"/>
          </p:cNvCxnSpPr>
          <p:nvPr/>
        </p:nvCxnSpPr>
        <p:spPr>
          <a:xfrm flipH="1" rot="16200000">
            <a:off x="4372560" y="4015080"/>
            <a:ext cx="399240" cy="3600"/>
          </a:xfrm>
          <a:prstGeom prst="bentConnector3">
            <a:avLst>
              <a:gd name="adj1" fmla="val 49729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2"/>
            <a:endCxn id="273" idx="0"/>
          </p:cNvCxnSpPr>
          <p:nvPr/>
        </p:nvCxnSpPr>
        <p:spPr>
          <a:xfrm rot="5400000">
            <a:off x="4326480" y="4965480"/>
            <a:ext cx="488160" cy="5400"/>
          </a:xfrm>
          <a:prstGeom prst="bentConnector3">
            <a:avLst>
              <a:gd name="adj1" fmla="val 49815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275-C24D-4920-8048-54D3167C0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4000" y="260280"/>
            <a:ext cx="854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11001"/>
                </a:solidFill>
                <a:latin typeface="Arial"/>
              </a:rPr>
              <a:t>Proceso de la Investigación de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80880" y="1679400"/>
            <a:ext cx="7602480" cy="1130400"/>
            <a:chOff x="380880" y="1679400"/>
            <a:chExt cx="7602480" cy="1130400"/>
          </a:xfrm>
        </p:grpSpPr>
        <p:sp>
          <p:nvSpPr>
            <p:cNvPr id="280" name=""/>
            <p:cNvSpPr/>
            <p:nvPr/>
          </p:nvSpPr>
          <p:spPr>
            <a:xfrm>
              <a:off x="1155600" y="1679400"/>
              <a:ext cx="682776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los obje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información que se necesita? ¿Cuáles son las preguntas que se desea responder? ¿Qué hipótesis se quiere confirmar o rechaz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380880" y="182880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80880" y="2868480"/>
            <a:ext cx="7547040" cy="1130400"/>
            <a:chOff x="380880" y="2868480"/>
            <a:chExt cx="7547040" cy="1130400"/>
          </a:xfrm>
        </p:grpSpPr>
        <p:sp>
          <p:nvSpPr>
            <p:cNvPr id="283" name=""/>
            <p:cNvSpPr/>
            <p:nvPr/>
          </p:nvSpPr>
          <p:spPr>
            <a:xfrm>
              <a:off x="1143000" y="2868480"/>
              <a:ext cx="6784920" cy="113040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Estimar el Valor de la 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nto se está dispuesto a pagar por la información? ¿Cuánto gano o dejo de perder si cuento con esta información para tomar mis decision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2"/>
            <a:stretch/>
          </p:blipFill>
          <p:spPr>
            <a:xfrm>
              <a:off x="380880" y="2971800"/>
              <a:ext cx="762120" cy="746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380880" y="3884760"/>
            <a:ext cx="7675560" cy="1130040"/>
            <a:chOff x="380880" y="3884760"/>
            <a:chExt cx="7675560" cy="1130040"/>
          </a:xfrm>
        </p:grpSpPr>
        <p:sp>
          <p:nvSpPr>
            <p:cNvPr id="286" name=""/>
            <p:cNvSpPr/>
            <p:nvPr/>
          </p:nvSpPr>
          <p:spPr>
            <a:xfrm>
              <a:off x="1143000" y="3884760"/>
              <a:ext cx="691344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iseñar el método para obtener la información necesa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Qué método se utilizará? ¿Cuál será el instrumento de medición? ¿Cómo se seleccionará la muestra? ¿Cuál será el diseño del estudi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380880" y="4038480"/>
              <a:ext cx="609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380880" y="665280"/>
            <a:ext cx="7531200" cy="1130040"/>
            <a:chOff x="380880" y="665280"/>
            <a:chExt cx="7531200" cy="1130040"/>
          </a:xfrm>
        </p:grpSpPr>
        <p:sp>
          <p:nvSpPr>
            <p:cNvPr id="289" name=""/>
            <p:cNvSpPr/>
            <p:nvPr/>
          </p:nvSpPr>
          <p:spPr>
            <a:xfrm>
              <a:off x="1181160" y="665280"/>
              <a:ext cx="673092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Definir el propós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¿Cuál es la decisión que se quiere apoyar? ¿Cuál es el problema a investigar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80880" y="838080"/>
              <a:ext cx="685800" cy="762120"/>
              <a:chOff x="380880" y="838080"/>
              <a:chExt cx="685800" cy="762120"/>
            </a:xfrm>
          </p:grpSpPr>
          <p:sp>
            <p:nvSpPr>
              <p:cNvPr id="291" name=""/>
              <p:cNvSpPr/>
              <p:nvPr/>
            </p:nvSpPr>
            <p:spPr>
              <a:xfrm>
                <a:off x="389160" y="851400"/>
                <a:ext cx="652320" cy="738360"/>
              </a:xfrm>
              <a:custGeom>
                <a:avLst/>
                <a:gdLst/>
                <a:ahLst/>
                <a:rect l="l" t="t" r="r" b="b"/>
                <a:pathLst>
                  <a:path w="3132" h="3371">
                    <a:moveTo>
                      <a:pt x="0" y="1438"/>
                    </a:moveTo>
                    <a:lnTo>
                      <a:pt x="771" y="627"/>
                    </a:lnTo>
                    <a:lnTo>
                      <a:pt x="867" y="619"/>
                    </a:lnTo>
                    <a:lnTo>
                      <a:pt x="845" y="871"/>
                    </a:lnTo>
                    <a:lnTo>
                      <a:pt x="1650" y="508"/>
                    </a:lnTo>
                    <a:lnTo>
                      <a:pt x="1717" y="93"/>
                    </a:lnTo>
                    <a:lnTo>
                      <a:pt x="1950" y="0"/>
                    </a:lnTo>
                    <a:lnTo>
                      <a:pt x="1998" y="53"/>
                    </a:lnTo>
                    <a:lnTo>
                      <a:pt x="2147" y="13"/>
                    </a:lnTo>
                    <a:lnTo>
                      <a:pt x="2302" y="141"/>
                    </a:lnTo>
                    <a:lnTo>
                      <a:pt x="2234" y="296"/>
                    </a:lnTo>
                    <a:lnTo>
                      <a:pt x="2720" y="183"/>
                    </a:lnTo>
                    <a:lnTo>
                      <a:pt x="2740" y="324"/>
                    </a:lnTo>
                    <a:lnTo>
                      <a:pt x="2416" y="831"/>
                    </a:lnTo>
                    <a:lnTo>
                      <a:pt x="2625" y="1189"/>
                    </a:lnTo>
                    <a:lnTo>
                      <a:pt x="3132" y="1054"/>
                    </a:lnTo>
                    <a:lnTo>
                      <a:pt x="2868" y="1614"/>
                    </a:lnTo>
                    <a:lnTo>
                      <a:pt x="3124" y="2000"/>
                    </a:lnTo>
                    <a:lnTo>
                      <a:pt x="2788" y="2032"/>
                    </a:lnTo>
                    <a:lnTo>
                      <a:pt x="2943" y="2319"/>
                    </a:lnTo>
                    <a:lnTo>
                      <a:pt x="2493" y="2742"/>
                    </a:lnTo>
                    <a:lnTo>
                      <a:pt x="2374" y="2719"/>
                    </a:lnTo>
                    <a:lnTo>
                      <a:pt x="2374" y="2505"/>
                    </a:lnTo>
                    <a:lnTo>
                      <a:pt x="2181" y="2513"/>
                    </a:lnTo>
                    <a:lnTo>
                      <a:pt x="2221" y="3371"/>
                    </a:lnTo>
                    <a:lnTo>
                      <a:pt x="1789" y="3122"/>
                    </a:lnTo>
                    <a:lnTo>
                      <a:pt x="1580" y="3102"/>
                    </a:lnTo>
                    <a:lnTo>
                      <a:pt x="1303" y="3175"/>
                    </a:lnTo>
                    <a:lnTo>
                      <a:pt x="1303" y="3054"/>
                    </a:lnTo>
                    <a:lnTo>
                      <a:pt x="1438" y="2527"/>
                    </a:lnTo>
                    <a:lnTo>
                      <a:pt x="911" y="2587"/>
                    </a:lnTo>
                    <a:lnTo>
                      <a:pt x="851" y="2519"/>
                    </a:lnTo>
                    <a:lnTo>
                      <a:pt x="1000" y="2224"/>
                    </a:lnTo>
                    <a:lnTo>
                      <a:pt x="844" y="1952"/>
                    </a:lnTo>
                    <a:lnTo>
                      <a:pt x="1013" y="1581"/>
                    </a:lnTo>
                    <a:lnTo>
                      <a:pt x="1086" y="1703"/>
                    </a:lnTo>
                    <a:lnTo>
                      <a:pt x="1208" y="1706"/>
                    </a:lnTo>
                    <a:lnTo>
                      <a:pt x="1086" y="1357"/>
                    </a:lnTo>
                    <a:lnTo>
                      <a:pt x="750" y="1554"/>
                    </a:lnTo>
                    <a:lnTo>
                      <a:pt x="587" y="1877"/>
                    </a:lnTo>
                    <a:lnTo>
                      <a:pt x="55" y="1500"/>
                    </a:lnTo>
                    <a:lnTo>
                      <a:pt x="0" y="1438"/>
                    </a:lnTo>
                    <a:lnTo>
                      <a:pt x="0" y="1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7880" y="990360"/>
                <a:ext cx="64440" cy="106920"/>
              </a:xfrm>
              <a:custGeom>
                <a:avLst/>
                <a:gdLst/>
                <a:ahLst/>
                <a:rect l="l" t="t" r="r" b="b"/>
                <a:pathLst>
                  <a:path w="311" h="488">
                    <a:moveTo>
                      <a:pt x="0" y="90"/>
                    </a:moveTo>
                    <a:lnTo>
                      <a:pt x="26" y="14"/>
                    </a:lnTo>
                    <a:lnTo>
                      <a:pt x="88" y="0"/>
                    </a:lnTo>
                    <a:lnTo>
                      <a:pt x="108" y="62"/>
                    </a:lnTo>
                    <a:lnTo>
                      <a:pt x="161" y="62"/>
                    </a:lnTo>
                    <a:lnTo>
                      <a:pt x="221" y="96"/>
                    </a:lnTo>
                    <a:lnTo>
                      <a:pt x="311" y="333"/>
                    </a:lnTo>
                    <a:lnTo>
                      <a:pt x="141" y="488"/>
                    </a:lnTo>
                    <a:lnTo>
                      <a:pt x="34" y="40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99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43120" y="1086840"/>
                <a:ext cx="206280" cy="210240"/>
              </a:xfrm>
              <a:custGeom>
                <a:avLst/>
                <a:gdLst/>
                <a:ahLst/>
                <a:rect l="l" t="t" r="r" b="b"/>
                <a:pathLst>
                  <a:path w="991" h="959">
                    <a:moveTo>
                      <a:pt x="505" y="203"/>
                    </a:moveTo>
                    <a:lnTo>
                      <a:pt x="653" y="95"/>
                    </a:lnTo>
                    <a:lnTo>
                      <a:pt x="991" y="0"/>
                    </a:lnTo>
                    <a:lnTo>
                      <a:pt x="660" y="500"/>
                    </a:lnTo>
                    <a:lnTo>
                      <a:pt x="943" y="926"/>
                    </a:lnTo>
                    <a:lnTo>
                      <a:pt x="545" y="959"/>
                    </a:lnTo>
                    <a:lnTo>
                      <a:pt x="398" y="547"/>
                    </a:lnTo>
                    <a:lnTo>
                      <a:pt x="255" y="567"/>
                    </a:lnTo>
                    <a:lnTo>
                      <a:pt x="242" y="723"/>
                    </a:lnTo>
                    <a:lnTo>
                      <a:pt x="6" y="534"/>
                    </a:lnTo>
                    <a:lnTo>
                      <a:pt x="0" y="311"/>
                    </a:lnTo>
                    <a:lnTo>
                      <a:pt x="505" y="203"/>
                    </a:lnTo>
                    <a:lnTo>
                      <a:pt x="505" y="20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7880" y="903240"/>
                <a:ext cx="544680" cy="352440"/>
              </a:xfrm>
              <a:custGeom>
                <a:avLst/>
                <a:gdLst/>
                <a:ahLst/>
                <a:rect l="l" t="t" r="r" b="b"/>
                <a:pathLst>
                  <a:path w="2617" h="1608">
                    <a:moveTo>
                      <a:pt x="0" y="1222"/>
                    </a:moveTo>
                    <a:lnTo>
                      <a:pt x="681" y="359"/>
                    </a:lnTo>
                    <a:lnTo>
                      <a:pt x="619" y="737"/>
                    </a:lnTo>
                    <a:lnTo>
                      <a:pt x="1923" y="162"/>
                    </a:lnTo>
                    <a:lnTo>
                      <a:pt x="2617" y="0"/>
                    </a:lnTo>
                    <a:lnTo>
                      <a:pt x="2301" y="534"/>
                    </a:lnTo>
                    <a:lnTo>
                      <a:pt x="2516" y="987"/>
                    </a:lnTo>
                    <a:lnTo>
                      <a:pt x="1875" y="960"/>
                    </a:lnTo>
                    <a:lnTo>
                      <a:pt x="1660" y="1013"/>
                    </a:lnTo>
                    <a:lnTo>
                      <a:pt x="1133" y="629"/>
                    </a:lnTo>
                    <a:lnTo>
                      <a:pt x="1011" y="588"/>
                    </a:lnTo>
                    <a:lnTo>
                      <a:pt x="876" y="743"/>
                    </a:lnTo>
                    <a:lnTo>
                      <a:pt x="997" y="1121"/>
                    </a:lnTo>
                    <a:lnTo>
                      <a:pt x="520" y="1290"/>
                    </a:lnTo>
                    <a:lnTo>
                      <a:pt x="486" y="1608"/>
                    </a:lnTo>
                    <a:lnTo>
                      <a:pt x="377" y="1594"/>
                    </a:lnTo>
                    <a:lnTo>
                      <a:pt x="0" y="1222"/>
                    </a:lnTo>
                    <a:lnTo>
                      <a:pt x="0" y="122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3880" y="1207080"/>
                <a:ext cx="31680" cy="55800"/>
              </a:xfrm>
              <a:custGeom>
                <a:avLst/>
                <a:gdLst/>
                <a:ahLst/>
                <a:rect l="l" t="t" r="r" b="b"/>
                <a:pathLst>
                  <a:path w="156" h="257">
                    <a:moveTo>
                      <a:pt x="0" y="176"/>
                    </a:moveTo>
                    <a:lnTo>
                      <a:pt x="13" y="20"/>
                    </a:lnTo>
                    <a:lnTo>
                      <a:pt x="156" y="0"/>
                    </a:lnTo>
                    <a:lnTo>
                      <a:pt x="128" y="257"/>
                    </a:lnTo>
                    <a:lnTo>
                      <a:pt x="0" y="176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6640" y="1198440"/>
                <a:ext cx="73800" cy="88560"/>
              </a:xfrm>
              <a:custGeom>
                <a:avLst/>
                <a:gdLst/>
                <a:ahLst/>
                <a:rect l="l" t="t" r="r" b="b"/>
                <a:pathLst>
                  <a:path w="357" h="405">
                    <a:moveTo>
                      <a:pt x="0" y="405"/>
                    </a:moveTo>
                    <a:lnTo>
                      <a:pt x="148" y="182"/>
                    </a:lnTo>
                    <a:lnTo>
                      <a:pt x="195" y="249"/>
                    </a:lnTo>
                    <a:lnTo>
                      <a:pt x="357" y="182"/>
                    </a:lnTo>
                    <a:lnTo>
                      <a:pt x="351" y="88"/>
                    </a:lnTo>
                    <a:lnTo>
                      <a:pt x="202" y="122"/>
                    </a:lnTo>
                    <a:lnTo>
                      <a:pt x="162" y="0"/>
                    </a:lnTo>
                    <a:lnTo>
                      <a:pt x="40" y="223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6880" y="1224720"/>
                <a:ext cx="110880" cy="161640"/>
              </a:xfrm>
              <a:custGeom>
                <a:avLst/>
                <a:gdLst/>
                <a:ahLst/>
                <a:rect l="l" t="t" r="r" b="b"/>
                <a:pathLst>
                  <a:path w="533" h="736">
                    <a:moveTo>
                      <a:pt x="28" y="661"/>
                    </a:moveTo>
                    <a:lnTo>
                      <a:pt x="263" y="46"/>
                    </a:lnTo>
                    <a:lnTo>
                      <a:pt x="533" y="0"/>
                    </a:lnTo>
                    <a:lnTo>
                      <a:pt x="330" y="641"/>
                    </a:lnTo>
                    <a:lnTo>
                      <a:pt x="0" y="736"/>
                    </a:lnTo>
                    <a:lnTo>
                      <a:pt x="28" y="661"/>
                    </a:lnTo>
                    <a:lnTo>
                      <a:pt x="28" y="661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76960" y="1404000"/>
                <a:ext cx="38880" cy="59040"/>
              </a:xfrm>
              <a:custGeom>
                <a:avLst/>
                <a:gdLst/>
                <a:ahLst/>
                <a:rect l="l" t="t" r="r" b="b"/>
                <a:pathLst>
                  <a:path w="189" h="271">
                    <a:moveTo>
                      <a:pt x="0" y="0"/>
                    </a:moveTo>
                    <a:lnTo>
                      <a:pt x="189" y="244"/>
                    </a:lnTo>
                    <a:lnTo>
                      <a:pt x="147" y="271"/>
                    </a:lnTo>
                    <a:lnTo>
                      <a:pt x="20" y="18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46280" y="851400"/>
                <a:ext cx="122040" cy="103320"/>
              </a:xfrm>
              <a:custGeom>
                <a:avLst/>
                <a:gdLst/>
                <a:ahLst/>
                <a:rect l="l" t="t" r="r" b="b"/>
                <a:pathLst>
                  <a:path w="585" h="472">
                    <a:moveTo>
                      <a:pt x="72" y="290"/>
                    </a:moveTo>
                    <a:lnTo>
                      <a:pt x="92" y="155"/>
                    </a:lnTo>
                    <a:lnTo>
                      <a:pt x="267" y="6"/>
                    </a:lnTo>
                    <a:lnTo>
                      <a:pt x="301" y="87"/>
                    </a:lnTo>
                    <a:lnTo>
                      <a:pt x="382" y="0"/>
                    </a:lnTo>
                    <a:lnTo>
                      <a:pt x="510" y="101"/>
                    </a:lnTo>
                    <a:lnTo>
                      <a:pt x="585" y="141"/>
                    </a:lnTo>
                    <a:lnTo>
                      <a:pt x="537" y="256"/>
                    </a:lnTo>
                    <a:lnTo>
                      <a:pt x="0" y="472"/>
                    </a:lnTo>
                    <a:lnTo>
                      <a:pt x="72" y="290"/>
                    </a:lnTo>
                    <a:lnTo>
                      <a:pt x="72" y="29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160" y="1412640"/>
                <a:ext cx="192240" cy="177480"/>
              </a:xfrm>
              <a:custGeom>
                <a:avLst/>
                <a:gdLst/>
                <a:ahLst/>
                <a:rect l="l" t="t" r="r" b="b"/>
                <a:pathLst>
                  <a:path w="926" h="810">
                    <a:moveTo>
                      <a:pt x="8" y="553"/>
                    </a:moveTo>
                    <a:lnTo>
                      <a:pt x="110" y="115"/>
                    </a:lnTo>
                    <a:lnTo>
                      <a:pt x="257" y="0"/>
                    </a:lnTo>
                    <a:lnTo>
                      <a:pt x="689" y="87"/>
                    </a:lnTo>
                    <a:lnTo>
                      <a:pt x="858" y="26"/>
                    </a:lnTo>
                    <a:lnTo>
                      <a:pt x="926" y="810"/>
                    </a:lnTo>
                    <a:lnTo>
                      <a:pt x="697" y="730"/>
                    </a:lnTo>
                    <a:lnTo>
                      <a:pt x="319" y="519"/>
                    </a:lnTo>
                    <a:lnTo>
                      <a:pt x="265" y="296"/>
                    </a:lnTo>
                    <a:lnTo>
                      <a:pt x="163" y="533"/>
                    </a:lnTo>
                    <a:lnTo>
                      <a:pt x="82" y="519"/>
                    </a:lnTo>
                    <a:lnTo>
                      <a:pt x="0" y="587"/>
                    </a:lnTo>
                    <a:lnTo>
                      <a:pt x="8" y="553"/>
                    </a:lnTo>
                    <a:lnTo>
                      <a:pt x="8" y="553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680" y="1185840"/>
                <a:ext cx="36360" cy="83160"/>
              </a:xfrm>
              <a:custGeom>
                <a:avLst/>
                <a:gdLst/>
                <a:ahLst/>
                <a:rect l="l" t="t" r="r" b="b"/>
                <a:pathLst>
                  <a:path w="175" h="380">
                    <a:moveTo>
                      <a:pt x="0" y="318"/>
                    </a:moveTo>
                    <a:lnTo>
                      <a:pt x="34" y="0"/>
                    </a:lnTo>
                    <a:lnTo>
                      <a:pt x="175" y="28"/>
                    </a:lnTo>
                    <a:lnTo>
                      <a:pt x="141" y="338"/>
                    </a:lnTo>
                    <a:lnTo>
                      <a:pt x="34" y="380"/>
                    </a:lnTo>
                    <a:lnTo>
                      <a:pt x="0" y="318"/>
                    </a:lnTo>
                    <a:lnTo>
                      <a:pt x="0" y="318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80" y="981720"/>
                <a:ext cx="27720" cy="69480"/>
              </a:xfrm>
              <a:custGeom>
                <a:avLst/>
                <a:gdLst/>
                <a:ahLst/>
                <a:rect l="l" t="t" r="r" b="b"/>
                <a:pathLst>
                  <a:path w="134" h="316">
                    <a:moveTo>
                      <a:pt x="0" y="316"/>
                    </a:moveTo>
                    <a:lnTo>
                      <a:pt x="40" y="0"/>
                    </a:lnTo>
                    <a:lnTo>
                      <a:pt x="134" y="46"/>
                    </a:lnTo>
                    <a:lnTo>
                      <a:pt x="121" y="262"/>
                    </a:lnTo>
                    <a:lnTo>
                      <a:pt x="0" y="316"/>
                    </a:lnTo>
                    <a:lnTo>
                      <a:pt x="0" y="316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891360"/>
                <a:ext cx="99720" cy="146520"/>
              </a:xfrm>
              <a:custGeom>
                <a:avLst/>
                <a:gdLst/>
                <a:ahLst/>
                <a:rect l="l" t="t" r="r" b="b"/>
                <a:pathLst>
                  <a:path w="480" h="668">
                    <a:moveTo>
                      <a:pt x="0" y="581"/>
                    </a:moveTo>
                    <a:lnTo>
                      <a:pt x="426" y="0"/>
                    </a:lnTo>
                    <a:lnTo>
                      <a:pt x="480" y="195"/>
                    </a:lnTo>
                    <a:lnTo>
                      <a:pt x="156" y="668"/>
                    </a:lnTo>
                    <a:lnTo>
                      <a:pt x="0" y="581"/>
                    </a:lnTo>
                    <a:lnTo>
                      <a:pt x="0" y="581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64840" y="1225800"/>
                <a:ext cx="75600" cy="103680"/>
              </a:xfrm>
              <a:custGeom>
                <a:avLst/>
                <a:gdLst/>
                <a:ahLst/>
                <a:rect l="l" t="t" r="r" b="b"/>
                <a:pathLst>
                  <a:path w="364" h="473">
                    <a:moveTo>
                      <a:pt x="0" y="243"/>
                    </a:moveTo>
                    <a:lnTo>
                      <a:pt x="169" y="0"/>
                    </a:lnTo>
                    <a:lnTo>
                      <a:pt x="216" y="75"/>
                    </a:lnTo>
                    <a:lnTo>
                      <a:pt x="364" y="54"/>
                    </a:lnTo>
                    <a:lnTo>
                      <a:pt x="143" y="473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8680" y="1041480"/>
                <a:ext cx="109440" cy="250200"/>
              </a:xfrm>
              <a:custGeom>
                <a:avLst/>
                <a:gdLst/>
                <a:ahLst/>
                <a:rect l="l" t="t" r="r" b="b"/>
                <a:pathLst>
                  <a:path w="525" h="1142">
                    <a:moveTo>
                      <a:pt x="195" y="804"/>
                    </a:moveTo>
                    <a:lnTo>
                      <a:pt x="0" y="128"/>
                    </a:lnTo>
                    <a:lnTo>
                      <a:pt x="99" y="0"/>
                    </a:lnTo>
                    <a:lnTo>
                      <a:pt x="525" y="838"/>
                    </a:lnTo>
                    <a:lnTo>
                      <a:pt x="410" y="1142"/>
                    </a:lnTo>
                    <a:lnTo>
                      <a:pt x="201" y="999"/>
                    </a:lnTo>
                    <a:lnTo>
                      <a:pt x="255" y="884"/>
                    </a:lnTo>
                    <a:lnTo>
                      <a:pt x="195" y="804"/>
                    </a:lnTo>
                    <a:lnTo>
                      <a:pt x="195" y="804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74920" y="1365480"/>
                <a:ext cx="340920" cy="91800"/>
              </a:xfrm>
              <a:custGeom>
                <a:avLst/>
                <a:gdLst/>
                <a:ahLst/>
                <a:rect l="l" t="t" r="r" b="b"/>
                <a:pathLst>
                  <a:path w="1640" h="419">
                    <a:moveTo>
                      <a:pt x="20" y="243"/>
                    </a:moveTo>
                    <a:lnTo>
                      <a:pt x="438" y="0"/>
                    </a:lnTo>
                    <a:lnTo>
                      <a:pt x="1632" y="67"/>
                    </a:lnTo>
                    <a:lnTo>
                      <a:pt x="1640" y="419"/>
                    </a:lnTo>
                    <a:lnTo>
                      <a:pt x="1465" y="250"/>
                    </a:lnTo>
                    <a:lnTo>
                      <a:pt x="1451" y="175"/>
                    </a:lnTo>
                    <a:lnTo>
                      <a:pt x="514" y="209"/>
                    </a:lnTo>
                    <a:lnTo>
                      <a:pt x="0" y="304"/>
                    </a:lnTo>
                    <a:lnTo>
                      <a:pt x="20" y="243"/>
                    </a:lnTo>
                    <a:lnTo>
                      <a:pt x="20" y="243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8040" y="1090080"/>
                <a:ext cx="75600" cy="123120"/>
              </a:xfrm>
              <a:custGeom>
                <a:avLst/>
                <a:gdLst/>
                <a:ahLst/>
                <a:rect l="l" t="t" r="r" b="b"/>
                <a:pathLst>
                  <a:path w="364" h="561">
                    <a:moveTo>
                      <a:pt x="330" y="0"/>
                    </a:moveTo>
                    <a:lnTo>
                      <a:pt x="0" y="486"/>
                    </a:lnTo>
                    <a:lnTo>
                      <a:pt x="115" y="561"/>
                    </a:lnTo>
                    <a:lnTo>
                      <a:pt x="364" y="88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3120" y="1116720"/>
                <a:ext cx="185400" cy="37800"/>
              </a:xfrm>
              <a:custGeom>
                <a:avLst/>
                <a:gdLst/>
                <a:ahLst/>
                <a:rect l="l" t="t" r="r" b="b"/>
                <a:pathLst>
                  <a:path w="890" h="176">
                    <a:moveTo>
                      <a:pt x="0" y="40"/>
                    </a:moveTo>
                    <a:lnTo>
                      <a:pt x="147" y="0"/>
                    </a:lnTo>
                    <a:lnTo>
                      <a:pt x="802" y="34"/>
                    </a:lnTo>
                    <a:lnTo>
                      <a:pt x="890" y="176"/>
                    </a:lnTo>
                    <a:lnTo>
                      <a:pt x="519" y="156"/>
                    </a:lnTo>
                    <a:lnTo>
                      <a:pt x="195" y="162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7720" y="1011600"/>
                <a:ext cx="58680" cy="46800"/>
              </a:xfrm>
              <a:custGeom>
                <a:avLst/>
                <a:gdLst/>
                <a:ahLst/>
                <a:rect l="l" t="t" r="r" b="b"/>
                <a:pathLst>
                  <a:path w="283" h="215">
                    <a:moveTo>
                      <a:pt x="0" y="0"/>
                    </a:moveTo>
                    <a:lnTo>
                      <a:pt x="128" y="54"/>
                    </a:lnTo>
                    <a:lnTo>
                      <a:pt x="209" y="6"/>
                    </a:lnTo>
                    <a:lnTo>
                      <a:pt x="283" y="60"/>
                    </a:lnTo>
                    <a:lnTo>
                      <a:pt x="102" y="215"/>
                    </a:lnTo>
                    <a:lnTo>
                      <a:pt x="74" y="161"/>
                    </a:lnTo>
                    <a:lnTo>
                      <a:pt x="102" y="10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7040" y="1063440"/>
                <a:ext cx="71640" cy="109440"/>
              </a:xfrm>
              <a:custGeom>
                <a:avLst/>
                <a:gdLst/>
                <a:ahLst/>
                <a:rect l="l" t="t" r="r" b="b"/>
                <a:pathLst>
                  <a:path w="345" h="499">
                    <a:moveTo>
                      <a:pt x="176" y="0"/>
                    </a:moveTo>
                    <a:lnTo>
                      <a:pt x="311" y="121"/>
                    </a:lnTo>
                    <a:lnTo>
                      <a:pt x="345" y="249"/>
                    </a:lnTo>
                    <a:lnTo>
                      <a:pt x="283" y="451"/>
                    </a:lnTo>
                    <a:lnTo>
                      <a:pt x="203" y="499"/>
                    </a:lnTo>
                    <a:lnTo>
                      <a:pt x="182" y="465"/>
                    </a:lnTo>
                    <a:lnTo>
                      <a:pt x="102" y="451"/>
                    </a:lnTo>
                    <a:lnTo>
                      <a:pt x="34" y="364"/>
                    </a:lnTo>
                    <a:lnTo>
                      <a:pt x="122" y="404"/>
                    </a:lnTo>
                    <a:lnTo>
                      <a:pt x="170" y="378"/>
                    </a:lnTo>
                    <a:lnTo>
                      <a:pt x="0" y="175"/>
                    </a:lnTo>
                    <a:lnTo>
                      <a:pt x="176" y="0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9560" y="1041480"/>
                <a:ext cx="376560" cy="405360"/>
              </a:xfrm>
              <a:custGeom>
                <a:avLst/>
                <a:gdLst/>
                <a:ahLst/>
                <a:rect l="l" t="t" r="r" b="b"/>
                <a:pathLst>
                  <a:path w="1809" h="1851">
                    <a:moveTo>
                      <a:pt x="0" y="0"/>
                    </a:moveTo>
                    <a:lnTo>
                      <a:pt x="251" y="155"/>
                    </a:lnTo>
                    <a:lnTo>
                      <a:pt x="1465" y="1087"/>
                    </a:lnTo>
                    <a:lnTo>
                      <a:pt x="1499" y="830"/>
                    </a:lnTo>
                    <a:lnTo>
                      <a:pt x="1809" y="1465"/>
                    </a:lnTo>
                    <a:lnTo>
                      <a:pt x="1425" y="1851"/>
                    </a:lnTo>
                    <a:lnTo>
                      <a:pt x="1417" y="1546"/>
                    </a:lnTo>
                    <a:lnTo>
                      <a:pt x="223" y="1479"/>
                    </a:lnTo>
                    <a:lnTo>
                      <a:pt x="406" y="7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43120" y="1146240"/>
                <a:ext cx="187920" cy="146520"/>
              </a:xfrm>
              <a:custGeom>
                <a:avLst/>
                <a:gdLst/>
                <a:ahLst/>
                <a:rect l="l" t="t" r="r" b="b"/>
                <a:pathLst>
                  <a:path w="903" h="668">
                    <a:moveTo>
                      <a:pt x="330" y="0"/>
                    </a:moveTo>
                    <a:lnTo>
                      <a:pt x="424" y="181"/>
                    </a:lnTo>
                    <a:lnTo>
                      <a:pt x="734" y="547"/>
                    </a:lnTo>
                    <a:lnTo>
                      <a:pt x="599" y="229"/>
                    </a:lnTo>
                    <a:lnTo>
                      <a:pt x="903" y="655"/>
                    </a:lnTo>
                    <a:lnTo>
                      <a:pt x="587" y="668"/>
                    </a:lnTo>
                    <a:lnTo>
                      <a:pt x="398" y="276"/>
                    </a:lnTo>
                    <a:lnTo>
                      <a:pt x="255" y="296"/>
                    </a:lnTo>
                    <a:lnTo>
                      <a:pt x="242" y="452"/>
                    </a:lnTo>
                    <a:lnTo>
                      <a:pt x="12" y="229"/>
                    </a:lnTo>
                    <a:lnTo>
                      <a:pt x="0" y="40"/>
                    </a:lnTo>
                    <a:lnTo>
                      <a:pt x="330" y="0"/>
                    </a:lnTo>
                    <a:lnTo>
                      <a:pt x="330" y="0"/>
                    </a:lnTo>
                    <a:close/>
                  </a:path>
                </a:pathLst>
              </a:cu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8240" y="99108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88" h="80">
                    <a:moveTo>
                      <a:pt x="0" y="80"/>
                    </a:moveTo>
                    <a:lnTo>
                      <a:pt x="36" y="45"/>
                    </a:lnTo>
                    <a:lnTo>
                      <a:pt x="63" y="55"/>
                    </a:lnTo>
                    <a:lnTo>
                      <a:pt x="88" y="22"/>
                    </a:lnTo>
                    <a:lnTo>
                      <a:pt x="71" y="0"/>
                    </a:lnTo>
                    <a:lnTo>
                      <a:pt x="23" y="1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5240" y="100440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9" y="0"/>
                    </a:moveTo>
                    <a:lnTo>
                      <a:pt x="0" y="36"/>
                    </a:lnTo>
                    <a:lnTo>
                      <a:pt x="35" y="92"/>
                    </a:lnTo>
                    <a:lnTo>
                      <a:pt x="50" y="64"/>
                    </a:lnTo>
                    <a:lnTo>
                      <a:pt x="109" y="127"/>
                    </a:lnTo>
                    <a:lnTo>
                      <a:pt x="75" y="32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2560" y="102564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72" h="242">
                    <a:moveTo>
                      <a:pt x="7" y="0"/>
                    </a:moveTo>
                    <a:lnTo>
                      <a:pt x="40" y="120"/>
                    </a:lnTo>
                    <a:lnTo>
                      <a:pt x="72" y="168"/>
                    </a:lnTo>
                    <a:lnTo>
                      <a:pt x="67" y="214"/>
                    </a:lnTo>
                    <a:lnTo>
                      <a:pt x="27" y="242"/>
                    </a:lnTo>
                    <a:lnTo>
                      <a:pt x="0" y="154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6880" y="852840"/>
                <a:ext cx="25200" cy="84600"/>
              </a:xfrm>
              <a:custGeom>
                <a:avLst/>
                <a:gdLst/>
                <a:ahLst/>
                <a:rect l="l" t="t" r="r" b="b"/>
                <a:pathLst>
                  <a:path w="121" h="386">
                    <a:moveTo>
                      <a:pt x="121" y="0"/>
                    </a:moveTo>
                    <a:lnTo>
                      <a:pt x="19" y="143"/>
                    </a:lnTo>
                    <a:lnTo>
                      <a:pt x="0" y="386"/>
                    </a:lnTo>
                    <a:lnTo>
                      <a:pt x="75" y="372"/>
                    </a:lnTo>
                    <a:lnTo>
                      <a:pt x="115" y="183"/>
                    </a:lnTo>
                    <a:lnTo>
                      <a:pt x="121" y="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5040" y="851400"/>
                <a:ext cx="53280" cy="78120"/>
              </a:xfrm>
              <a:custGeom>
                <a:avLst/>
                <a:gdLst/>
                <a:ahLst/>
                <a:rect l="l" t="t" r="r" b="b"/>
                <a:pathLst>
                  <a:path w="257" h="358">
                    <a:moveTo>
                      <a:pt x="0" y="73"/>
                    </a:moveTo>
                    <a:lnTo>
                      <a:pt x="108" y="115"/>
                    </a:lnTo>
                    <a:lnTo>
                      <a:pt x="34" y="175"/>
                    </a:lnTo>
                    <a:lnTo>
                      <a:pt x="0" y="358"/>
                    </a:lnTo>
                    <a:lnTo>
                      <a:pt x="189" y="296"/>
                    </a:lnTo>
                    <a:lnTo>
                      <a:pt x="257" y="141"/>
                    </a:lnTo>
                    <a:lnTo>
                      <a:pt x="102" y="13"/>
                    </a:lnTo>
                    <a:lnTo>
                      <a:pt x="54" y="0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1400" y="1416960"/>
                <a:ext cx="179640" cy="173160"/>
              </a:xfrm>
              <a:custGeom>
                <a:avLst/>
                <a:gdLst/>
                <a:ahLst/>
                <a:rect l="l" t="t" r="r" b="b"/>
                <a:pathLst>
                  <a:path w="864" h="790">
                    <a:moveTo>
                      <a:pt x="175" y="41"/>
                    </a:moveTo>
                    <a:lnTo>
                      <a:pt x="0" y="256"/>
                    </a:lnTo>
                    <a:lnTo>
                      <a:pt x="14" y="338"/>
                    </a:lnTo>
                    <a:lnTo>
                      <a:pt x="155" y="189"/>
                    </a:lnTo>
                    <a:lnTo>
                      <a:pt x="155" y="236"/>
                    </a:lnTo>
                    <a:lnTo>
                      <a:pt x="101" y="513"/>
                    </a:lnTo>
                    <a:lnTo>
                      <a:pt x="203" y="276"/>
                    </a:lnTo>
                    <a:lnTo>
                      <a:pt x="283" y="216"/>
                    </a:lnTo>
                    <a:lnTo>
                      <a:pt x="378" y="372"/>
                    </a:lnTo>
                    <a:lnTo>
                      <a:pt x="432" y="541"/>
                    </a:lnTo>
                    <a:lnTo>
                      <a:pt x="466" y="473"/>
                    </a:lnTo>
                    <a:lnTo>
                      <a:pt x="587" y="567"/>
                    </a:lnTo>
                    <a:lnTo>
                      <a:pt x="607" y="682"/>
                    </a:lnTo>
                    <a:lnTo>
                      <a:pt x="864" y="790"/>
                    </a:lnTo>
                    <a:lnTo>
                      <a:pt x="728" y="0"/>
                    </a:lnTo>
                    <a:lnTo>
                      <a:pt x="175" y="41"/>
                    </a:lnTo>
                    <a:lnTo>
                      <a:pt x="175" y="41"/>
                    </a:lnTo>
                    <a:close/>
                  </a:path>
                </a:pathLst>
              </a:custGeom>
              <a:solidFill>
                <a:srgbClr val="946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880" y="1042560"/>
                <a:ext cx="281520" cy="216000"/>
              </a:xfrm>
              <a:custGeom>
                <a:avLst/>
                <a:gdLst/>
                <a:ahLst/>
                <a:rect l="l" t="t" r="r" b="b"/>
                <a:pathLst>
                  <a:path w="1352" h="987">
                    <a:moveTo>
                      <a:pt x="1352" y="740"/>
                    </a:moveTo>
                    <a:lnTo>
                      <a:pt x="1205" y="761"/>
                    </a:lnTo>
                    <a:lnTo>
                      <a:pt x="1197" y="872"/>
                    </a:lnTo>
                    <a:lnTo>
                      <a:pt x="871" y="584"/>
                    </a:lnTo>
                    <a:lnTo>
                      <a:pt x="333" y="192"/>
                    </a:lnTo>
                    <a:lnTo>
                      <a:pt x="0" y="0"/>
                    </a:lnTo>
                    <a:lnTo>
                      <a:pt x="376" y="295"/>
                    </a:lnTo>
                    <a:lnTo>
                      <a:pt x="784" y="577"/>
                    </a:lnTo>
                    <a:lnTo>
                      <a:pt x="1260" y="987"/>
                    </a:lnTo>
                    <a:lnTo>
                      <a:pt x="1242" y="816"/>
                    </a:lnTo>
                    <a:lnTo>
                      <a:pt x="1352" y="740"/>
                    </a:lnTo>
                    <a:lnTo>
                      <a:pt x="1352" y="7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83440" y="1204560"/>
                <a:ext cx="118080" cy="264240"/>
              </a:xfrm>
              <a:custGeom>
                <a:avLst/>
                <a:gdLst/>
                <a:ahLst/>
                <a:rect l="l" t="t" r="r" b="b"/>
                <a:pathLst>
                  <a:path w="569" h="1205">
                    <a:moveTo>
                      <a:pt x="192" y="0"/>
                    </a:moveTo>
                    <a:lnTo>
                      <a:pt x="162" y="236"/>
                    </a:lnTo>
                    <a:lnTo>
                      <a:pt x="45" y="199"/>
                    </a:lnTo>
                    <a:lnTo>
                      <a:pt x="206" y="355"/>
                    </a:lnTo>
                    <a:lnTo>
                      <a:pt x="237" y="139"/>
                    </a:lnTo>
                    <a:lnTo>
                      <a:pt x="369" y="405"/>
                    </a:lnTo>
                    <a:lnTo>
                      <a:pt x="509" y="702"/>
                    </a:lnTo>
                    <a:lnTo>
                      <a:pt x="162" y="1049"/>
                    </a:lnTo>
                    <a:lnTo>
                      <a:pt x="155" y="797"/>
                    </a:lnTo>
                    <a:lnTo>
                      <a:pt x="0" y="894"/>
                    </a:lnTo>
                    <a:lnTo>
                      <a:pt x="103" y="894"/>
                    </a:lnTo>
                    <a:lnTo>
                      <a:pt x="119" y="1131"/>
                    </a:lnTo>
                    <a:lnTo>
                      <a:pt x="0" y="1108"/>
                    </a:lnTo>
                    <a:lnTo>
                      <a:pt x="148" y="1205"/>
                    </a:lnTo>
                    <a:lnTo>
                      <a:pt x="569" y="708"/>
                    </a:lnTo>
                    <a:lnTo>
                      <a:pt x="295" y="124"/>
                    </a:lnTo>
                    <a:lnTo>
                      <a:pt x="19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4040" y="1030680"/>
                <a:ext cx="329400" cy="416160"/>
              </a:xfrm>
              <a:custGeom>
                <a:avLst/>
                <a:gdLst/>
                <a:ahLst/>
                <a:rect l="l" t="t" r="r" b="b"/>
                <a:pathLst>
                  <a:path w="1581" h="1900">
                    <a:moveTo>
                      <a:pt x="303" y="0"/>
                    </a:moveTo>
                    <a:lnTo>
                      <a:pt x="584" y="443"/>
                    </a:lnTo>
                    <a:lnTo>
                      <a:pt x="718" y="792"/>
                    </a:lnTo>
                    <a:lnTo>
                      <a:pt x="297" y="95"/>
                    </a:lnTo>
                    <a:lnTo>
                      <a:pt x="215" y="177"/>
                    </a:lnTo>
                    <a:lnTo>
                      <a:pt x="481" y="873"/>
                    </a:lnTo>
                    <a:lnTo>
                      <a:pt x="642" y="895"/>
                    </a:lnTo>
                    <a:lnTo>
                      <a:pt x="489" y="991"/>
                    </a:lnTo>
                    <a:lnTo>
                      <a:pt x="97" y="1708"/>
                    </a:lnTo>
                    <a:lnTo>
                      <a:pt x="473" y="1568"/>
                    </a:lnTo>
                    <a:lnTo>
                      <a:pt x="192" y="1768"/>
                    </a:lnTo>
                    <a:lnTo>
                      <a:pt x="702" y="1686"/>
                    </a:lnTo>
                    <a:lnTo>
                      <a:pt x="1205" y="1679"/>
                    </a:lnTo>
                    <a:lnTo>
                      <a:pt x="1581" y="1686"/>
                    </a:lnTo>
                    <a:lnTo>
                      <a:pt x="1581" y="1900"/>
                    </a:lnTo>
                    <a:lnTo>
                      <a:pt x="1521" y="1731"/>
                    </a:lnTo>
                    <a:lnTo>
                      <a:pt x="1226" y="1731"/>
                    </a:lnTo>
                    <a:lnTo>
                      <a:pt x="576" y="1752"/>
                    </a:lnTo>
                    <a:lnTo>
                      <a:pt x="37" y="1857"/>
                    </a:lnTo>
                    <a:lnTo>
                      <a:pt x="0" y="1739"/>
                    </a:lnTo>
                    <a:lnTo>
                      <a:pt x="392" y="947"/>
                    </a:lnTo>
                    <a:lnTo>
                      <a:pt x="149" y="126"/>
                    </a:lnTo>
                    <a:lnTo>
                      <a:pt x="303" y="0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2680" y="1230480"/>
                <a:ext cx="263160" cy="148680"/>
              </a:xfrm>
              <a:custGeom>
                <a:avLst/>
                <a:gdLst/>
                <a:ahLst/>
                <a:rect l="l" t="t" r="r" b="b"/>
                <a:pathLst>
                  <a:path w="1263" h="679">
                    <a:moveTo>
                      <a:pt x="251" y="0"/>
                    </a:moveTo>
                    <a:lnTo>
                      <a:pt x="217" y="52"/>
                    </a:lnTo>
                    <a:lnTo>
                      <a:pt x="169" y="152"/>
                    </a:lnTo>
                    <a:lnTo>
                      <a:pt x="129" y="251"/>
                    </a:lnTo>
                    <a:lnTo>
                      <a:pt x="111" y="295"/>
                    </a:lnTo>
                    <a:lnTo>
                      <a:pt x="0" y="658"/>
                    </a:lnTo>
                    <a:lnTo>
                      <a:pt x="421" y="666"/>
                    </a:lnTo>
                    <a:lnTo>
                      <a:pt x="1263" y="679"/>
                    </a:lnTo>
                    <a:lnTo>
                      <a:pt x="658" y="629"/>
                    </a:lnTo>
                    <a:lnTo>
                      <a:pt x="119" y="561"/>
                    </a:lnTo>
                    <a:lnTo>
                      <a:pt x="192" y="214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5240" y="872280"/>
                <a:ext cx="459720" cy="191160"/>
              </a:xfrm>
              <a:custGeom>
                <a:avLst/>
                <a:gdLst/>
                <a:ahLst/>
                <a:rect l="l" t="t" r="r" b="b"/>
                <a:pathLst>
                  <a:path w="2208" h="872">
                    <a:moveTo>
                      <a:pt x="118" y="532"/>
                    </a:moveTo>
                    <a:lnTo>
                      <a:pt x="103" y="782"/>
                    </a:lnTo>
                    <a:lnTo>
                      <a:pt x="450" y="613"/>
                    </a:lnTo>
                    <a:lnTo>
                      <a:pt x="953" y="390"/>
                    </a:lnTo>
                    <a:lnTo>
                      <a:pt x="1735" y="109"/>
                    </a:lnTo>
                    <a:lnTo>
                      <a:pt x="2141" y="0"/>
                    </a:lnTo>
                    <a:lnTo>
                      <a:pt x="2208" y="249"/>
                    </a:lnTo>
                    <a:lnTo>
                      <a:pt x="2075" y="383"/>
                    </a:lnTo>
                    <a:lnTo>
                      <a:pt x="1809" y="732"/>
                    </a:lnTo>
                    <a:lnTo>
                      <a:pt x="1979" y="413"/>
                    </a:lnTo>
                    <a:lnTo>
                      <a:pt x="2032" y="214"/>
                    </a:lnTo>
                    <a:lnTo>
                      <a:pt x="1698" y="606"/>
                    </a:lnTo>
                    <a:lnTo>
                      <a:pt x="2009" y="117"/>
                    </a:lnTo>
                    <a:lnTo>
                      <a:pt x="1566" y="250"/>
                    </a:lnTo>
                    <a:lnTo>
                      <a:pt x="629" y="590"/>
                    </a:lnTo>
                    <a:lnTo>
                      <a:pt x="0" y="872"/>
                    </a:lnTo>
                    <a:lnTo>
                      <a:pt x="118" y="532"/>
                    </a:lnTo>
                    <a:lnTo>
                      <a:pt x="118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80880" y="977400"/>
                <a:ext cx="244080" cy="299880"/>
              </a:xfrm>
              <a:custGeom>
                <a:avLst/>
                <a:gdLst/>
                <a:ahLst/>
                <a:rect l="l" t="t" r="r" b="b"/>
                <a:pathLst>
                  <a:path w="1173" h="1368">
                    <a:moveTo>
                      <a:pt x="930" y="259"/>
                    </a:moveTo>
                    <a:lnTo>
                      <a:pt x="907" y="44"/>
                    </a:lnTo>
                    <a:lnTo>
                      <a:pt x="804" y="0"/>
                    </a:lnTo>
                    <a:lnTo>
                      <a:pt x="309" y="502"/>
                    </a:lnTo>
                    <a:lnTo>
                      <a:pt x="0" y="865"/>
                    </a:lnTo>
                    <a:lnTo>
                      <a:pt x="641" y="1368"/>
                    </a:lnTo>
                    <a:lnTo>
                      <a:pt x="782" y="1315"/>
                    </a:lnTo>
                    <a:lnTo>
                      <a:pt x="804" y="1043"/>
                    </a:lnTo>
                    <a:lnTo>
                      <a:pt x="945" y="954"/>
                    </a:lnTo>
                    <a:lnTo>
                      <a:pt x="1173" y="873"/>
                    </a:lnTo>
                    <a:lnTo>
                      <a:pt x="1143" y="747"/>
                    </a:lnTo>
                    <a:lnTo>
                      <a:pt x="649" y="931"/>
                    </a:lnTo>
                    <a:lnTo>
                      <a:pt x="751" y="1028"/>
                    </a:lnTo>
                    <a:lnTo>
                      <a:pt x="738" y="1265"/>
                    </a:lnTo>
                    <a:lnTo>
                      <a:pt x="627" y="1302"/>
                    </a:lnTo>
                    <a:lnTo>
                      <a:pt x="95" y="857"/>
                    </a:lnTo>
                    <a:lnTo>
                      <a:pt x="464" y="421"/>
                    </a:lnTo>
                    <a:lnTo>
                      <a:pt x="811" y="52"/>
                    </a:lnTo>
                    <a:lnTo>
                      <a:pt x="864" y="103"/>
                    </a:lnTo>
                    <a:lnTo>
                      <a:pt x="885" y="296"/>
                    </a:lnTo>
                    <a:lnTo>
                      <a:pt x="930" y="259"/>
                    </a:lnTo>
                    <a:lnTo>
                      <a:pt x="930" y="2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8960" y="118152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26" h="400">
                    <a:moveTo>
                      <a:pt x="82" y="0"/>
                    </a:moveTo>
                    <a:lnTo>
                      <a:pt x="0" y="347"/>
                    </a:lnTo>
                    <a:lnTo>
                      <a:pt x="105" y="400"/>
                    </a:lnTo>
                    <a:lnTo>
                      <a:pt x="126" y="23"/>
                    </a:lnTo>
                    <a:lnTo>
                      <a:pt x="82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960" y="1019520"/>
                <a:ext cx="229320" cy="194760"/>
              </a:xfrm>
              <a:custGeom>
                <a:avLst/>
                <a:gdLst/>
                <a:ahLst/>
                <a:rect l="l" t="t" r="r" b="b"/>
                <a:pathLst>
                  <a:path w="1100" h="888">
                    <a:moveTo>
                      <a:pt x="0" y="444"/>
                    </a:moveTo>
                    <a:lnTo>
                      <a:pt x="324" y="415"/>
                    </a:lnTo>
                    <a:lnTo>
                      <a:pt x="848" y="452"/>
                    </a:lnTo>
                    <a:lnTo>
                      <a:pt x="598" y="0"/>
                    </a:lnTo>
                    <a:lnTo>
                      <a:pt x="1100" y="688"/>
                    </a:lnTo>
                    <a:lnTo>
                      <a:pt x="716" y="615"/>
                    </a:lnTo>
                    <a:lnTo>
                      <a:pt x="569" y="636"/>
                    </a:lnTo>
                    <a:lnTo>
                      <a:pt x="576" y="888"/>
                    </a:lnTo>
                    <a:lnTo>
                      <a:pt x="458" y="791"/>
                    </a:lnTo>
                    <a:lnTo>
                      <a:pt x="198" y="570"/>
                    </a:lnTo>
                    <a:lnTo>
                      <a:pt x="369" y="555"/>
                    </a:lnTo>
                    <a:lnTo>
                      <a:pt x="901" y="584"/>
                    </a:lnTo>
                    <a:lnTo>
                      <a:pt x="819" y="510"/>
                    </a:lnTo>
                    <a:lnTo>
                      <a:pt x="258" y="458"/>
                    </a:lnTo>
                    <a:lnTo>
                      <a:pt x="45" y="481"/>
                    </a:lnTo>
                    <a:lnTo>
                      <a:pt x="0" y="444"/>
                    </a:lnTo>
                    <a:lnTo>
                      <a:pt x="0" y="4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6520" y="1004760"/>
                <a:ext cx="104760" cy="165600"/>
              </a:xfrm>
              <a:custGeom>
                <a:avLst/>
                <a:gdLst/>
                <a:ahLst/>
                <a:rect l="l" t="t" r="r" b="b"/>
                <a:pathLst>
                  <a:path w="502" h="754">
                    <a:moveTo>
                      <a:pt x="58" y="0"/>
                    </a:moveTo>
                    <a:lnTo>
                      <a:pt x="169" y="126"/>
                    </a:lnTo>
                    <a:lnTo>
                      <a:pt x="266" y="289"/>
                    </a:lnTo>
                    <a:lnTo>
                      <a:pt x="502" y="754"/>
                    </a:lnTo>
                    <a:lnTo>
                      <a:pt x="405" y="687"/>
                    </a:lnTo>
                    <a:lnTo>
                      <a:pt x="118" y="273"/>
                    </a:lnTo>
                    <a:lnTo>
                      <a:pt x="0" y="66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2600" y="838080"/>
                <a:ext cx="139680" cy="124920"/>
              </a:xfrm>
              <a:custGeom>
                <a:avLst/>
                <a:gdLst/>
                <a:ahLst/>
                <a:rect l="l" t="t" r="r" b="b"/>
                <a:pathLst>
                  <a:path w="672" h="570">
                    <a:moveTo>
                      <a:pt x="0" y="570"/>
                    </a:moveTo>
                    <a:lnTo>
                      <a:pt x="67" y="155"/>
                    </a:lnTo>
                    <a:lnTo>
                      <a:pt x="222" y="60"/>
                    </a:lnTo>
                    <a:lnTo>
                      <a:pt x="325" y="16"/>
                    </a:lnTo>
                    <a:lnTo>
                      <a:pt x="391" y="82"/>
                    </a:lnTo>
                    <a:lnTo>
                      <a:pt x="443" y="0"/>
                    </a:lnTo>
                    <a:lnTo>
                      <a:pt x="569" y="68"/>
                    </a:lnTo>
                    <a:lnTo>
                      <a:pt x="606" y="134"/>
                    </a:lnTo>
                    <a:lnTo>
                      <a:pt x="672" y="134"/>
                    </a:lnTo>
                    <a:lnTo>
                      <a:pt x="672" y="311"/>
                    </a:lnTo>
                    <a:lnTo>
                      <a:pt x="472" y="386"/>
                    </a:lnTo>
                    <a:lnTo>
                      <a:pt x="509" y="281"/>
                    </a:lnTo>
                    <a:lnTo>
                      <a:pt x="591" y="215"/>
                    </a:lnTo>
                    <a:lnTo>
                      <a:pt x="532" y="134"/>
                    </a:lnTo>
                    <a:lnTo>
                      <a:pt x="435" y="105"/>
                    </a:lnTo>
                    <a:lnTo>
                      <a:pt x="377" y="186"/>
                    </a:lnTo>
                    <a:lnTo>
                      <a:pt x="385" y="266"/>
                    </a:lnTo>
                    <a:lnTo>
                      <a:pt x="332" y="304"/>
                    </a:lnTo>
                    <a:lnTo>
                      <a:pt x="295" y="407"/>
                    </a:lnTo>
                    <a:lnTo>
                      <a:pt x="288" y="304"/>
                    </a:lnTo>
                    <a:lnTo>
                      <a:pt x="295" y="126"/>
                    </a:lnTo>
                    <a:lnTo>
                      <a:pt x="140" y="163"/>
                    </a:lnTo>
                    <a:lnTo>
                      <a:pt x="111" y="318"/>
                    </a:lnTo>
                    <a:lnTo>
                      <a:pt x="45" y="452"/>
                    </a:lnTo>
                    <a:lnTo>
                      <a:pt x="67" y="534"/>
                    </a:lnTo>
                    <a:lnTo>
                      <a:pt x="0" y="570"/>
                    </a:lnTo>
                    <a:lnTo>
                      <a:pt x="0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4480" y="1404000"/>
                <a:ext cx="199440" cy="196200"/>
              </a:xfrm>
              <a:custGeom>
                <a:avLst/>
                <a:gdLst/>
                <a:ahLst/>
                <a:rect l="l" t="t" r="r" b="b"/>
                <a:pathLst>
                  <a:path w="959" h="896">
                    <a:moveTo>
                      <a:pt x="945" y="0"/>
                    </a:moveTo>
                    <a:lnTo>
                      <a:pt x="959" y="896"/>
                    </a:lnTo>
                    <a:lnTo>
                      <a:pt x="879" y="822"/>
                    </a:lnTo>
                    <a:lnTo>
                      <a:pt x="811" y="171"/>
                    </a:lnTo>
                    <a:lnTo>
                      <a:pt x="642" y="549"/>
                    </a:lnTo>
                    <a:lnTo>
                      <a:pt x="376" y="194"/>
                    </a:lnTo>
                    <a:lnTo>
                      <a:pt x="258" y="186"/>
                    </a:lnTo>
                    <a:lnTo>
                      <a:pt x="200" y="252"/>
                    </a:lnTo>
                    <a:lnTo>
                      <a:pt x="21" y="600"/>
                    </a:lnTo>
                    <a:lnTo>
                      <a:pt x="0" y="510"/>
                    </a:lnTo>
                    <a:lnTo>
                      <a:pt x="95" y="52"/>
                    </a:lnTo>
                    <a:lnTo>
                      <a:pt x="243" y="23"/>
                    </a:lnTo>
                    <a:lnTo>
                      <a:pt x="945" y="0"/>
                    </a:lnTo>
                    <a:lnTo>
                      <a:pt x="9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34200" y="1071720"/>
                <a:ext cx="132480" cy="230040"/>
              </a:xfrm>
              <a:custGeom>
                <a:avLst/>
                <a:gdLst/>
                <a:ahLst/>
                <a:rect l="l" t="t" r="r" b="b"/>
                <a:pathLst>
                  <a:path w="636" h="1050">
                    <a:moveTo>
                      <a:pt x="0" y="148"/>
                    </a:moveTo>
                    <a:lnTo>
                      <a:pt x="524" y="0"/>
                    </a:lnTo>
                    <a:lnTo>
                      <a:pt x="636" y="156"/>
                    </a:lnTo>
                    <a:lnTo>
                      <a:pt x="473" y="319"/>
                    </a:lnTo>
                    <a:lnTo>
                      <a:pt x="297" y="637"/>
                    </a:lnTo>
                    <a:lnTo>
                      <a:pt x="569" y="1050"/>
                    </a:lnTo>
                    <a:lnTo>
                      <a:pt x="171" y="1029"/>
                    </a:lnTo>
                    <a:lnTo>
                      <a:pt x="126" y="977"/>
                    </a:lnTo>
                    <a:lnTo>
                      <a:pt x="444" y="992"/>
                    </a:lnTo>
                    <a:lnTo>
                      <a:pt x="171" y="577"/>
                    </a:lnTo>
                    <a:lnTo>
                      <a:pt x="266" y="534"/>
                    </a:lnTo>
                    <a:lnTo>
                      <a:pt x="487" y="82"/>
                    </a:lnTo>
                    <a:lnTo>
                      <a:pt x="178" y="156"/>
                    </a:lnTo>
                    <a:lnTo>
                      <a:pt x="37" y="237"/>
                    </a:lnTo>
                    <a:lnTo>
                      <a:pt x="0" y="148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040" y="1191240"/>
                <a:ext cx="93960" cy="147600"/>
              </a:xfrm>
              <a:custGeom>
                <a:avLst/>
                <a:gdLst/>
                <a:ahLst/>
                <a:rect l="l" t="t" r="r" b="b"/>
                <a:pathLst>
                  <a:path w="452" h="673">
                    <a:moveTo>
                      <a:pt x="452" y="73"/>
                    </a:moveTo>
                    <a:lnTo>
                      <a:pt x="326" y="118"/>
                    </a:lnTo>
                    <a:lnTo>
                      <a:pt x="310" y="29"/>
                    </a:lnTo>
                    <a:lnTo>
                      <a:pt x="215" y="0"/>
                    </a:lnTo>
                    <a:lnTo>
                      <a:pt x="0" y="421"/>
                    </a:lnTo>
                    <a:lnTo>
                      <a:pt x="207" y="673"/>
                    </a:lnTo>
                    <a:lnTo>
                      <a:pt x="237" y="621"/>
                    </a:lnTo>
                    <a:lnTo>
                      <a:pt x="60" y="407"/>
                    </a:lnTo>
                    <a:lnTo>
                      <a:pt x="215" y="67"/>
                    </a:lnTo>
                    <a:lnTo>
                      <a:pt x="266" y="192"/>
                    </a:lnTo>
                    <a:lnTo>
                      <a:pt x="415" y="155"/>
                    </a:lnTo>
                    <a:lnTo>
                      <a:pt x="452" y="73"/>
                    </a:lnTo>
                    <a:lnTo>
                      <a:pt x="45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42760" y="1357560"/>
                <a:ext cx="38520" cy="37440"/>
              </a:xfrm>
              <a:custGeom>
                <a:avLst/>
                <a:gdLst/>
                <a:ahLst/>
                <a:rect l="l" t="t" r="r" b="b"/>
                <a:pathLst>
                  <a:path w="185" h="171">
                    <a:moveTo>
                      <a:pt x="0" y="0"/>
                    </a:moveTo>
                    <a:lnTo>
                      <a:pt x="81" y="64"/>
                    </a:lnTo>
                    <a:lnTo>
                      <a:pt x="155" y="27"/>
                    </a:lnTo>
                    <a:lnTo>
                      <a:pt x="185" y="53"/>
                    </a:lnTo>
                    <a:lnTo>
                      <a:pt x="149" y="116"/>
                    </a:lnTo>
                    <a:lnTo>
                      <a:pt x="104" y="163"/>
                    </a:lnTo>
                    <a:lnTo>
                      <a:pt x="30" y="171"/>
                    </a:lnTo>
                    <a:lnTo>
                      <a:pt x="15" y="145"/>
                    </a:lnTo>
                    <a:lnTo>
                      <a:pt x="55" y="116"/>
                    </a:lnTo>
                    <a:lnTo>
                      <a:pt x="4" y="4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4240" y="974160"/>
                <a:ext cx="33480" cy="42120"/>
              </a:xfrm>
              <a:custGeom>
                <a:avLst/>
                <a:gdLst/>
                <a:ahLst/>
                <a:rect l="l" t="t" r="r" b="b"/>
                <a:pathLst>
                  <a:path w="163" h="192">
                    <a:moveTo>
                      <a:pt x="163" y="158"/>
                    </a:moveTo>
                    <a:lnTo>
                      <a:pt x="96" y="69"/>
                    </a:lnTo>
                    <a:lnTo>
                      <a:pt x="130" y="32"/>
                    </a:lnTo>
                    <a:lnTo>
                      <a:pt x="100" y="0"/>
                    </a:lnTo>
                    <a:lnTo>
                      <a:pt x="0" y="69"/>
                    </a:lnTo>
                    <a:lnTo>
                      <a:pt x="8" y="92"/>
                    </a:lnTo>
                    <a:lnTo>
                      <a:pt x="59" y="77"/>
                    </a:lnTo>
                    <a:lnTo>
                      <a:pt x="159" y="192"/>
                    </a:lnTo>
                    <a:lnTo>
                      <a:pt x="163" y="158"/>
                    </a:lnTo>
                    <a:lnTo>
                      <a:pt x="163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8800" y="987480"/>
                <a:ext cx="67320" cy="127440"/>
              </a:xfrm>
              <a:custGeom>
                <a:avLst/>
                <a:gdLst/>
                <a:ahLst/>
                <a:rect l="l" t="t" r="r" b="b"/>
                <a:pathLst>
                  <a:path w="323" h="583">
                    <a:moveTo>
                      <a:pt x="133" y="102"/>
                    </a:moveTo>
                    <a:lnTo>
                      <a:pt x="168" y="145"/>
                    </a:lnTo>
                    <a:lnTo>
                      <a:pt x="136" y="180"/>
                    </a:lnTo>
                    <a:lnTo>
                      <a:pt x="140" y="286"/>
                    </a:lnTo>
                    <a:lnTo>
                      <a:pt x="156" y="414"/>
                    </a:lnTo>
                    <a:lnTo>
                      <a:pt x="234" y="464"/>
                    </a:lnTo>
                    <a:lnTo>
                      <a:pt x="262" y="383"/>
                    </a:lnTo>
                    <a:lnTo>
                      <a:pt x="323" y="434"/>
                    </a:lnTo>
                    <a:lnTo>
                      <a:pt x="191" y="583"/>
                    </a:lnTo>
                    <a:lnTo>
                      <a:pt x="183" y="500"/>
                    </a:lnTo>
                    <a:lnTo>
                      <a:pt x="120" y="454"/>
                    </a:lnTo>
                    <a:lnTo>
                      <a:pt x="93" y="391"/>
                    </a:lnTo>
                    <a:lnTo>
                      <a:pt x="93" y="188"/>
                    </a:lnTo>
                    <a:lnTo>
                      <a:pt x="62" y="211"/>
                    </a:lnTo>
                    <a:lnTo>
                      <a:pt x="3" y="297"/>
                    </a:lnTo>
                    <a:lnTo>
                      <a:pt x="0" y="258"/>
                    </a:lnTo>
                    <a:lnTo>
                      <a:pt x="19" y="175"/>
                    </a:lnTo>
                    <a:lnTo>
                      <a:pt x="70" y="109"/>
                    </a:lnTo>
                    <a:lnTo>
                      <a:pt x="82" y="43"/>
                    </a:lnTo>
                    <a:lnTo>
                      <a:pt x="113" y="8"/>
                    </a:lnTo>
                    <a:lnTo>
                      <a:pt x="145" y="0"/>
                    </a:lnTo>
                    <a:lnTo>
                      <a:pt x="194" y="0"/>
                    </a:lnTo>
                    <a:lnTo>
                      <a:pt x="214" y="48"/>
                    </a:lnTo>
                    <a:lnTo>
                      <a:pt x="191" y="71"/>
                    </a:lnTo>
                    <a:lnTo>
                      <a:pt x="163" y="40"/>
                    </a:lnTo>
                    <a:lnTo>
                      <a:pt x="125" y="40"/>
                    </a:lnTo>
                    <a:lnTo>
                      <a:pt x="102" y="114"/>
                    </a:lnTo>
                    <a:lnTo>
                      <a:pt x="133" y="102"/>
                    </a:lnTo>
                    <a:lnTo>
                      <a:pt x="13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24080" y="997560"/>
                <a:ext cx="49680" cy="82080"/>
              </a:xfrm>
              <a:custGeom>
                <a:avLst/>
                <a:gdLst/>
                <a:ahLst/>
                <a:rect l="l" t="t" r="r" b="b"/>
                <a:pathLst>
                  <a:path w="238" h="375">
                    <a:moveTo>
                      <a:pt x="43" y="0"/>
                    </a:moveTo>
                    <a:lnTo>
                      <a:pt x="20" y="23"/>
                    </a:lnTo>
                    <a:lnTo>
                      <a:pt x="0" y="61"/>
                    </a:lnTo>
                    <a:lnTo>
                      <a:pt x="20" y="127"/>
                    </a:lnTo>
                    <a:lnTo>
                      <a:pt x="48" y="249"/>
                    </a:lnTo>
                    <a:lnTo>
                      <a:pt x="58" y="332"/>
                    </a:lnTo>
                    <a:lnTo>
                      <a:pt x="94" y="375"/>
                    </a:lnTo>
                    <a:lnTo>
                      <a:pt x="114" y="339"/>
                    </a:lnTo>
                    <a:lnTo>
                      <a:pt x="78" y="226"/>
                    </a:lnTo>
                    <a:lnTo>
                      <a:pt x="48" y="94"/>
                    </a:lnTo>
                    <a:lnTo>
                      <a:pt x="71" y="54"/>
                    </a:lnTo>
                    <a:lnTo>
                      <a:pt x="109" y="69"/>
                    </a:lnTo>
                    <a:lnTo>
                      <a:pt x="144" y="140"/>
                    </a:lnTo>
                    <a:lnTo>
                      <a:pt x="180" y="246"/>
                    </a:lnTo>
                    <a:lnTo>
                      <a:pt x="183" y="347"/>
                    </a:lnTo>
                    <a:lnTo>
                      <a:pt x="238" y="300"/>
                    </a:lnTo>
                    <a:lnTo>
                      <a:pt x="195" y="186"/>
                    </a:lnTo>
                    <a:lnTo>
                      <a:pt x="152" y="66"/>
                    </a:lnTo>
                    <a:lnTo>
                      <a:pt x="109" y="15"/>
                    </a:lnTo>
                    <a:lnTo>
                      <a:pt x="43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60400" y="1229040"/>
                <a:ext cx="12600" cy="29160"/>
              </a:xfrm>
              <a:custGeom>
                <a:avLst/>
                <a:gdLst/>
                <a:ahLst/>
                <a:rect l="l" t="t" r="r" b="b"/>
                <a:pathLst>
                  <a:path w="61" h="132">
                    <a:moveTo>
                      <a:pt x="0" y="0"/>
                    </a:moveTo>
                    <a:lnTo>
                      <a:pt x="44" y="14"/>
                    </a:lnTo>
                    <a:lnTo>
                      <a:pt x="61" y="84"/>
                    </a:lnTo>
                    <a:lnTo>
                      <a:pt x="35" y="132"/>
                    </a:lnTo>
                    <a:lnTo>
                      <a:pt x="3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40960" y="1223280"/>
                <a:ext cx="32400" cy="47520"/>
              </a:xfrm>
              <a:custGeom>
                <a:avLst/>
                <a:gdLst/>
                <a:ahLst/>
                <a:rect l="l" t="t" r="r" b="b"/>
                <a:pathLst>
                  <a:path w="155" h="218">
                    <a:moveTo>
                      <a:pt x="4" y="92"/>
                    </a:moveTo>
                    <a:lnTo>
                      <a:pt x="67" y="81"/>
                    </a:lnTo>
                    <a:lnTo>
                      <a:pt x="86" y="0"/>
                    </a:lnTo>
                    <a:lnTo>
                      <a:pt x="118" y="26"/>
                    </a:lnTo>
                    <a:lnTo>
                      <a:pt x="100" y="58"/>
                    </a:lnTo>
                    <a:lnTo>
                      <a:pt x="97" y="129"/>
                    </a:lnTo>
                    <a:lnTo>
                      <a:pt x="129" y="158"/>
                    </a:lnTo>
                    <a:lnTo>
                      <a:pt x="141" y="58"/>
                    </a:lnTo>
                    <a:lnTo>
                      <a:pt x="155" y="110"/>
                    </a:lnTo>
                    <a:lnTo>
                      <a:pt x="152" y="184"/>
                    </a:lnTo>
                    <a:lnTo>
                      <a:pt x="137" y="218"/>
                    </a:lnTo>
                    <a:lnTo>
                      <a:pt x="92" y="169"/>
                    </a:lnTo>
                    <a:lnTo>
                      <a:pt x="60" y="121"/>
                    </a:lnTo>
                    <a:lnTo>
                      <a:pt x="0" y="126"/>
                    </a:lnTo>
                    <a:lnTo>
                      <a:pt x="4" y="92"/>
                    </a:lnTo>
                    <a:lnTo>
                      <a:pt x="4" y="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380880" y="4807080"/>
            <a:ext cx="7704360" cy="1130040"/>
            <a:chOff x="380880" y="4807080"/>
            <a:chExt cx="7704360" cy="1130040"/>
          </a:xfrm>
        </p:grpSpPr>
        <p:sp>
          <p:nvSpPr>
            <p:cNvPr id="339" name=""/>
            <p:cNvSpPr/>
            <p:nvPr/>
          </p:nvSpPr>
          <p:spPr>
            <a:xfrm>
              <a:off x="1171440" y="4807080"/>
              <a:ext cx="6913800" cy="1130040"/>
            </a:xfrm>
            <a:prstGeom prst="bevel">
              <a:avLst>
                <a:gd name="adj" fmla="val 648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mple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Recolección y tabulación de los datos, supervisión del proceso y mediciones de ca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380880" y="5029200"/>
              <a:ext cx="67176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304920" y="5727600"/>
            <a:ext cx="7765920" cy="1130400"/>
            <a:chOff x="304920" y="5727600"/>
            <a:chExt cx="7765920" cy="1130400"/>
          </a:xfrm>
        </p:grpSpPr>
        <p:sp>
          <p:nvSpPr>
            <p:cNvPr id="342" name=""/>
            <p:cNvSpPr/>
            <p:nvPr/>
          </p:nvSpPr>
          <p:spPr>
            <a:xfrm>
              <a:off x="1157400" y="5727600"/>
              <a:ext cx="6913440" cy="1130400"/>
            </a:xfrm>
            <a:prstGeom prst="bevel">
              <a:avLst>
                <a:gd name="adj" fmla="val 70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Conclu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Análisis e interpretación de 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8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Comunicar conclusiones y recomend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304920" y="5943600"/>
              <a:ext cx="852480" cy="63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6792-835B-4BDE-A764-E71CF79F2AE8}" type="slidenum">
              <a:t>17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1623600" y="1196640"/>
            <a:ext cx="61167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1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Propósito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lema o análisis de oportunidad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Ponemos o no un supermercado Jumbo en La Dehesa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ternativas de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400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Qué precio cobramos por el servicio de pago de cuentas:  $0, $200 ó $400 por cuenta a pagar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Usuarios de la investigación o tomadores de decision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568944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1001"/>
                </a:solidFill>
                <a:latin typeface="Arial"/>
              </a:rPr>
              <a:t>Si NO puedes establecer claramente los objetivos/problema a ser resuelto y que harás con los resultados, entonces NO hagas la inves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roceso de la Investigación de Mercado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219320"/>
            <a:ext cx="914040" cy="857160"/>
            <a:chOff x="457200" y="1219320"/>
            <a:chExt cx="914040" cy="857160"/>
          </a:xfrm>
        </p:grpSpPr>
        <p:sp>
          <p:nvSpPr>
            <p:cNvPr id="348" name=""/>
            <p:cNvSpPr/>
            <p:nvPr/>
          </p:nvSpPr>
          <p:spPr>
            <a:xfrm>
              <a:off x="468000" y="1234440"/>
              <a:ext cx="869400" cy="830520"/>
            </a:xfrm>
            <a:custGeom>
              <a:avLst/>
              <a:gdLst/>
              <a:ahLst/>
              <a:rect l="l" t="t" r="r" b="b"/>
              <a:pathLst>
                <a:path w="3132" h="3371">
                  <a:moveTo>
                    <a:pt x="0" y="1438"/>
                  </a:moveTo>
                  <a:lnTo>
                    <a:pt x="771" y="627"/>
                  </a:lnTo>
                  <a:lnTo>
                    <a:pt x="867" y="619"/>
                  </a:lnTo>
                  <a:lnTo>
                    <a:pt x="845" y="871"/>
                  </a:lnTo>
                  <a:lnTo>
                    <a:pt x="1650" y="508"/>
                  </a:lnTo>
                  <a:lnTo>
                    <a:pt x="1717" y="93"/>
                  </a:lnTo>
                  <a:lnTo>
                    <a:pt x="1950" y="0"/>
                  </a:lnTo>
                  <a:lnTo>
                    <a:pt x="1998" y="53"/>
                  </a:lnTo>
                  <a:lnTo>
                    <a:pt x="2147" y="13"/>
                  </a:lnTo>
                  <a:lnTo>
                    <a:pt x="2302" y="141"/>
                  </a:lnTo>
                  <a:lnTo>
                    <a:pt x="2234" y="296"/>
                  </a:lnTo>
                  <a:lnTo>
                    <a:pt x="2720" y="183"/>
                  </a:lnTo>
                  <a:lnTo>
                    <a:pt x="2740" y="324"/>
                  </a:lnTo>
                  <a:lnTo>
                    <a:pt x="2416" y="831"/>
                  </a:lnTo>
                  <a:lnTo>
                    <a:pt x="2625" y="1189"/>
                  </a:lnTo>
                  <a:lnTo>
                    <a:pt x="3132" y="1054"/>
                  </a:lnTo>
                  <a:lnTo>
                    <a:pt x="2868" y="1614"/>
                  </a:lnTo>
                  <a:lnTo>
                    <a:pt x="3124" y="2000"/>
                  </a:lnTo>
                  <a:lnTo>
                    <a:pt x="2788" y="2032"/>
                  </a:lnTo>
                  <a:lnTo>
                    <a:pt x="2943" y="2319"/>
                  </a:lnTo>
                  <a:lnTo>
                    <a:pt x="2493" y="2742"/>
                  </a:lnTo>
                  <a:lnTo>
                    <a:pt x="2374" y="2719"/>
                  </a:lnTo>
                  <a:lnTo>
                    <a:pt x="2374" y="2505"/>
                  </a:lnTo>
                  <a:lnTo>
                    <a:pt x="2181" y="2513"/>
                  </a:lnTo>
                  <a:lnTo>
                    <a:pt x="2221" y="3371"/>
                  </a:lnTo>
                  <a:lnTo>
                    <a:pt x="1789" y="3122"/>
                  </a:lnTo>
                  <a:lnTo>
                    <a:pt x="1580" y="3102"/>
                  </a:lnTo>
                  <a:lnTo>
                    <a:pt x="1303" y="3175"/>
                  </a:lnTo>
                  <a:lnTo>
                    <a:pt x="1303" y="3054"/>
                  </a:lnTo>
                  <a:lnTo>
                    <a:pt x="1438" y="2527"/>
                  </a:lnTo>
                  <a:lnTo>
                    <a:pt x="911" y="2587"/>
                  </a:lnTo>
                  <a:lnTo>
                    <a:pt x="851" y="2519"/>
                  </a:lnTo>
                  <a:lnTo>
                    <a:pt x="1000" y="2224"/>
                  </a:lnTo>
                  <a:lnTo>
                    <a:pt x="844" y="1952"/>
                  </a:lnTo>
                  <a:lnTo>
                    <a:pt x="1013" y="1581"/>
                  </a:lnTo>
                  <a:lnTo>
                    <a:pt x="1086" y="1703"/>
                  </a:lnTo>
                  <a:lnTo>
                    <a:pt x="1208" y="1706"/>
                  </a:lnTo>
                  <a:lnTo>
                    <a:pt x="1086" y="1357"/>
                  </a:lnTo>
                  <a:lnTo>
                    <a:pt x="750" y="1554"/>
                  </a:lnTo>
                  <a:lnTo>
                    <a:pt x="587" y="1877"/>
                  </a:lnTo>
                  <a:lnTo>
                    <a:pt x="55" y="1500"/>
                  </a:lnTo>
                  <a:lnTo>
                    <a:pt x="0" y="1438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3200" y="1390680"/>
              <a:ext cx="85680" cy="120240"/>
            </a:xfrm>
            <a:custGeom>
              <a:avLst/>
              <a:gdLst/>
              <a:ahLst/>
              <a:rect l="l" t="t" r="r" b="b"/>
              <a:pathLst>
                <a:path w="311" h="488">
                  <a:moveTo>
                    <a:pt x="0" y="90"/>
                  </a:moveTo>
                  <a:lnTo>
                    <a:pt x="26" y="14"/>
                  </a:lnTo>
                  <a:lnTo>
                    <a:pt x="88" y="0"/>
                  </a:lnTo>
                  <a:lnTo>
                    <a:pt x="108" y="62"/>
                  </a:lnTo>
                  <a:lnTo>
                    <a:pt x="161" y="62"/>
                  </a:lnTo>
                  <a:lnTo>
                    <a:pt x="221" y="96"/>
                  </a:lnTo>
                  <a:lnTo>
                    <a:pt x="311" y="333"/>
                  </a:lnTo>
                  <a:lnTo>
                    <a:pt x="141" y="488"/>
                  </a:lnTo>
                  <a:lnTo>
                    <a:pt x="34" y="400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73520" y="1499400"/>
              <a:ext cx="275400" cy="236520"/>
            </a:xfrm>
            <a:custGeom>
              <a:avLst/>
              <a:gdLst/>
              <a:ahLst/>
              <a:rect l="l" t="t" r="r" b="b"/>
              <a:pathLst>
                <a:path w="991" h="959">
                  <a:moveTo>
                    <a:pt x="505" y="203"/>
                  </a:moveTo>
                  <a:lnTo>
                    <a:pt x="653" y="95"/>
                  </a:lnTo>
                  <a:lnTo>
                    <a:pt x="991" y="0"/>
                  </a:lnTo>
                  <a:lnTo>
                    <a:pt x="660" y="500"/>
                  </a:lnTo>
                  <a:lnTo>
                    <a:pt x="943" y="926"/>
                  </a:lnTo>
                  <a:lnTo>
                    <a:pt x="545" y="959"/>
                  </a:lnTo>
                  <a:lnTo>
                    <a:pt x="398" y="547"/>
                  </a:lnTo>
                  <a:lnTo>
                    <a:pt x="255" y="567"/>
                  </a:lnTo>
                  <a:lnTo>
                    <a:pt x="242" y="723"/>
                  </a:lnTo>
                  <a:lnTo>
                    <a:pt x="6" y="534"/>
                  </a:lnTo>
                  <a:lnTo>
                    <a:pt x="0" y="311"/>
                  </a:lnTo>
                  <a:lnTo>
                    <a:pt x="505" y="203"/>
                  </a:lnTo>
                  <a:lnTo>
                    <a:pt x="505" y="20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200" y="1292760"/>
              <a:ext cx="726120" cy="396360"/>
            </a:xfrm>
            <a:custGeom>
              <a:avLst/>
              <a:gdLst/>
              <a:ahLst/>
              <a:rect l="l" t="t" r="r" b="b"/>
              <a:pathLst>
                <a:path w="2617" h="1608">
                  <a:moveTo>
                    <a:pt x="0" y="1222"/>
                  </a:moveTo>
                  <a:lnTo>
                    <a:pt x="681" y="359"/>
                  </a:lnTo>
                  <a:lnTo>
                    <a:pt x="619" y="737"/>
                  </a:lnTo>
                  <a:lnTo>
                    <a:pt x="1923" y="162"/>
                  </a:lnTo>
                  <a:lnTo>
                    <a:pt x="2617" y="0"/>
                  </a:lnTo>
                  <a:lnTo>
                    <a:pt x="2301" y="534"/>
                  </a:lnTo>
                  <a:lnTo>
                    <a:pt x="2516" y="987"/>
                  </a:lnTo>
                  <a:lnTo>
                    <a:pt x="1875" y="960"/>
                  </a:lnTo>
                  <a:lnTo>
                    <a:pt x="1660" y="1013"/>
                  </a:lnTo>
                  <a:lnTo>
                    <a:pt x="1133" y="629"/>
                  </a:lnTo>
                  <a:lnTo>
                    <a:pt x="1011" y="588"/>
                  </a:lnTo>
                  <a:lnTo>
                    <a:pt x="876" y="743"/>
                  </a:lnTo>
                  <a:lnTo>
                    <a:pt x="997" y="1121"/>
                  </a:lnTo>
                  <a:lnTo>
                    <a:pt x="520" y="1290"/>
                  </a:lnTo>
                  <a:lnTo>
                    <a:pt x="486" y="1608"/>
                  </a:lnTo>
                  <a:lnTo>
                    <a:pt x="377" y="1594"/>
                  </a:lnTo>
                  <a:lnTo>
                    <a:pt x="0" y="1222"/>
                  </a:lnTo>
                  <a:lnTo>
                    <a:pt x="0" y="122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1200" y="1634400"/>
              <a:ext cx="42480" cy="6300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0" y="176"/>
                  </a:moveTo>
                  <a:lnTo>
                    <a:pt x="13" y="20"/>
                  </a:lnTo>
                  <a:lnTo>
                    <a:pt x="156" y="0"/>
                  </a:lnTo>
                  <a:lnTo>
                    <a:pt x="128" y="257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4880" y="1624320"/>
              <a:ext cx="98640" cy="99360"/>
            </a:xfrm>
            <a:custGeom>
              <a:avLst/>
              <a:gdLst/>
              <a:ahLst/>
              <a:rect l="l" t="t" r="r" b="b"/>
              <a:pathLst>
                <a:path w="357" h="405">
                  <a:moveTo>
                    <a:pt x="0" y="405"/>
                  </a:moveTo>
                  <a:lnTo>
                    <a:pt x="148" y="182"/>
                  </a:lnTo>
                  <a:lnTo>
                    <a:pt x="195" y="249"/>
                  </a:lnTo>
                  <a:lnTo>
                    <a:pt x="357" y="182"/>
                  </a:lnTo>
                  <a:lnTo>
                    <a:pt x="351" y="88"/>
                  </a:lnTo>
                  <a:lnTo>
                    <a:pt x="202" y="122"/>
                  </a:lnTo>
                  <a:lnTo>
                    <a:pt x="162" y="0"/>
                  </a:lnTo>
                  <a:lnTo>
                    <a:pt x="40" y="223"/>
                  </a:lnTo>
                  <a:lnTo>
                    <a:pt x="0" y="405"/>
                  </a:lnTo>
                  <a:lnTo>
                    <a:pt x="0" y="40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5200" y="1653840"/>
              <a:ext cx="147960" cy="181800"/>
            </a:xfrm>
            <a:custGeom>
              <a:avLst/>
              <a:gdLst/>
              <a:ahLst/>
              <a:rect l="l" t="t" r="r" b="b"/>
              <a:pathLst>
                <a:path w="533" h="736">
                  <a:moveTo>
                    <a:pt x="28" y="661"/>
                  </a:moveTo>
                  <a:lnTo>
                    <a:pt x="263" y="46"/>
                  </a:lnTo>
                  <a:lnTo>
                    <a:pt x="533" y="0"/>
                  </a:lnTo>
                  <a:lnTo>
                    <a:pt x="330" y="641"/>
                  </a:lnTo>
                  <a:lnTo>
                    <a:pt x="0" y="736"/>
                  </a:lnTo>
                  <a:lnTo>
                    <a:pt x="28" y="661"/>
                  </a:lnTo>
                  <a:lnTo>
                    <a:pt x="28" y="66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18520" y="1855800"/>
              <a:ext cx="51840" cy="66240"/>
            </a:xfrm>
            <a:custGeom>
              <a:avLst/>
              <a:gdLst/>
              <a:ahLst/>
              <a:rect l="l" t="t" r="r" b="b"/>
              <a:pathLst>
                <a:path w="189" h="271">
                  <a:moveTo>
                    <a:pt x="0" y="0"/>
                  </a:moveTo>
                  <a:lnTo>
                    <a:pt x="189" y="244"/>
                  </a:lnTo>
                  <a:lnTo>
                    <a:pt x="147" y="271"/>
                  </a:lnTo>
                  <a:lnTo>
                    <a:pt x="20" y="1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44640" y="1234440"/>
              <a:ext cx="162360" cy="116280"/>
            </a:xfrm>
            <a:custGeom>
              <a:avLst/>
              <a:gdLst/>
              <a:ahLst/>
              <a:rect l="l" t="t" r="r" b="b"/>
              <a:pathLst>
                <a:path w="585" h="472">
                  <a:moveTo>
                    <a:pt x="72" y="290"/>
                  </a:moveTo>
                  <a:lnTo>
                    <a:pt x="92" y="155"/>
                  </a:lnTo>
                  <a:lnTo>
                    <a:pt x="267" y="6"/>
                  </a:lnTo>
                  <a:lnTo>
                    <a:pt x="301" y="87"/>
                  </a:lnTo>
                  <a:lnTo>
                    <a:pt x="382" y="0"/>
                  </a:lnTo>
                  <a:lnTo>
                    <a:pt x="510" y="101"/>
                  </a:lnTo>
                  <a:lnTo>
                    <a:pt x="585" y="141"/>
                  </a:lnTo>
                  <a:lnTo>
                    <a:pt x="537" y="256"/>
                  </a:lnTo>
                  <a:lnTo>
                    <a:pt x="0" y="472"/>
                  </a:lnTo>
                  <a:lnTo>
                    <a:pt x="72" y="290"/>
                  </a:lnTo>
                  <a:lnTo>
                    <a:pt x="72" y="29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8000" y="1865520"/>
              <a:ext cx="256320" cy="199440"/>
            </a:xfrm>
            <a:custGeom>
              <a:avLst/>
              <a:gdLst/>
              <a:ahLst/>
              <a:rect l="l" t="t" r="r" b="b"/>
              <a:pathLst>
                <a:path w="926" h="810">
                  <a:moveTo>
                    <a:pt x="8" y="553"/>
                  </a:moveTo>
                  <a:lnTo>
                    <a:pt x="110" y="115"/>
                  </a:lnTo>
                  <a:lnTo>
                    <a:pt x="257" y="0"/>
                  </a:lnTo>
                  <a:lnTo>
                    <a:pt x="689" y="87"/>
                  </a:lnTo>
                  <a:lnTo>
                    <a:pt x="858" y="26"/>
                  </a:lnTo>
                  <a:lnTo>
                    <a:pt x="926" y="810"/>
                  </a:lnTo>
                  <a:lnTo>
                    <a:pt x="697" y="730"/>
                  </a:lnTo>
                  <a:lnTo>
                    <a:pt x="319" y="519"/>
                  </a:lnTo>
                  <a:lnTo>
                    <a:pt x="265" y="296"/>
                  </a:lnTo>
                  <a:lnTo>
                    <a:pt x="163" y="533"/>
                  </a:lnTo>
                  <a:lnTo>
                    <a:pt x="82" y="519"/>
                  </a:lnTo>
                  <a:lnTo>
                    <a:pt x="0" y="587"/>
                  </a:lnTo>
                  <a:lnTo>
                    <a:pt x="8" y="553"/>
                  </a:lnTo>
                  <a:lnTo>
                    <a:pt x="8" y="553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480" y="1610640"/>
              <a:ext cx="48600" cy="93600"/>
            </a:xfrm>
            <a:custGeom>
              <a:avLst/>
              <a:gdLst/>
              <a:ahLst/>
              <a:rect l="l" t="t" r="r" b="b"/>
              <a:pathLst>
                <a:path w="175" h="380">
                  <a:moveTo>
                    <a:pt x="0" y="318"/>
                  </a:moveTo>
                  <a:lnTo>
                    <a:pt x="34" y="0"/>
                  </a:lnTo>
                  <a:lnTo>
                    <a:pt x="175" y="28"/>
                  </a:lnTo>
                  <a:lnTo>
                    <a:pt x="141" y="338"/>
                  </a:lnTo>
                  <a:lnTo>
                    <a:pt x="34" y="380"/>
                  </a:lnTo>
                  <a:lnTo>
                    <a:pt x="0" y="31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680" y="1380960"/>
              <a:ext cx="37080" cy="78480"/>
            </a:xfrm>
            <a:custGeom>
              <a:avLst/>
              <a:gdLst/>
              <a:ahLst/>
              <a:rect l="l" t="t" r="r" b="b"/>
              <a:pathLst>
                <a:path w="134" h="316">
                  <a:moveTo>
                    <a:pt x="0" y="316"/>
                  </a:moveTo>
                  <a:lnTo>
                    <a:pt x="40" y="0"/>
                  </a:lnTo>
                  <a:lnTo>
                    <a:pt x="134" y="46"/>
                  </a:lnTo>
                  <a:lnTo>
                    <a:pt x="121" y="262"/>
                  </a:lnTo>
                  <a:lnTo>
                    <a:pt x="0" y="316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05200" y="1279440"/>
              <a:ext cx="133200" cy="164880"/>
            </a:xfrm>
            <a:custGeom>
              <a:avLst/>
              <a:gdLst/>
              <a:ahLst/>
              <a:rect l="l" t="t" r="r" b="b"/>
              <a:pathLst>
                <a:path w="480" h="668">
                  <a:moveTo>
                    <a:pt x="0" y="581"/>
                  </a:moveTo>
                  <a:lnTo>
                    <a:pt x="426" y="0"/>
                  </a:lnTo>
                  <a:lnTo>
                    <a:pt x="480" y="195"/>
                  </a:lnTo>
                  <a:lnTo>
                    <a:pt x="156" y="668"/>
                  </a:lnTo>
                  <a:lnTo>
                    <a:pt x="0" y="581"/>
                  </a:lnTo>
                  <a:lnTo>
                    <a:pt x="0" y="581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2360" y="1655640"/>
              <a:ext cx="100800" cy="116640"/>
            </a:xfrm>
            <a:custGeom>
              <a:avLst/>
              <a:gdLst/>
              <a:ahLst/>
              <a:rect l="l" t="t" r="r" b="b"/>
              <a:pathLst>
                <a:path w="364" h="473">
                  <a:moveTo>
                    <a:pt x="0" y="243"/>
                  </a:moveTo>
                  <a:lnTo>
                    <a:pt x="169" y="0"/>
                  </a:lnTo>
                  <a:lnTo>
                    <a:pt x="216" y="75"/>
                  </a:lnTo>
                  <a:lnTo>
                    <a:pt x="364" y="54"/>
                  </a:lnTo>
                  <a:lnTo>
                    <a:pt x="143" y="473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7360" y="1447920"/>
              <a:ext cx="145800" cy="281520"/>
            </a:xfrm>
            <a:custGeom>
              <a:avLst/>
              <a:gdLst/>
              <a:ahLst/>
              <a:rect l="l" t="t" r="r" b="b"/>
              <a:pathLst>
                <a:path w="525" h="1142">
                  <a:moveTo>
                    <a:pt x="195" y="804"/>
                  </a:moveTo>
                  <a:lnTo>
                    <a:pt x="0" y="128"/>
                  </a:lnTo>
                  <a:lnTo>
                    <a:pt x="99" y="0"/>
                  </a:lnTo>
                  <a:lnTo>
                    <a:pt x="525" y="838"/>
                  </a:lnTo>
                  <a:lnTo>
                    <a:pt x="410" y="1142"/>
                  </a:lnTo>
                  <a:lnTo>
                    <a:pt x="201" y="999"/>
                  </a:lnTo>
                  <a:lnTo>
                    <a:pt x="255" y="884"/>
                  </a:lnTo>
                  <a:lnTo>
                    <a:pt x="195" y="804"/>
                  </a:lnTo>
                  <a:lnTo>
                    <a:pt x="195" y="80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5680" y="1812240"/>
              <a:ext cx="454680" cy="103320"/>
            </a:xfrm>
            <a:custGeom>
              <a:avLst/>
              <a:gdLst/>
              <a:ahLst/>
              <a:rect l="l" t="t" r="r" b="b"/>
              <a:pathLst>
                <a:path w="1640" h="419">
                  <a:moveTo>
                    <a:pt x="20" y="243"/>
                  </a:moveTo>
                  <a:lnTo>
                    <a:pt x="438" y="0"/>
                  </a:lnTo>
                  <a:lnTo>
                    <a:pt x="1632" y="67"/>
                  </a:lnTo>
                  <a:lnTo>
                    <a:pt x="1640" y="419"/>
                  </a:lnTo>
                  <a:lnTo>
                    <a:pt x="1465" y="250"/>
                  </a:lnTo>
                  <a:lnTo>
                    <a:pt x="1451" y="175"/>
                  </a:lnTo>
                  <a:lnTo>
                    <a:pt x="514" y="209"/>
                  </a:lnTo>
                  <a:lnTo>
                    <a:pt x="0" y="304"/>
                  </a:lnTo>
                  <a:lnTo>
                    <a:pt x="20" y="243"/>
                  </a:lnTo>
                  <a:lnTo>
                    <a:pt x="20" y="24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40200" y="1502640"/>
              <a:ext cx="100800" cy="138240"/>
            </a:xfrm>
            <a:custGeom>
              <a:avLst/>
              <a:gdLst/>
              <a:ahLst/>
              <a:rect l="l" t="t" r="r" b="b"/>
              <a:pathLst>
                <a:path w="364" h="561">
                  <a:moveTo>
                    <a:pt x="330" y="0"/>
                  </a:moveTo>
                  <a:lnTo>
                    <a:pt x="0" y="486"/>
                  </a:lnTo>
                  <a:lnTo>
                    <a:pt x="115" y="561"/>
                  </a:lnTo>
                  <a:lnTo>
                    <a:pt x="364" y="88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53280" y="1532880"/>
              <a:ext cx="246960" cy="42480"/>
            </a:xfrm>
            <a:custGeom>
              <a:avLst/>
              <a:gdLst/>
              <a:ahLst/>
              <a:rect l="l" t="t" r="r" b="b"/>
              <a:pathLst>
                <a:path w="890" h="176">
                  <a:moveTo>
                    <a:pt x="0" y="40"/>
                  </a:moveTo>
                  <a:lnTo>
                    <a:pt x="147" y="0"/>
                  </a:lnTo>
                  <a:lnTo>
                    <a:pt x="802" y="34"/>
                  </a:lnTo>
                  <a:lnTo>
                    <a:pt x="890" y="176"/>
                  </a:lnTo>
                  <a:lnTo>
                    <a:pt x="519" y="156"/>
                  </a:lnTo>
                  <a:lnTo>
                    <a:pt x="195" y="162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200" y="1414440"/>
              <a:ext cx="78120" cy="52560"/>
            </a:xfrm>
            <a:custGeom>
              <a:avLst/>
              <a:gdLst/>
              <a:ahLst/>
              <a:rect l="l" t="t" r="r" b="b"/>
              <a:pathLst>
                <a:path w="283" h="215">
                  <a:moveTo>
                    <a:pt x="0" y="0"/>
                  </a:moveTo>
                  <a:lnTo>
                    <a:pt x="128" y="54"/>
                  </a:lnTo>
                  <a:lnTo>
                    <a:pt x="209" y="6"/>
                  </a:lnTo>
                  <a:lnTo>
                    <a:pt x="283" y="60"/>
                  </a:lnTo>
                  <a:lnTo>
                    <a:pt x="102" y="215"/>
                  </a:lnTo>
                  <a:lnTo>
                    <a:pt x="74" y="161"/>
                  </a:lnTo>
                  <a:lnTo>
                    <a:pt x="102" y="10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2080" y="1472760"/>
              <a:ext cx="95400" cy="123120"/>
            </a:xfrm>
            <a:custGeom>
              <a:avLst/>
              <a:gdLst/>
              <a:ahLst/>
              <a:rect l="l" t="t" r="r" b="b"/>
              <a:pathLst>
                <a:path w="345" h="499">
                  <a:moveTo>
                    <a:pt x="176" y="0"/>
                  </a:moveTo>
                  <a:lnTo>
                    <a:pt x="311" y="121"/>
                  </a:lnTo>
                  <a:lnTo>
                    <a:pt x="345" y="249"/>
                  </a:lnTo>
                  <a:lnTo>
                    <a:pt x="283" y="451"/>
                  </a:lnTo>
                  <a:lnTo>
                    <a:pt x="203" y="499"/>
                  </a:lnTo>
                  <a:lnTo>
                    <a:pt x="182" y="465"/>
                  </a:lnTo>
                  <a:lnTo>
                    <a:pt x="102" y="451"/>
                  </a:lnTo>
                  <a:lnTo>
                    <a:pt x="34" y="364"/>
                  </a:lnTo>
                  <a:lnTo>
                    <a:pt x="122" y="404"/>
                  </a:lnTo>
                  <a:lnTo>
                    <a:pt x="170" y="378"/>
                  </a:lnTo>
                  <a:lnTo>
                    <a:pt x="0" y="175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5080" y="1447920"/>
              <a:ext cx="502200" cy="455760"/>
            </a:xfrm>
            <a:custGeom>
              <a:avLst/>
              <a:gdLst/>
              <a:ahLst/>
              <a:rect l="l" t="t" r="r" b="b"/>
              <a:pathLst>
                <a:path w="1809" h="1851">
                  <a:moveTo>
                    <a:pt x="0" y="0"/>
                  </a:moveTo>
                  <a:lnTo>
                    <a:pt x="251" y="155"/>
                  </a:lnTo>
                  <a:lnTo>
                    <a:pt x="1465" y="1087"/>
                  </a:lnTo>
                  <a:lnTo>
                    <a:pt x="1499" y="830"/>
                  </a:lnTo>
                  <a:lnTo>
                    <a:pt x="1809" y="1465"/>
                  </a:lnTo>
                  <a:lnTo>
                    <a:pt x="1425" y="1851"/>
                  </a:lnTo>
                  <a:lnTo>
                    <a:pt x="1417" y="1546"/>
                  </a:lnTo>
                  <a:lnTo>
                    <a:pt x="223" y="1479"/>
                  </a:lnTo>
                  <a:lnTo>
                    <a:pt x="406" y="7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73520" y="1565640"/>
              <a:ext cx="250920" cy="164880"/>
            </a:xfrm>
            <a:custGeom>
              <a:avLst/>
              <a:gdLst/>
              <a:ahLst/>
              <a:rect l="l" t="t" r="r" b="b"/>
              <a:pathLst>
                <a:path w="903" h="668">
                  <a:moveTo>
                    <a:pt x="330" y="0"/>
                  </a:moveTo>
                  <a:lnTo>
                    <a:pt x="424" y="181"/>
                  </a:lnTo>
                  <a:lnTo>
                    <a:pt x="734" y="547"/>
                  </a:lnTo>
                  <a:lnTo>
                    <a:pt x="599" y="229"/>
                  </a:lnTo>
                  <a:lnTo>
                    <a:pt x="903" y="655"/>
                  </a:lnTo>
                  <a:lnTo>
                    <a:pt x="587" y="668"/>
                  </a:lnTo>
                  <a:lnTo>
                    <a:pt x="398" y="276"/>
                  </a:lnTo>
                  <a:lnTo>
                    <a:pt x="255" y="296"/>
                  </a:lnTo>
                  <a:lnTo>
                    <a:pt x="242" y="452"/>
                  </a:lnTo>
                  <a:lnTo>
                    <a:pt x="12" y="229"/>
                  </a:lnTo>
                  <a:lnTo>
                    <a:pt x="0" y="40"/>
                  </a:lnTo>
                  <a:lnTo>
                    <a:pt x="330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3560" y="1391400"/>
              <a:ext cx="24120" cy="19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0" y="80"/>
                  </a:moveTo>
                  <a:lnTo>
                    <a:pt x="36" y="45"/>
                  </a:lnTo>
                  <a:lnTo>
                    <a:pt x="63" y="55"/>
                  </a:lnTo>
                  <a:lnTo>
                    <a:pt x="88" y="22"/>
                  </a:lnTo>
                  <a:lnTo>
                    <a:pt x="71" y="0"/>
                  </a:lnTo>
                  <a:lnTo>
                    <a:pt x="23" y="1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9920" y="1406520"/>
              <a:ext cx="30240" cy="3132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9" y="0"/>
                  </a:moveTo>
                  <a:lnTo>
                    <a:pt x="0" y="36"/>
                  </a:lnTo>
                  <a:lnTo>
                    <a:pt x="35" y="92"/>
                  </a:lnTo>
                  <a:lnTo>
                    <a:pt x="50" y="64"/>
                  </a:lnTo>
                  <a:lnTo>
                    <a:pt x="109" y="127"/>
                  </a:lnTo>
                  <a:lnTo>
                    <a:pt x="75" y="3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9680" y="1430280"/>
              <a:ext cx="19800" cy="59400"/>
            </a:xfrm>
            <a:custGeom>
              <a:avLst/>
              <a:gdLst/>
              <a:ahLst/>
              <a:rect l="l" t="t" r="r" b="b"/>
              <a:pathLst>
                <a:path w="72" h="242">
                  <a:moveTo>
                    <a:pt x="7" y="0"/>
                  </a:moveTo>
                  <a:lnTo>
                    <a:pt x="40" y="120"/>
                  </a:lnTo>
                  <a:lnTo>
                    <a:pt x="72" y="168"/>
                  </a:lnTo>
                  <a:lnTo>
                    <a:pt x="67" y="214"/>
                  </a:lnTo>
                  <a:lnTo>
                    <a:pt x="27" y="242"/>
                  </a:lnTo>
                  <a:lnTo>
                    <a:pt x="0" y="15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85320" y="1235880"/>
              <a:ext cx="33840" cy="95040"/>
            </a:xfrm>
            <a:custGeom>
              <a:avLst/>
              <a:gdLst/>
              <a:ahLst/>
              <a:rect l="l" t="t" r="r" b="b"/>
              <a:pathLst>
                <a:path w="121" h="386">
                  <a:moveTo>
                    <a:pt x="121" y="0"/>
                  </a:moveTo>
                  <a:lnTo>
                    <a:pt x="19" y="143"/>
                  </a:lnTo>
                  <a:lnTo>
                    <a:pt x="0" y="386"/>
                  </a:lnTo>
                  <a:lnTo>
                    <a:pt x="75" y="372"/>
                  </a:lnTo>
                  <a:lnTo>
                    <a:pt x="115" y="183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36080" y="1234440"/>
              <a:ext cx="70920" cy="88200"/>
            </a:xfrm>
            <a:custGeom>
              <a:avLst/>
              <a:gdLst/>
              <a:ahLst/>
              <a:rect l="l" t="t" r="r" b="b"/>
              <a:pathLst>
                <a:path w="257" h="358">
                  <a:moveTo>
                    <a:pt x="0" y="73"/>
                  </a:moveTo>
                  <a:lnTo>
                    <a:pt x="108" y="115"/>
                  </a:lnTo>
                  <a:lnTo>
                    <a:pt x="34" y="175"/>
                  </a:lnTo>
                  <a:lnTo>
                    <a:pt x="0" y="358"/>
                  </a:lnTo>
                  <a:lnTo>
                    <a:pt x="189" y="296"/>
                  </a:lnTo>
                  <a:lnTo>
                    <a:pt x="257" y="141"/>
                  </a:lnTo>
                  <a:lnTo>
                    <a:pt x="102" y="13"/>
                  </a:lnTo>
                  <a:lnTo>
                    <a:pt x="54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44560" y="1870560"/>
              <a:ext cx="239760" cy="194760"/>
            </a:xfrm>
            <a:custGeom>
              <a:avLst/>
              <a:gdLst/>
              <a:ahLst/>
              <a:rect l="l" t="t" r="r" b="b"/>
              <a:pathLst>
                <a:path w="864" h="790">
                  <a:moveTo>
                    <a:pt x="175" y="41"/>
                  </a:moveTo>
                  <a:lnTo>
                    <a:pt x="0" y="256"/>
                  </a:lnTo>
                  <a:lnTo>
                    <a:pt x="14" y="338"/>
                  </a:lnTo>
                  <a:lnTo>
                    <a:pt x="155" y="189"/>
                  </a:lnTo>
                  <a:lnTo>
                    <a:pt x="155" y="236"/>
                  </a:lnTo>
                  <a:lnTo>
                    <a:pt x="101" y="513"/>
                  </a:lnTo>
                  <a:lnTo>
                    <a:pt x="203" y="276"/>
                  </a:lnTo>
                  <a:lnTo>
                    <a:pt x="283" y="216"/>
                  </a:lnTo>
                  <a:lnTo>
                    <a:pt x="378" y="372"/>
                  </a:lnTo>
                  <a:lnTo>
                    <a:pt x="432" y="541"/>
                  </a:lnTo>
                  <a:lnTo>
                    <a:pt x="466" y="473"/>
                  </a:lnTo>
                  <a:lnTo>
                    <a:pt x="587" y="567"/>
                  </a:lnTo>
                  <a:lnTo>
                    <a:pt x="607" y="682"/>
                  </a:lnTo>
                  <a:lnTo>
                    <a:pt x="864" y="790"/>
                  </a:lnTo>
                  <a:lnTo>
                    <a:pt x="728" y="0"/>
                  </a:lnTo>
                  <a:lnTo>
                    <a:pt x="175" y="41"/>
                  </a:lnTo>
                  <a:lnTo>
                    <a:pt x="175" y="41"/>
                  </a:lnTo>
                  <a:close/>
                </a:path>
              </a:pathLst>
            </a:custGeom>
            <a:solidFill>
              <a:srgbClr val="946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5320" y="1449360"/>
              <a:ext cx="375120" cy="243000"/>
            </a:xfrm>
            <a:custGeom>
              <a:avLst/>
              <a:gdLst/>
              <a:ahLst/>
              <a:rect l="l" t="t" r="r" b="b"/>
              <a:pathLst>
                <a:path w="1352" h="987">
                  <a:moveTo>
                    <a:pt x="1352" y="740"/>
                  </a:moveTo>
                  <a:lnTo>
                    <a:pt x="1205" y="761"/>
                  </a:lnTo>
                  <a:lnTo>
                    <a:pt x="1197" y="872"/>
                  </a:lnTo>
                  <a:lnTo>
                    <a:pt x="871" y="584"/>
                  </a:lnTo>
                  <a:lnTo>
                    <a:pt x="333" y="192"/>
                  </a:lnTo>
                  <a:lnTo>
                    <a:pt x="0" y="0"/>
                  </a:lnTo>
                  <a:lnTo>
                    <a:pt x="376" y="295"/>
                  </a:lnTo>
                  <a:lnTo>
                    <a:pt x="784" y="577"/>
                  </a:lnTo>
                  <a:lnTo>
                    <a:pt x="1260" y="987"/>
                  </a:lnTo>
                  <a:lnTo>
                    <a:pt x="1242" y="816"/>
                  </a:lnTo>
                  <a:lnTo>
                    <a:pt x="1352" y="740"/>
                  </a:lnTo>
                  <a:lnTo>
                    <a:pt x="1352" y="7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7160" y="1631520"/>
              <a:ext cx="157680" cy="297000"/>
            </a:xfrm>
            <a:custGeom>
              <a:avLst/>
              <a:gdLst/>
              <a:ahLst/>
              <a:rect l="l" t="t" r="r" b="b"/>
              <a:pathLst>
                <a:path w="569" h="1205">
                  <a:moveTo>
                    <a:pt x="192" y="0"/>
                  </a:moveTo>
                  <a:lnTo>
                    <a:pt x="162" y="236"/>
                  </a:lnTo>
                  <a:lnTo>
                    <a:pt x="45" y="199"/>
                  </a:lnTo>
                  <a:lnTo>
                    <a:pt x="206" y="355"/>
                  </a:lnTo>
                  <a:lnTo>
                    <a:pt x="237" y="139"/>
                  </a:lnTo>
                  <a:lnTo>
                    <a:pt x="369" y="405"/>
                  </a:lnTo>
                  <a:lnTo>
                    <a:pt x="509" y="702"/>
                  </a:lnTo>
                  <a:lnTo>
                    <a:pt x="162" y="1049"/>
                  </a:lnTo>
                  <a:lnTo>
                    <a:pt x="155" y="797"/>
                  </a:lnTo>
                  <a:lnTo>
                    <a:pt x="0" y="894"/>
                  </a:lnTo>
                  <a:lnTo>
                    <a:pt x="103" y="894"/>
                  </a:lnTo>
                  <a:lnTo>
                    <a:pt x="119" y="1131"/>
                  </a:lnTo>
                  <a:lnTo>
                    <a:pt x="0" y="1108"/>
                  </a:lnTo>
                  <a:lnTo>
                    <a:pt x="148" y="1205"/>
                  </a:lnTo>
                  <a:lnTo>
                    <a:pt x="569" y="708"/>
                  </a:lnTo>
                  <a:lnTo>
                    <a:pt x="295" y="124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7960" y="1436040"/>
              <a:ext cx="439200" cy="468360"/>
            </a:xfrm>
            <a:custGeom>
              <a:avLst/>
              <a:gdLst/>
              <a:ahLst/>
              <a:rect l="l" t="t" r="r" b="b"/>
              <a:pathLst>
                <a:path w="1581" h="1900">
                  <a:moveTo>
                    <a:pt x="303" y="0"/>
                  </a:moveTo>
                  <a:lnTo>
                    <a:pt x="584" y="443"/>
                  </a:lnTo>
                  <a:lnTo>
                    <a:pt x="718" y="792"/>
                  </a:lnTo>
                  <a:lnTo>
                    <a:pt x="297" y="95"/>
                  </a:lnTo>
                  <a:lnTo>
                    <a:pt x="215" y="177"/>
                  </a:lnTo>
                  <a:lnTo>
                    <a:pt x="481" y="873"/>
                  </a:lnTo>
                  <a:lnTo>
                    <a:pt x="642" y="895"/>
                  </a:lnTo>
                  <a:lnTo>
                    <a:pt x="489" y="991"/>
                  </a:lnTo>
                  <a:lnTo>
                    <a:pt x="97" y="1708"/>
                  </a:lnTo>
                  <a:lnTo>
                    <a:pt x="473" y="1568"/>
                  </a:lnTo>
                  <a:lnTo>
                    <a:pt x="192" y="1768"/>
                  </a:lnTo>
                  <a:lnTo>
                    <a:pt x="702" y="1686"/>
                  </a:lnTo>
                  <a:lnTo>
                    <a:pt x="1205" y="1679"/>
                  </a:lnTo>
                  <a:lnTo>
                    <a:pt x="1581" y="1686"/>
                  </a:lnTo>
                  <a:lnTo>
                    <a:pt x="1581" y="1900"/>
                  </a:lnTo>
                  <a:lnTo>
                    <a:pt x="1521" y="1731"/>
                  </a:lnTo>
                  <a:lnTo>
                    <a:pt x="1226" y="1731"/>
                  </a:lnTo>
                  <a:lnTo>
                    <a:pt x="576" y="1752"/>
                  </a:lnTo>
                  <a:lnTo>
                    <a:pt x="37" y="1857"/>
                  </a:lnTo>
                  <a:lnTo>
                    <a:pt x="0" y="1739"/>
                  </a:lnTo>
                  <a:lnTo>
                    <a:pt x="392" y="947"/>
                  </a:lnTo>
                  <a:lnTo>
                    <a:pt x="149" y="126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9720" y="1660320"/>
              <a:ext cx="350640" cy="167400"/>
            </a:xfrm>
            <a:custGeom>
              <a:avLst/>
              <a:gdLst/>
              <a:ahLst/>
              <a:rect l="l" t="t" r="r" b="b"/>
              <a:pathLst>
                <a:path w="1263" h="679">
                  <a:moveTo>
                    <a:pt x="251" y="0"/>
                  </a:moveTo>
                  <a:lnTo>
                    <a:pt x="217" y="52"/>
                  </a:lnTo>
                  <a:lnTo>
                    <a:pt x="169" y="152"/>
                  </a:lnTo>
                  <a:lnTo>
                    <a:pt x="129" y="251"/>
                  </a:lnTo>
                  <a:lnTo>
                    <a:pt x="111" y="295"/>
                  </a:lnTo>
                  <a:lnTo>
                    <a:pt x="0" y="658"/>
                  </a:lnTo>
                  <a:lnTo>
                    <a:pt x="421" y="666"/>
                  </a:lnTo>
                  <a:lnTo>
                    <a:pt x="1263" y="679"/>
                  </a:lnTo>
                  <a:lnTo>
                    <a:pt x="658" y="629"/>
                  </a:lnTo>
                  <a:lnTo>
                    <a:pt x="119" y="561"/>
                  </a:lnTo>
                  <a:lnTo>
                    <a:pt x="192" y="214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9800" y="1257480"/>
              <a:ext cx="612720" cy="214920"/>
            </a:xfrm>
            <a:custGeom>
              <a:avLst/>
              <a:gdLst/>
              <a:ahLst/>
              <a:rect l="l" t="t" r="r" b="b"/>
              <a:pathLst>
                <a:path w="2208" h="872">
                  <a:moveTo>
                    <a:pt x="118" y="532"/>
                  </a:moveTo>
                  <a:lnTo>
                    <a:pt x="103" y="782"/>
                  </a:lnTo>
                  <a:lnTo>
                    <a:pt x="450" y="613"/>
                  </a:lnTo>
                  <a:lnTo>
                    <a:pt x="953" y="390"/>
                  </a:lnTo>
                  <a:lnTo>
                    <a:pt x="1735" y="109"/>
                  </a:lnTo>
                  <a:lnTo>
                    <a:pt x="2141" y="0"/>
                  </a:lnTo>
                  <a:lnTo>
                    <a:pt x="2208" y="249"/>
                  </a:lnTo>
                  <a:lnTo>
                    <a:pt x="2075" y="383"/>
                  </a:lnTo>
                  <a:lnTo>
                    <a:pt x="1809" y="732"/>
                  </a:lnTo>
                  <a:lnTo>
                    <a:pt x="1979" y="413"/>
                  </a:lnTo>
                  <a:lnTo>
                    <a:pt x="2032" y="214"/>
                  </a:lnTo>
                  <a:lnTo>
                    <a:pt x="1698" y="606"/>
                  </a:lnTo>
                  <a:lnTo>
                    <a:pt x="2009" y="117"/>
                  </a:lnTo>
                  <a:lnTo>
                    <a:pt x="1566" y="250"/>
                  </a:lnTo>
                  <a:lnTo>
                    <a:pt x="629" y="590"/>
                  </a:lnTo>
                  <a:lnTo>
                    <a:pt x="0" y="872"/>
                  </a:lnTo>
                  <a:lnTo>
                    <a:pt x="118" y="532"/>
                  </a:lnTo>
                  <a:lnTo>
                    <a:pt x="118" y="5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00" y="1375920"/>
              <a:ext cx="325080" cy="337320"/>
            </a:xfrm>
            <a:custGeom>
              <a:avLst/>
              <a:gdLst/>
              <a:ahLst/>
              <a:rect l="l" t="t" r="r" b="b"/>
              <a:pathLst>
                <a:path w="1173" h="1368">
                  <a:moveTo>
                    <a:pt x="930" y="259"/>
                  </a:moveTo>
                  <a:lnTo>
                    <a:pt x="907" y="44"/>
                  </a:lnTo>
                  <a:lnTo>
                    <a:pt x="804" y="0"/>
                  </a:lnTo>
                  <a:lnTo>
                    <a:pt x="309" y="502"/>
                  </a:lnTo>
                  <a:lnTo>
                    <a:pt x="0" y="865"/>
                  </a:lnTo>
                  <a:lnTo>
                    <a:pt x="641" y="1368"/>
                  </a:lnTo>
                  <a:lnTo>
                    <a:pt x="782" y="1315"/>
                  </a:lnTo>
                  <a:lnTo>
                    <a:pt x="804" y="1043"/>
                  </a:lnTo>
                  <a:lnTo>
                    <a:pt x="945" y="954"/>
                  </a:lnTo>
                  <a:lnTo>
                    <a:pt x="1173" y="873"/>
                  </a:lnTo>
                  <a:lnTo>
                    <a:pt x="1143" y="747"/>
                  </a:lnTo>
                  <a:lnTo>
                    <a:pt x="649" y="931"/>
                  </a:lnTo>
                  <a:lnTo>
                    <a:pt x="751" y="1028"/>
                  </a:lnTo>
                  <a:lnTo>
                    <a:pt x="738" y="1265"/>
                  </a:lnTo>
                  <a:lnTo>
                    <a:pt x="627" y="1302"/>
                  </a:lnTo>
                  <a:lnTo>
                    <a:pt x="95" y="857"/>
                  </a:lnTo>
                  <a:lnTo>
                    <a:pt x="464" y="421"/>
                  </a:lnTo>
                  <a:lnTo>
                    <a:pt x="811" y="52"/>
                  </a:lnTo>
                  <a:lnTo>
                    <a:pt x="864" y="103"/>
                  </a:lnTo>
                  <a:lnTo>
                    <a:pt x="885" y="296"/>
                  </a:lnTo>
                  <a:lnTo>
                    <a:pt x="930" y="259"/>
                  </a:lnTo>
                  <a:lnTo>
                    <a:pt x="93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4520" y="1605600"/>
              <a:ext cx="34920" cy="98280"/>
            </a:xfrm>
            <a:custGeom>
              <a:avLst/>
              <a:gdLst/>
              <a:ahLst/>
              <a:rect l="l" t="t" r="r" b="b"/>
              <a:pathLst>
                <a:path w="126" h="400">
                  <a:moveTo>
                    <a:pt x="82" y="0"/>
                  </a:moveTo>
                  <a:lnTo>
                    <a:pt x="0" y="347"/>
                  </a:lnTo>
                  <a:lnTo>
                    <a:pt x="105" y="400"/>
                  </a:lnTo>
                  <a:lnTo>
                    <a:pt x="126" y="23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38520" y="1423440"/>
              <a:ext cx="306000" cy="219240"/>
            </a:xfrm>
            <a:custGeom>
              <a:avLst/>
              <a:gdLst/>
              <a:ahLst/>
              <a:rect l="l" t="t" r="r" b="b"/>
              <a:pathLst>
                <a:path w="1100" h="888">
                  <a:moveTo>
                    <a:pt x="0" y="444"/>
                  </a:moveTo>
                  <a:lnTo>
                    <a:pt x="324" y="415"/>
                  </a:lnTo>
                  <a:lnTo>
                    <a:pt x="848" y="452"/>
                  </a:lnTo>
                  <a:lnTo>
                    <a:pt x="598" y="0"/>
                  </a:lnTo>
                  <a:lnTo>
                    <a:pt x="1100" y="688"/>
                  </a:lnTo>
                  <a:lnTo>
                    <a:pt x="716" y="615"/>
                  </a:lnTo>
                  <a:lnTo>
                    <a:pt x="569" y="636"/>
                  </a:lnTo>
                  <a:lnTo>
                    <a:pt x="576" y="888"/>
                  </a:lnTo>
                  <a:lnTo>
                    <a:pt x="458" y="791"/>
                  </a:lnTo>
                  <a:lnTo>
                    <a:pt x="198" y="570"/>
                  </a:lnTo>
                  <a:lnTo>
                    <a:pt x="369" y="555"/>
                  </a:lnTo>
                  <a:lnTo>
                    <a:pt x="901" y="584"/>
                  </a:lnTo>
                  <a:lnTo>
                    <a:pt x="819" y="510"/>
                  </a:lnTo>
                  <a:lnTo>
                    <a:pt x="258" y="458"/>
                  </a:lnTo>
                  <a:lnTo>
                    <a:pt x="45" y="481"/>
                  </a:lnTo>
                  <a:lnTo>
                    <a:pt x="0" y="444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04480" y="1406880"/>
              <a:ext cx="139680" cy="186120"/>
            </a:xfrm>
            <a:custGeom>
              <a:avLst/>
              <a:gdLst/>
              <a:ahLst/>
              <a:rect l="l" t="t" r="r" b="b"/>
              <a:pathLst>
                <a:path w="502" h="754">
                  <a:moveTo>
                    <a:pt x="58" y="0"/>
                  </a:moveTo>
                  <a:lnTo>
                    <a:pt x="169" y="126"/>
                  </a:lnTo>
                  <a:lnTo>
                    <a:pt x="266" y="289"/>
                  </a:lnTo>
                  <a:lnTo>
                    <a:pt x="502" y="754"/>
                  </a:lnTo>
                  <a:lnTo>
                    <a:pt x="405" y="687"/>
                  </a:lnTo>
                  <a:lnTo>
                    <a:pt x="118" y="273"/>
                  </a:lnTo>
                  <a:lnTo>
                    <a:pt x="0" y="66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6280" y="1219320"/>
              <a:ext cx="186480" cy="140400"/>
            </a:xfrm>
            <a:custGeom>
              <a:avLst/>
              <a:gdLst/>
              <a:ahLst/>
              <a:rect l="l" t="t" r="r" b="b"/>
              <a:pathLst>
                <a:path w="672" h="570">
                  <a:moveTo>
                    <a:pt x="0" y="570"/>
                  </a:moveTo>
                  <a:lnTo>
                    <a:pt x="67" y="155"/>
                  </a:lnTo>
                  <a:lnTo>
                    <a:pt x="222" y="60"/>
                  </a:lnTo>
                  <a:lnTo>
                    <a:pt x="325" y="16"/>
                  </a:lnTo>
                  <a:lnTo>
                    <a:pt x="391" y="82"/>
                  </a:lnTo>
                  <a:lnTo>
                    <a:pt x="443" y="0"/>
                  </a:lnTo>
                  <a:lnTo>
                    <a:pt x="569" y="68"/>
                  </a:lnTo>
                  <a:lnTo>
                    <a:pt x="606" y="134"/>
                  </a:lnTo>
                  <a:lnTo>
                    <a:pt x="672" y="134"/>
                  </a:lnTo>
                  <a:lnTo>
                    <a:pt x="672" y="311"/>
                  </a:lnTo>
                  <a:lnTo>
                    <a:pt x="472" y="386"/>
                  </a:lnTo>
                  <a:lnTo>
                    <a:pt x="509" y="281"/>
                  </a:lnTo>
                  <a:lnTo>
                    <a:pt x="591" y="215"/>
                  </a:lnTo>
                  <a:lnTo>
                    <a:pt x="532" y="134"/>
                  </a:lnTo>
                  <a:lnTo>
                    <a:pt x="435" y="105"/>
                  </a:lnTo>
                  <a:lnTo>
                    <a:pt x="377" y="186"/>
                  </a:lnTo>
                  <a:lnTo>
                    <a:pt x="385" y="266"/>
                  </a:lnTo>
                  <a:lnTo>
                    <a:pt x="332" y="304"/>
                  </a:lnTo>
                  <a:lnTo>
                    <a:pt x="295" y="407"/>
                  </a:lnTo>
                  <a:lnTo>
                    <a:pt x="288" y="304"/>
                  </a:lnTo>
                  <a:lnTo>
                    <a:pt x="295" y="126"/>
                  </a:lnTo>
                  <a:lnTo>
                    <a:pt x="140" y="163"/>
                  </a:lnTo>
                  <a:lnTo>
                    <a:pt x="111" y="318"/>
                  </a:lnTo>
                  <a:lnTo>
                    <a:pt x="45" y="452"/>
                  </a:lnTo>
                  <a:lnTo>
                    <a:pt x="67" y="534"/>
                  </a:lnTo>
                  <a:lnTo>
                    <a:pt x="0" y="570"/>
                  </a:lnTo>
                  <a:lnTo>
                    <a:pt x="0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1880" y="1855800"/>
              <a:ext cx="265680" cy="220680"/>
            </a:xfrm>
            <a:custGeom>
              <a:avLst/>
              <a:gdLst/>
              <a:ahLst/>
              <a:rect l="l" t="t" r="r" b="b"/>
              <a:pathLst>
                <a:path w="959" h="896">
                  <a:moveTo>
                    <a:pt x="945" y="0"/>
                  </a:moveTo>
                  <a:lnTo>
                    <a:pt x="959" y="896"/>
                  </a:lnTo>
                  <a:lnTo>
                    <a:pt x="879" y="822"/>
                  </a:lnTo>
                  <a:lnTo>
                    <a:pt x="811" y="171"/>
                  </a:lnTo>
                  <a:lnTo>
                    <a:pt x="642" y="549"/>
                  </a:lnTo>
                  <a:lnTo>
                    <a:pt x="376" y="194"/>
                  </a:lnTo>
                  <a:lnTo>
                    <a:pt x="258" y="186"/>
                  </a:lnTo>
                  <a:lnTo>
                    <a:pt x="200" y="252"/>
                  </a:lnTo>
                  <a:lnTo>
                    <a:pt x="21" y="600"/>
                  </a:lnTo>
                  <a:lnTo>
                    <a:pt x="0" y="510"/>
                  </a:lnTo>
                  <a:lnTo>
                    <a:pt x="95" y="52"/>
                  </a:lnTo>
                  <a:lnTo>
                    <a:pt x="243" y="23"/>
                  </a:lnTo>
                  <a:lnTo>
                    <a:pt x="945" y="0"/>
                  </a:lnTo>
                  <a:lnTo>
                    <a:pt x="9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94840" y="1481760"/>
              <a:ext cx="176400" cy="258840"/>
            </a:xfrm>
            <a:custGeom>
              <a:avLst/>
              <a:gdLst/>
              <a:ahLst/>
              <a:rect l="l" t="t" r="r" b="b"/>
              <a:pathLst>
                <a:path w="636" h="1050">
                  <a:moveTo>
                    <a:pt x="0" y="148"/>
                  </a:moveTo>
                  <a:lnTo>
                    <a:pt x="524" y="0"/>
                  </a:lnTo>
                  <a:lnTo>
                    <a:pt x="636" y="156"/>
                  </a:lnTo>
                  <a:lnTo>
                    <a:pt x="473" y="319"/>
                  </a:lnTo>
                  <a:lnTo>
                    <a:pt x="297" y="637"/>
                  </a:lnTo>
                  <a:lnTo>
                    <a:pt x="569" y="1050"/>
                  </a:lnTo>
                  <a:lnTo>
                    <a:pt x="171" y="1029"/>
                  </a:lnTo>
                  <a:lnTo>
                    <a:pt x="126" y="977"/>
                  </a:lnTo>
                  <a:lnTo>
                    <a:pt x="444" y="992"/>
                  </a:lnTo>
                  <a:lnTo>
                    <a:pt x="171" y="577"/>
                  </a:lnTo>
                  <a:lnTo>
                    <a:pt x="266" y="534"/>
                  </a:lnTo>
                  <a:lnTo>
                    <a:pt x="487" y="82"/>
                  </a:lnTo>
                  <a:lnTo>
                    <a:pt x="178" y="156"/>
                  </a:lnTo>
                  <a:lnTo>
                    <a:pt x="37" y="237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960" y="1616400"/>
              <a:ext cx="125280" cy="165960"/>
            </a:xfrm>
            <a:custGeom>
              <a:avLst/>
              <a:gdLst/>
              <a:ahLst/>
              <a:rect l="l" t="t" r="r" b="b"/>
              <a:pathLst>
                <a:path w="452" h="673">
                  <a:moveTo>
                    <a:pt x="452" y="73"/>
                  </a:moveTo>
                  <a:lnTo>
                    <a:pt x="326" y="118"/>
                  </a:lnTo>
                  <a:lnTo>
                    <a:pt x="310" y="29"/>
                  </a:lnTo>
                  <a:lnTo>
                    <a:pt x="215" y="0"/>
                  </a:lnTo>
                  <a:lnTo>
                    <a:pt x="0" y="421"/>
                  </a:lnTo>
                  <a:lnTo>
                    <a:pt x="207" y="673"/>
                  </a:lnTo>
                  <a:lnTo>
                    <a:pt x="237" y="621"/>
                  </a:lnTo>
                  <a:lnTo>
                    <a:pt x="60" y="407"/>
                  </a:lnTo>
                  <a:lnTo>
                    <a:pt x="215" y="67"/>
                  </a:lnTo>
                  <a:lnTo>
                    <a:pt x="266" y="192"/>
                  </a:lnTo>
                  <a:lnTo>
                    <a:pt x="415" y="155"/>
                  </a:lnTo>
                  <a:lnTo>
                    <a:pt x="452" y="73"/>
                  </a:lnTo>
                  <a:lnTo>
                    <a:pt x="45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72800" y="1803240"/>
              <a:ext cx="51480" cy="4248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0" y="0"/>
                  </a:moveTo>
                  <a:lnTo>
                    <a:pt x="81" y="64"/>
                  </a:lnTo>
                  <a:lnTo>
                    <a:pt x="155" y="27"/>
                  </a:lnTo>
                  <a:lnTo>
                    <a:pt x="185" y="53"/>
                  </a:lnTo>
                  <a:lnTo>
                    <a:pt x="149" y="116"/>
                  </a:lnTo>
                  <a:lnTo>
                    <a:pt x="104" y="163"/>
                  </a:lnTo>
                  <a:lnTo>
                    <a:pt x="30" y="171"/>
                  </a:lnTo>
                  <a:lnTo>
                    <a:pt x="15" y="145"/>
                  </a:lnTo>
                  <a:lnTo>
                    <a:pt x="55" y="116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1920" y="1372320"/>
              <a:ext cx="44640" cy="471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3" y="158"/>
                  </a:moveTo>
                  <a:lnTo>
                    <a:pt x="96" y="69"/>
                  </a:lnTo>
                  <a:lnTo>
                    <a:pt x="130" y="32"/>
                  </a:lnTo>
                  <a:lnTo>
                    <a:pt x="100" y="0"/>
                  </a:lnTo>
                  <a:lnTo>
                    <a:pt x="0" y="69"/>
                  </a:lnTo>
                  <a:lnTo>
                    <a:pt x="8" y="92"/>
                  </a:lnTo>
                  <a:lnTo>
                    <a:pt x="59" y="77"/>
                  </a:lnTo>
                  <a:lnTo>
                    <a:pt x="159" y="192"/>
                  </a:lnTo>
                  <a:lnTo>
                    <a:pt x="163" y="158"/>
                  </a:lnTo>
                  <a:lnTo>
                    <a:pt x="163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7640" y="1387440"/>
              <a:ext cx="89640" cy="143280"/>
            </a:xfrm>
            <a:custGeom>
              <a:avLst/>
              <a:gdLst/>
              <a:ahLst/>
              <a:rect l="l" t="t" r="r" b="b"/>
              <a:pathLst>
                <a:path w="323" h="583">
                  <a:moveTo>
                    <a:pt x="133" y="102"/>
                  </a:moveTo>
                  <a:lnTo>
                    <a:pt x="168" y="145"/>
                  </a:lnTo>
                  <a:lnTo>
                    <a:pt x="136" y="180"/>
                  </a:lnTo>
                  <a:lnTo>
                    <a:pt x="140" y="286"/>
                  </a:lnTo>
                  <a:lnTo>
                    <a:pt x="156" y="414"/>
                  </a:lnTo>
                  <a:lnTo>
                    <a:pt x="234" y="464"/>
                  </a:lnTo>
                  <a:lnTo>
                    <a:pt x="262" y="383"/>
                  </a:lnTo>
                  <a:lnTo>
                    <a:pt x="323" y="434"/>
                  </a:lnTo>
                  <a:lnTo>
                    <a:pt x="191" y="583"/>
                  </a:lnTo>
                  <a:lnTo>
                    <a:pt x="183" y="500"/>
                  </a:lnTo>
                  <a:lnTo>
                    <a:pt x="120" y="454"/>
                  </a:lnTo>
                  <a:lnTo>
                    <a:pt x="93" y="391"/>
                  </a:lnTo>
                  <a:lnTo>
                    <a:pt x="93" y="188"/>
                  </a:lnTo>
                  <a:lnTo>
                    <a:pt x="62" y="211"/>
                  </a:lnTo>
                  <a:lnTo>
                    <a:pt x="3" y="297"/>
                  </a:lnTo>
                  <a:lnTo>
                    <a:pt x="0" y="258"/>
                  </a:lnTo>
                  <a:lnTo>
                    <a:pt x="19" y="175"/>
                  </a:lnTo>
                  <a:lnTo>
                    <a:pt x="70" y="109"/>
                  </a:lnTo>
                  <a:lnTo>
                    <a:pt x="82" y="43"/>
                  </a:lnTo>
                  <a:lnTo>
                    <a:pt x="113" y="8"/>
                  </a:lnTo>
                  <a:lnTo>
                    <a:pt x="145" y="0"/>
                  </a:lnTo>
                  <a:lnTo>
                    <a:pt x="194" y="0"/>
                  </a:lnTo>
                  <a:lnTo>
                    <a:pt x="214" y="48"/>
                  </a:lnTo>
                  <a:lnTo>
                    <a:pt x="191" y="71"/>
                  </a:lnTo>
                  <a:lnTo>
                    <a:pt x="163" y="40"/>
                  </a:lnTo>
                  <a:lnTo>
                    <a:pt x="125" y="40"/>
                  </a:lnTo>
                  <a:lnTo>
                    <a:pt x="102" y="114"/>
                  </a:lnTo>
                  <a:lnTo>
                    <a:pt x="133" y="102"/>
                  </a:lnTo>
                  <a:lnTo>
                    <a:pt x="133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4800" y="1398600"/>
              <a:ext cx="66600" cy="92520"/>
            </a:xfrm>
            <a:custGeom>
              <a:avLst/>
              <a:gdLst/>
              <a:ahLst/>
              <a:rect l="l" t="t" r="r" b="b"/>
              <a:pathLst>
                <a:path w="238" h="375">
                  <a:moveTo>
                    <a:pt x="43" y="0"/>
                  </a:moveTo>
                  <a:lnTo>
                    <a:pt x="20" y="23"/>
                  </a:lnTo>
                  <a:lnTo>
                    <a:pt x="0" y="61"/>
                  </a:lnTo>
                  <a:lnTo>
                    <a:pt x="20" y="127"/>
                  </a:lnTo>
                  <a:lnTo>
                    <a:pt x="48" y="249"/>
                  </a:lnTo>
                  <a:lnTo>
                    <a:pt x="58" y="332"/>
                  </a:lnTo>
                  <a:lnTo>
                    <a:pt x="94" y="375"/>
                  </a:lnTo>
                  <a:lnTo>
                    <a:pt x="114" y="339"/>
                  </a:lnTo>
                  <a:lnTo>
                    <a:pt x="78" y="226"/>
                  </a:lnTo>
                  <a:lnTo>
                    <a:pt x="48" y="94"/>
                  </a:lnTo>
                  <a:lnTo>
                    <a:pt x="71" y="54"/>
                  </a:lnTo>
                  <a:lnTo>
                    <a:pt x="109" y="69"/>
                  </a:lnTo>
                  <a:lnTo>
                    <a:pt x="144" y="140"/>
                  </a:lnTo>
                  <a:lnTo>
                    <a:pt x="180" y="246"/>
                  </a:lnTo>
                  <a:lnTo>
                    <a:pt x="183" y="347"/>
                  </a:lnTo>
                  <a:lnTo>
                    <a:pt x="238" y="300"/>
                  </a:lnTo>
                  <a:lnTo>
                    <a:pt x="195" y="186"/>
                  </a:lnTo>
                  <a:lnTo>
                    <a:pt x="152" y="66"/>
                  </a:lnTo>
                  <a:lnTo>
                    <a:pt x="109" y="15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6920" y="1658880"/>
              <a:ext cx="16920" cy="3276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0" y="0"/>
                  </a:moveTo>
                  <a:lnTo>
                    <a:pt x="44" y="14"/>
                  </a:lnTo>
                  <a:lnTo>
                    <a:pt x="61" y="84"/>
                  </a:lnTo>
                  <a:lnTo>
                    <a:pt x="35" y="132"/>
                  </a:lnTo>
                  <a:lnTo>
                    <a:pt x="3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70640" y="1652400"/>
              <a:ext cx="43200" cy="53640"/>
            </a:xfrm>
            <a:custGeom>
              <a:avLst/>
              <a:gdLst/>
              <a:ahLst/>
              <a:rect l="l" t="t" r="r" b="b"/>
              <a:pathLst>
                <a:path w="155" h="218">
                  <a:moveTo>
                    <a:pt x="4" y="92"/>
                  </a:moveTo>
                  <a:lnTo>
                    <a:pt x="67" y="81"/>
                  </a:lnTo>
                  <a:lnTo>
                    <a:pt x="86" y="0"/>
                  </a:lnTo>
                  <a:lnTo>
                    <a:pt x="118" y="26"/>
                  </a:lnTo>
                  <a:lnTo>
                    <a:pt x="100" y="58"/>
                  </a:lnTo>
                  <a:lnTo>
                    <a:pt x="97" y="129"/>
                  </a:lnTo>
                  <a:lnTo>
                    <a:pt x="129" y="158"/>
                  </a:lnTo>
                  <a:lnTo>
                    <a:pt x="141" y="58"/>
                  </a:lnTo>
                  <a:lnTo>
                    <a:pt x="155" y="110"/>
                  </a:lnTo>
                  <a:lnTo>
                    <a:pt x="152" y="184"/>
                  </a:lnTo>
                  <a:lnTo>
                    <a:pt x="137" y="218"/>
                  </a:lnTo>
                  <a:lnTo>
                    <a:pt x="92" y="169"/>
                  </a:lnTo>
                  <a:lnTo>
                    <a:pt x="60" y="121"/>
                  </a:lnTo>
                  <a:lnTo>
                    <a:pt x="0" y="126"/>
                  </a:lnTo>
                  <a:lnTo>
                    <a:pt x="4" y="92"/>
                  </a:lnTo>
                  <a:lnTo>
                    <a:pt x="4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DC9-3A87-424E-9897-BB98FDB7D923}" type="slidenum">
              <a:t>18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8560" y="662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15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2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2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ben establecerse de modo de asegurar que la información obtenida va a satisfacer el propósito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finir preguntas de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¿Quiénes comprarán un abono para las Eliminatorias de Sudáfrica 2010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esarrollo de Hipótesi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A los hombres entre 30-44 años les gustaría ir con su hijo a ver todos los partidos que Chile juegue de local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nformación necesaria para Tomar la Decis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Capacidad total del estadio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-262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lcances de la Investigació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82520" indent="-16344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9e0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9e0f"/>
                </a:solidFill>
                <a:latin typeface="Arial"/>
              </a:rPr>
              <a:t>El estudio sólo se hará para el caso de la participación de Chile como local en las Eliminatorias para Sudáfrica 2010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16040"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5402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09760" y="1219320"/>
          <a:ext cx="861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219320"/>
                    <a:ext cx="861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767-3D03-41BD-ADE2-44370BD1BF5D}" type="slidenum">
              <a:t>19</a:t>
            </a:fld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700280"/>
            <a:ext cx="75596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gene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finir, diseñar, desarrollar e interpretar una investigación de mercados para, a partir de los resultados de esta, poder entregar información útil y relevante para la toma de decisiones de un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348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DA6-A650-4D11-B81A-227714740C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490400" y="1133280"/>
            <a:ext cx="71960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3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Estimar el Valor de la Informació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¿Cuánto estamos dispuestos a pagar por la información?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cepto de valor esperado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358560" y="4392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Proceso de la Investigación de Mercados</a:t>
            </a:r>
            <a:endParaRPr b="1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914400" cy="893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80880" y="4815000"/>
            <a:ext cx="1657440" cy="79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No viene gente ($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1360" y="4815000"/>
            <a:ext cx="230364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400 personas semanales ($15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659640" y="4815000"/>
            <a:ext cx="2374920" cy="100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d11001"/>
                </a:solidFill>
                <a:latin typeface="Tahoma"/>
              </a:rPr>
              <a:t>Escenario 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ienen 1000 personas semanales ($400.000.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05000" y="373392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ahoma"/>
              </a:rPr>
              <a:t>Poner un nuevo Karting en Las Condes… $100.00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52960" y="5857920"/>
            <a:ext cx="8037720" cy="346680"/>
            <a:chOff x="552960" y="5857920"/>
            <a:chExt cx="8037720" cy="346680"/>
          </a:xfrm>
        </p:grpSpPr>
        <p:sp>
          <p:nvSpPr>
            <p:cNvPr id="408" name=""/>
            <p:cNvSpPr/>
            <p:nvPr/>
          </p:nvSpPr>
          <p:spPr>
            <a:xfrm>
              <a:off x="552960" y="585792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0284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79200" y="5867280"/>
              <a:ext cx="131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Prob. = 2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219320" y="4060800"/>
            <a:ext cx="6629400" cy="685800"/>
            <a:chOff x="1219320" y="4060800"/>
            <a:chExt cx="6629400" cy="685800"/>
          </a:xfrm>
        </p:grpSpPr>
        <p:sp>
          <p:nvSpPr>
            <p:cNvPr id="412" name=""/>
            <p:cNvSpPr/>
            <p:nvPr/>
          </p:nvSpPr>
          <p:spPr>
            <a:xfrm>
              <a:off x="4572000" y="4060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43657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193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7200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48720" y="43657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BB1F-E703-443D-A234-03FEE6AEA9C1}" type="slidenum">
              <a:t>20</a:t>
            </a:fld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stimar el valor de la inform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mportante para saber cuánto estamos dispuestos a invertir en un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l valor de la información puede modificar radicalmente el diseño de la investig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Herramienta tradicional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FA7-A7BD-411F-8612-57AAC32EBA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8360" y="124092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Ejemplo: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Evaluar la introducción al mercado de un nuevo servicio bancario para el próximo verano, a través de una prueba de concepto (por ej. cualitativa mediante focus groups)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1: Éxit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ganancia MM$ 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so 2: Fracaso del servicio 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érdida MM$ -2,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éxito: P(E) = 0,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robabilidad de fracaso: P(F) = 0,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gún experiencia de la empresa de investigación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exitosos la prueba de concepto es positiva en 80% de los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 algn="just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ara servicios fracasados el test de concepto es negativo 60% de las ve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¿Cuál es el valor máximo a pagar por el estudio (prueba de concepto)?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C8E-366F-4630-AC41-98C5BD6FE0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27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32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437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447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452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718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32878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15200" y="38210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5192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27543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9920" y="46483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905120" y="38480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C44-E7A3-42B4-ABE0-94F3935109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36648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Estimar el valor de la información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1360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Calculemos las probabilidades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P(Pos/E)*P(E) + P(Pos/F)*P(F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Pos) = 0,8*0,6 + 0,4*0,4 = 0,64 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Pos) = 0,64 ; P(Neg) = 0,36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P(E)*P(Pos/E]/P(Pos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Pos) = [0,6*0,8]/0,64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Pos) = 0,75 ; P(F/Pos) = 0,25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P(E)*P(Neg/E]/P(Neg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P(E/Neg) = [0,6*0,2]/0,36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P(E/Neg) = 0,33 ; P(F/Neg) = 0,67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08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249-AB10-4BBF-BFA2-E9A9DFC68D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Ejemplo: Árbol de decisión</a:t>
            </a: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33520" y="1600200"/>
            <a:ext cx="144756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96252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16002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14600" y="5486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3581280" y="914040"/>
            <a:ext cx="2286000" cy="1371960"/>
            <a:chOff x="3581280" y="914040"/>
            <a:chExt cx="2286000" cy="1371960"/>
          </a:xfrm>
        </p:grpSpPr>
        <p:sp>
          <p:nvSpPr>
            <p:cNvPr id="494" name=""/>
            <p:cNvSpPr/>
            <p:nvPr/>
          </p:nvSpPr>
          <p:spPr>
            <a:xfrm flipV="1">
              <a:off x="3581280" y="9140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16002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67080" y="9144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48000" y="22478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562200" y="2895120"/>
            <a:ext cx="2286000" cy="1371960"/>
            <a:chOff x="3562200" y="2895120"/>
            <a:chExt cx="2286000" cy="1371960"/>
          </a:xfrm>
        </p:grpSpPr>
        <p:sp>
          <p:nvSpPr>
            <p:cNvPr id="499" name=""/>
            <p:cNvSpPr/>
            <p:nvPr/>
          </p:nvSpPr>
          <p:spPr>
            <a:xfrm flipV="1">
              <a:off x="3562200" y="28951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62200" y="35812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48000" y="28954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8920" y="42289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562200" y="4800240"/>
            <a:ext cx="2286000" cy="1371960"/>
            <a:chOff x="3562200" y="4800240"/>
            <a:chExt cx="2286000" cy="1371960"/>
          </a:xfrm>
        </p:grpSpPr>
        <p:sp>
          <p:nvSpPr>
            <p:cNvPr id="504" name=""/>
            <p:cNvSpPr/>
            <p:nvPr/>
          </p:nvSpPr>
          <p:spPr>
            <a:xfrm flipV="1">
              <a:off x="3562200" y="48002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2200" y="54864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48000" y="48006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28920" y="6134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1981080" y="6553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14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26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1600200" y="3580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396252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829480" y="2209320"/>
            <a:ext cx="2286000" cy="1371960"/>
            <a:chOff x="5829480" y="2209320"/>
            <a:chExt cx="2286000" cy="1371960"/>
          </a:xfrm>
        </p:grpSpPr>
        <p:sp>
          <p:nvSpPr>
            <p:cNvPr id="514" name=""/>
            <p:cNvSpPr/>
            <p:nvPr/>
          </p:nvSpPr>
          <p:spPr>
            <a:xfrm flipV="1">
              <a:off x="5829480" y="220932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29480" y="289548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15280" y="22096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96200" y="354312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5848200" y="4114440"/>
            <a:ext cx="2286000" cy="1371960"/>
            <a:chOff x="5848200" y="4114440"/>
            <a:chExt cx="2286000" cy="1371960"/>
          </a:xfrm>
        </p:grpSpPr>
        <p:sp>
          <p:nvSpPr>
            <p:cNvPr id="519" name=""/>
            <p:cNvSpPr/>
            <p:nvPr/>
          </p:nvSpPr>
          <p:spPr>
            <a:xfrm flipV="1">
              <a:off x="5848200" y="411444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48200" y="4800600"/>
              <a:ext cx="6858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34000" y="411480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14920" y="54482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762120" y="3714840"/>
            <a:ext cx="914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ueba de concep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33720" y="62596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1295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92556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6386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6206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267080" y="19922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19720" y="26020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343400" y="39355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19720" y="45450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43400" y="587844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o introduz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29000" y="6259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58672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62720" y="39625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22208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0120" y="32878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411480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518148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M$ -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138276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95880" y="2754360"/>
            <a:ext cx="150048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2,3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4648320"/>
            <a:ext cx="157644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-0,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62520" y="530712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3459240"/>
            <a:ext cx="12189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5120" y="3848040"/>
            <a:ext cx="15145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E = MM$ 1,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65760" y="19162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7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86480" y="329868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25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65760" y="38419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33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78560" y="5170320"/>
            <a:ext cx="12193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7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40000" y="3279600"/>
            <a:ext cx="13683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,6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411280" y="5084640"/>
            <a:ext cx="1368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0,36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0360" y="623736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0" y="633240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99"/>
                </a:solidFill>
                <a:latin typeface="Arial"/>
              </a:rPr>
              <a:t>Valor máximo a pagar = MM$ 0,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6F3-6774-4B3A-AB22-BC69E2D8C4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4920" y="208080"/>
            <a:ext cx="89010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iseño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88960" y="1142640"/>
            <a:ext cx="712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Etapa 4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tallar el plan de trabajo para guiar la implementación del estudio hacia la realización de sus objetiv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Se debe elegir el enfoque de la investigación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Tomar decisiones tácticas de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03280" y="1231920"/>
            <a:ext cx="792000" cy="97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508-5558-4E25-85B2-4319C4651924}" type="slidenum">
              <a:t>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785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Decisiones Táctic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986440" cy="33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tapas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ipos de datos a recolecta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emporalidad de la investigació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proces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ticipar el método de análisis de dato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2057400" cy="178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85E-FF42-4849-AFC8-1456F8DE53AF}" type="slidenum">
              <a:t>27</a:t>
            </a:fld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ipos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Explorato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vestigación Conclus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vestigación Caus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BAD9-E501-4194-916E-C261A2BC3A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20448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Exploratori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Intenta desarrollar pensamientos e intuiciones iniciales para conducir posteriormente la investigación a una etapa más conclusiva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studio usualmente confinado a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ocus group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ntrevistas en profundid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bservaciones / Etnografía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os secundarios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Opinión de expert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4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tudio de cas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8A4-69A9-4CC8-AEA4-BF13A36A32C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836640"/>
            <a:ext cx="74883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Objetivo específic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i="1" lang="es-ES" sz="2000" spc="-1" strike="noStrike">
                <a:solidFill>
                  <a:srgbClr val="000099"/>
                </a:solidFill>
                <a:latin typeface="Arial"/>
              </a:rPr>
              <a:t>Se espera que los alumnos sean capace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el contexto en el cual se sitúa la Investigación de Mercados en las organiz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proceso de Investigación de Mercados y definir sus etap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os distintos métodos de investigación, cualitativos y cuantitativ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Identificar, seleccionar y aplicar las distintas técnicas de análisis de datos, según 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Comprender el comportamiento del consumi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2600" algn="just"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Arial"/>
              </a:rPr>
              <a:t>Entender la relación entre el proceso de Investigación de Mercados y  los objetivos de marketing del problema en e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Objetiv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BAF-C442-4181-AF05-2AEFECA12D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Investigación Conclusiva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523520"/>
            <a:ext cx="79930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Descriptiva</a:t>
            </a: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generar datos cuantitativos que describan la composición y características de grupos y unidades relevant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Investigación Causal/Experimental</a:t>
            </a:r>
            <a:r>
              <a:rPr b="1" lang="es-CL" sz="2400" spc="-1" strike="noStrike">
                <a:solidFill>
                  <a:srgbClr val="f08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39640"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tenta identificar relaciones causa-efecto entre las variables (ej., establecer que un evento (diseño de un nuevo envase de producto) es el principal para producir otro evento (un incremento en ventas)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A28-88C4-439A-84D0-447F81C7AA9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certidumbre Influencia la Elección del Tipo de Investig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838080" y="2286000"/>
            <a:ext cx="746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493720" y="18288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umento en la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1840" y="2666880"/>
            <a:ext cx="21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Explo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8168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escrip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09120" y="2666880"/>
            <a:ext cx="20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474160" y="441972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Comprarán más de nues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producto con el nuevo envas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48120" y="4343400"/>
            <a:ext cx="2361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Qué tipo de personas compran nuestros productos? Quienes compran los productos de la competencia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44197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“</a:t>
            </a: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Nuestras ventas están disminuyendo y no sabemos por qu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0800" y="35434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Ambigu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80000" y="3581280"/>
            <a:ext cx="29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Conciencia del Problema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5960" y="3581280"/>
            <a:ext cx="36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Univers"/>
              </a:rPr>
              <a:t>(Problema Claramente Definido</a:t>
            </a:r>
            <a:r>
              <a:rPr b="0" lang="es-CL" sz="1800" spc="-1" strike="noStrike">
                <a:solidFill>
                  <a:srgbClr val="000000"/>
                </a:solidFill>
                <a:latin typeface="Univer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1FB-82B0-4DF2-A5FA-B70FE063F4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aración de Enfoques de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71440" y="1397160"/>
          <a:ext cx="8553600" cy="4670280"/>
        </p:xfrm>
        <a:graphic>
          <a:graphicData uri="http://schemas.openxmlformats.org/drawingml/2006/table">
            <a:tbl>
              <a:tblPr/>
              <a:tblGrid>
                <a:gridCol w="1785960"/>
                <a:gridCol w="2492280"/>
                <a:gridCol w="2135160"/>
                <a:gridCol w="2140200"/>
              </a:tblGrid>
              <a:tr h="677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je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ubrimiento de ideas e intui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bir características del mer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terminar relaciones de causa y ef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racterís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xible, versá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ele ser la primera parte del diseño tot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cado por la formulación previa de las variables a estudi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iseño planeado y estructur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ipulación de una o mas variables independie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trol de las hipótesis especi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vestigación cualitativ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ato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bserv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C9B-12D1-4FEB-8E92-B9D59F4B96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tapas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l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exploratori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acilita la penetración y comprensión en el problema estudiado por parte del investigado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No existen hipótesis previ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mprenden los elementos relevantes del problema en estudio que deben ser considerados en la etapa cuantitativa de la investigación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tapa Cuantitativ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studios de carácter conclusiv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Generalmente existen hipótesis previas a estudiar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s características que describen a un obje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concluye acerca de la relación causa/efecto de ciertas variable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4ED-0077-43BE-B6F2-397869D174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Transvers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recopilación de los elementos de información de cualquier muestra de población se hace sólo una vez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individual: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a única muestra de entrevistados para la aplicación única del instrum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Arial"/>
              </a:rPr>
              <a:t>Muestra múltiple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e determina un “tipo” de muestra el que se aplica varias veces a distintas muestras que coinciden con el tip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BA18-7E22-443D-9C04-7CFB3EA5F2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emporalidad de la Investigación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987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eño Longitudina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os elementos de una población se mantienen fijos y se miden repetidamente a lo largo del tiempo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e usan preferentemente para estudiar los cambios temporales que tienen lugar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ipo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Panel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: Los entrevistados aceptan voluntariamente participar a cambio de regalía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Monitoreo: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Los elementos de la muestra no están conscientes de su seguimiento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981-72EA-4F18-AD05-476257E8ED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Recolección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Secundarios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Fueron recolectados para algún propósito distinto del problema actual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xiste una gran cantidad de fuentes secundarias de información sobre diversos mercados, desde las tradicionales bibliotecas hasta Interne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lnSpc>
                <a:spcPct val="90000"/>
              </a:lnSpc>
              <a:spcBef>
                <a:spcPts val="499"/>
              </a:spcBef>
              <a:spcAft>
                <a:spcPts val="2500"/>
              </a:spcAft>
              <a:buClr>
                <a:srgbClr val="f08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08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Datos Primario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Son recolectados especialmente para tratar un objetivo de investigación específico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1920" y="56991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Existe un orden definido </a:t>
            </a:r>
            <a:r>
              <a:rPr b="1" lang="es-CL" sz="2000" spc="-1" strike="noStrike">
                <a:solidFill>
                  <a:srgbClr val="d60000"/>
                </a:solidFill>
                <a:latin typeface="Wingdings"/>
                <a:ea typeface="Wingdings"/>
              </a:rPr>
              <a:t></a:t>
            </a:r>
            <a:r>
              <a:rPr b="1" lang="es-CL" sz="2000" spc="-1" strike="noStrike">
                <a:solidFill>
                  <a:srgbClr val="d60000"/>
                </a:solidFill>
                <a:latin typeface="Tahoma"/>
              </a:rPr>
              <a:t> datos secundarios vienen primero (más barato, más rápi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A59D-5D27-4621-9B7B-A8C822DAFC6E}" type="slidenum">
              <a:t>36</a:t>
            </a:fld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644400" y="1484280"/>
          <a:ext cx="7888320" cy="4537080"/>
        </p:xfrm>
        <a:graphic>
          <a:graphicData uri="http://schemas.openxmlformats.org/drawingml/2006/table">
            <a:tbl>
              <a:tblPr/>
              <a:tblGrid>
                <a:gridCol w="4002120"/>
                <a:gridCol w="1522440"/>
                <a:gridCol w="1416240"/>
                <a:gridCol w="94752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étodo de Recole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d11001"/>
                          </a:solidFill>
                          <a:latin typeface="Arial"/>
                        </a:rPr>
                        <a:t>Tipo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lor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u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Secund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stema de Información inte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ase de Datos de otras empre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mpresas de Servicios Agrup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800" spc="-1" strike="noStrike">
                          <a:solidFill>
                            <a:srgbClr val="ff9e0f"/>
                          </a:solidFill>
                          <a:latin typeface="Arial"/>
                        </a:rPr>
                        <a:t>Fuentes Prim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odología Cualita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uestion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rim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1" name=""/>
          <p:cNvSpPr/>
          <p:nvPr/>
        </p:nvSpPr>
        <p:spPr>
          <a:xfrm>
            <a:off x="35654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179640" y="348840"/>
            <a:ext cx="928836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Relación entre el Tipo de Investigación y el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Método de Recolección de Datos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2240" y="6172200"/>
            <a:ext cx="47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: Método muy apropiado; b: Método apropi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6172200"/>
            <a:ext cx="2057400" cy="533520"/>
          </a:xfrm>
          <a:prstGeom prst="wedgeRectCallout">
            <a:avLst>
              <a:gd name="adj1" fmla="val 47606"/>
              <a:gd name="adj2" fmla="val -563097"/>
            </a:avLst>
          </a:prstGeom>
          <a:solidFill>
            <a:srgbClr val="0099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ff"/>
                </a:solidFill>
                <a:latin typeface="Tahoma"/>
              </a:rPr>
              <a:t>Data M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31A-51C8-4190-B133-1DBE8B9BA39B}" type="slidenum">
              <a:t>37</a:t>
            </a:fld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13284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480" indent="0" algn="ctr">
              <a:lnSpc>
                <a:spcPct val="7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Fuentes Secundarias de Informació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4080" y="1490760"/>
            <a:ext cx="2564280" cy="4026960"/>
            <a:chOff x="784080" y="1490760"/>
            <a:chExt cx="2564280" cy="4026960"/>
          </a:xfrm>
        </p:grpSpPr>
        <p:sp>
          <p:nvSpPr>
            <p:cNvPr id="597" name=""/>
            <p:cNvSpPr/>
            <p:nvPr/>
          </p:nvSpPr>
          <p:spPr>
            <a:xfrm>
              <a:off x="1383480" y="14907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Gobier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4080" y="3002040"/>
              <a:ext cx="25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Asociaciones Priv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77840" y="4875120"/>
              <a:ext cx="18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9e0f"/>
                  </a:solidFill>
                  <a:latin typeface="Tahoma"/>
                </a:rPr>
                <a:t>Internacion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851280" y="954000"/>
            <a:ext cx="4816440" cy="1501920"/>
            <a:chOff x="3851280" y="954000"/>
            <a:chExt cx="4816440" cy="1501920"/>
          </a:xfrm>
        </p:grpSpPr>
        <p:sp>
          <p:nvSpPr>
            <p:cNvPr id="601" name=""/>
            <p:cNvSpPr/>
            <p:nvPr/>
          </p:nvSpPr>
          <p:spPr>
            <a:xfrm>
              <a:off x="4079880" y="954000"/>
              <a:ext cx="4587840" cy="150192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Instituto Nacional de Estadísticas (I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Cent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uperintendenc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Ministerios y otros servicios públi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51280" y="1197000"/>
              <a:ext cx="144360" cy="1008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851280" y="2523960"/>
            <a:ext cx="4824360" cy="1727280"/>
            <a:chOff x="3851280" y="2523960"/>
            <a:chExt cx="4824360" cy="1727280"/>
          </a:xfrm>
        </p:grpSpPr>
        <p:sp>
          <p:nvSpPr>
            <p:cNvPr id="604" name=""/>
            <p:cNvSpPr/>
            <p:nvPr/>
          </p:nvSpPr>
          <p:spPr>
            <a:xfrm>
              <a:off x="4087800" y="252396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Sociedad de Fomento Fabril (SOFOF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la Producción y el Comercio (CP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Chilena de la Constru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ámara de Comercio de Santiago (CC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Asociación de Ban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1280" y="2637000"/>
              <a:ext cx="144360" cy="1439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851280" y="4365720"/>
            <a:ext cx="4811760" cy="1727280"/>
            <a:chOff x="3851280" y="4365720"/>
            <a:chExt cx="4811760" cy="1727280"/>
          </a:xfrm>
        </p:grpSpPr>
        <p:sp>
          <p:nvSpPr>
            <p:cNvPr id="607" name=""/>
            <p:cNvSpPr/>
            <p:nvPr/>
          </p:nvSpPr>
          <p:spPr>
            <a:xfrm>
              <a:off x="4075200" y="4365720"/>
              <a:ext cx="4587840" cy="1727280"/>
            </a:xfrm>
            <a:prstGeom prst="bevel">
              <a:avLst>
                <a:gd name="adj" fmla="val 30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Fondo Monetario Internacional (FMI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CEP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ON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Unice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Tahoma"/>
                </a:rPr>
                <a:t>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51280" y="4510080"/>
              <a:ext cx="144360" cy="1440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23D-1772-4B83-A3A9-93B81F00330E}" type="slidenum">
              <a:t>38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2160" y="176040"/>
            <a:ext cx="92962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d11001"/>
                </a:solidFill>
                <a:latin typeface="Arial"/>
              </a:rPr>
              <a:t>Fuentes de Información y Principales Metodolog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42920" y="2976480"/>
            <a:ext cx="1822680" cy="1008000"/>
          </a:xfrm>
          <a:prstGeom prst="bevel">
            <a:avLst>
              <a:gd name="adj" fmla="val 6486"/>
            </a:avLst>
          </a:prstGeom>
          <a:solidFill>
            <a:srgbClr val="d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ecesidad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076000" y="2505240"/>
            <a:ext cx="3850560" cy="1500120"/>
            <a:chOff x="5076000" y="2505240"/>
            <a:chExt cx="3850560" cy="1500120"/>
          </a:xfrm>
        </p:grpSpPr>
        <p:sp>
          <p:nvSpPr>
            <p:cNvPr id="612" name=""/>
            <p:cNvSpPr/>
            <p:nvPr/>
          </p:nvSpPr>
          <p:spPr>
            <a:xfrm>
              <a:off x="5764320" y="2505240"/>
              <a:ext cx="3162240" cy="3171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Gobier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64320" y="28987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sociaciones comer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64320" y="329256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Diarios, libros y publ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64320" y="3687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portes de 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076000" y="2664000"/>
              <a:ext cx="708480" cy="1182240"/>
              <a:chOff x="5076000" y="2664000"/>
              <a:chExt cx="708480" cy="1182240"/>
            </a:xfrm>
          </p:grpSpPr>
          <p:cxnSp>
            <p:nvCxnSpPr>
              <p:cNvPr id="617" name=""/>
              <p:cNvCxnSpPr>
                <a:stCxn id="612" idx="0"/>
                <a:endCxn id="618" idx="0"/>
              </p:cNvCxnSpPr>
              <p:nvPr/>
            </p:nvCxnSpPr>
            <p:spPr>
              <a:xfrm flipV="1" rot="10800000">
                <a:off x="5076000" y="2664000"/>
                <a:ext cx="708840" cy="6606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19" name=""/>
              <p:cNvCxnSpPr>
                <a:stCxn id="613" idx="0"/>
                <a:endCxn id="618" idx="1"/>
              </p:cNvCxnSpPr>
              <p:nvPr/>
            </p:nvCxnSpPr>
            <p:spPr>
              <a:xfrm flipV="1" rot="10800000">
                <a:off x="5076000" y="3056040"/>
                <a:ext cx="708840" cy="26712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0" name=""/>
              <p:cNvCxnSpPr>
                <a:stCxn id="614" idx="0"/>
                <a:endCxn id="618" idx="2"/>
              </p:cNvCxnSpPr>
              <p:nvPr/>
            </p:nvCxnSpPr>
            <p:spPr>
              <a:xfrm rot="10800000">
                <a:off x="5076000" y="3323520"/>
                <a:ext cx="708840" cy="12780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621" name=""/>
              <p:cNvCxnSpPr>
                <a:stCxn id="615" idx="0"/>
                <a:endCxn id="618" idx="3"/>
              </p:cNvCxnSpPr>
              <p:nvPr/>
            </p:nvCxnSpPr>
            <p:spPr>
              <a:xfrm rot="10800000">
                <a:off x="5076000" y="3323520"/>
                <a:ext cx="708840" cy="523080"/>
              </a:xfrm>
              <a:prstGeom prst="bentConnector3">
                <a:avLst>
                  <a:gd name="adj1" fmla="val 51321"/>
                </a:avLst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</p:cxnSp>
        </p:grpSp>
      </p:grpSp>
      <p:grpSp>
        <p:nvGrpSpPr>
          <p:cNvPr id="622" name=""/>
          <p:cNvGrpSpPr/>
          <p:nvPr/>
        </p:nvGrpSpPr>
        <p:grpSpPr>
          <a:xfrm>
            <a:off x="5076000" y="5607000"/>
            <a:ext cx="3850560" cy="701640"/>
            <a:chOff x="5076000" y="5607000"/>
            <a:chExt cx="3850560" cy="701640"/>
          </a:xfrm>
        </p:grpSpPr>
        <p:sp>
          <p:nvSpPr>
            <p:cNvPr id="623" name=""/>
            <p:cNvSpPr/>
            <p:nvPr/>
          </p:nvSpPr>
          <p:spPr>
            <a:xfrm>
              <a:off x="5764320" y="560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l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4320" y="599112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uantita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5" name=""/>
            <p:cNvCxnSpPr>
              <a:stCxn id="623" idx="0"/>
              <a:endCxn id="626" idx="0"/>
            </p:cNvCxnSpPr>
            <p:nvPr/>
          </p:nvCxnSpPr>
          <p:spPr>
            <a:xfrm flipV="1" rot="10800000">
              <a:off x="5076000" y="5765400"/>
              <a:ext cx="708840" cy="132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27" name=""/>
            <p:cNvCxnSpPr>
              <a:stCxn id="624" idx="0"/>
              <a:endCxn id="626" idx="1"/>
            </p:cNvCxnSpPr>
            <p:nvPr/>
          </p:nvCxnSpPr>
          <p:spPr>
            <a:xfrm rot="10800000">
              <a:off x="5076000" y="5896800"/>
              <a:ext cx="708840" cy="2530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28" name=""/>
          <p:cNvGrpSpPr/>
          <p:nvPr/>
        </p:nvGrpSpPr>
        <p:grpSpPr>
          <a:xfrm>
            <a:off x="2909160" y="1491480"/>
            <a:ext cx="2167560" cy="2213640"/>
            <a:chOff x="2909160" y="1491480"/>
            <a:chExt cx="2167560" cy="2213640"/>
          </a:xfrm>
        </p:grpSpPr>
        <p:sp>
          <p:nvSpPr>
            <p:cNvPr id="618" name=""/>
            <p:cNvSpPr/>
            <p:nvPr/>
          </p:nvSpPr>
          <p:spPr>
            <a:xfrm>
              <a:off x="3479760" y="2943360"/>
              <a:ext cx="1596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9" name=""/>
            <p:cNvCxnSpPr>
              <a:stCxn id="618" idx="4"/>
              <a:endCxn id="630" idx="0"/>
            </p:cNvCxnSpPr>
            <p:nvPr/>
          </p:nvCxnSpPr>
          <p:spPr>
            <a:xfrm rot="10800000">
              <a:off x="2909160" y="1491480"/>
              <a:ext cx="570600" cy="183276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1" name=""/>
          <p:cNvGrpSpPr/>
          <p:nvPr/>
        </p:nvGrpSpPr>
        <p:grpSpPr>
          <a:xfrm>
            <a:off x="2866680" y="5382360"/>
            <a:ext cx="2210040" cy="896040"/>
            <a:chOff x="2866680" y="5382360"/>
            <a:chExt cx="2210040" cy="896040"/>
          </a:xfrm>
        </p:grpSpPr>
        <p:sp>
          <p:nvSpPr>
            <p:cNvPr id="626" name=""/>
            <p:cNvSpPr/>
            <p:nvPr/>
          </p:nvSpPr>
          <p:spPr>
            <a:xfrm>
              <a:off x="3533760" y="5516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Ad h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2" name=""/>
            <p:cNvCxnSpPr>
              <a:stCxn id="626" idx="2"/>
              <a:endCxn id="633" idx="1"/>
            </p:cNvCxnSpPr>
            <p:nvPr/>
          </p:nvCxnSpPr>
          <p:spPr>
            <a:xfrm rot="10800000">
              <a:off x="2866320" y="5382360"/>
              <a:ext cx="667440" cy="515160"/>
            </a:xfrm>
            <a:prstGeom prst="bentConnector3">
              <a:avLst>
                <a:gd name="adj1" fmla="val 4614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34" name=""/>
          <p:cNvGrpSpPr/>
          <p:nvPr/>
        </p:nvGrpSpPr>
        <p:grpSpPr>
          <a:xfrm>
            <a:off x="5027400" y="1158840"/>
            <a:ext cx="3899160" cy="708120"/>
            <a:chOff x="5027400" y="1158840"/>
            <a:chExt cx="3899160" cy="708120"/>
          </a:xfrm>
        </p:grpSpPr>
        <p:sp>
          <p:nvSpPr>
            <p:cNvPr id="635" name=""/>
            <p:cNvSpPr/>
            <p:nvPr/>
          </p:nvSpPr>
          <p:spPr>
            <a:xfrm>
              <a:off x="5764320" y="11588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Actividades de Marke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4320" y="15494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5" idx="0"/>
              <a:endCxn id="638" idx="1"/>
            </p:cNvCxnSpPr>
            <p:nvPr/>
          </p:nvCxnSpPr>
          <p:spPr>
            <a:xfrm flipV="1" rot="10800000">
              <a:off x="5027040" y="1316520"/>
              <a:ext cx="737280" cy="175320"/>
            </a:xfrm>
            <a:prstGeom prst="bentConnector3">
              <a:avLst>
                <a:gd name="adj1" fmla="val 465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39" name=""/>
            <p:cNvCxnSpPr>
              <a:stCxn id="636" idx="0"/>
              <a:endCxn id="638" idx="2"/>
            </p:cNvCxnSpPr>
            <p:nvPr/>
          </p:nvCxnSpPr>
          <p:spPr>
            <a:xfrm rot="10800000">
              <a:off x="5076720" y="1491480"/>
              <a:ext cx="687960" cy="216720"/>
            </a:xfrm>
            <a:prstGeom prst="bentConnector3">
              <a:avLst>
                <a:gd name="adj1" fmla="val 4989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0" name=""/>
          <p:cNvGrpSpPr/>
          <p:nvPr/>
        </p:nvGrpSpPr>
        <p:grpSpPr>
          <a:xfrm>
            <a:off x="1373040" y="3983760"/>
            <a:ext cx="1543320" cy="1780560"/>
            <a:chOff x="1373040" y="3983760"/>
            <a:chExt cx="1543320" cy="1780560"/>
          </a:xfrm>
        </p:grpSpPr>
        <p:sp>
          <p:nvSpPr>
            <p:cNvPr id="633" name=""/>
            <p:cNvSpPr/>
            <p:nvPr/>
          </p:nvSpPr>
          <p:spPr>
            <a:xfrm>
              <a:off x="1373040" y="5002200"/>
              <a:ext cx="1543320" cy="76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Prim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33" idx="2"/>
              <a:endCxn id="610" idx="0"/>
            </p:cNvCxnSpPr>
            <p:nvPr/>
          </p:nvCxnSpPr>
          <p:spPr>
            <a:xfrm flipV="1" rot="16200000">
              <a:off x="1540080" y="4397040"/>
              <a:ext cx="1018440" cy="191520"/>
            </a:xfrm>
            <a:prstGeom prst="bentConnector3">
              <a:avLst>
                <a:gd name="adj1" fmla="val 4989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42" name=""/>
          <p:cNvGrpSpPr/>
          <p:nvPr/>
        </p:nvGrpSpPr>
        <p:grpSpPr>
          <a:xfrm>
            <a:off x="-77760" y="907920"/>
            <a:ext cx="1480680" cy="5321160"/>
            <a:chOff x="-77760" y="907920"/>
            <a:chExt cx="1480680" cy="5321160"/>
          </a:xfrm>
        </p:grpSpPr>
        <p:sp>
          <p:nvSpPr>
            <p:cNvPr id="643" name=""/>
            <p:cNvSpPr/>
            <p:nvPr/>
          </p:nvSpPr>
          <p:spPr>
            <a:xfrm>
              <a:off x="749880" y="907920"/>
              <a:ext cx="0" cy="4472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-77760" y="5495760"/>
              <a:ext cx="148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Cost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espec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d11001"/>
                  </a:solidFill>
                  <a:latin typeface="Tahoma"/>
                </a:rPr>
                <a:t>de la inf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1274760" y="4089240"/>
            <a:ext cx="7697880" cy="2292480"/>
            <a:chOff x="1274760" y="4089240"/>
            <a:chExt cx="7697880" cy="2292480"/>
          </a:xfrm>
        </p:grpSpPr>
        <p:sp>
          <p:nvSpPr>
            <p:cNvPr id="646" name=""/>
            <p:cNvSpPr/>
            <p:nvPr/>
          </p:nvSpPr>
          <p:spPr>
            <a:xfrm>
              <a:off x="1274760" y="4365720"/>
              <a:ext cx="7697880" cy="201600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94280" y="4089240"/>
              <a:ext cx="362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99"/>
                  </a:solidFill>
                  <a:latin typeface="Tahoma"/>
                </a:rPr>
                <a:t>Industria de la Investigación de Merc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909520" y="1111320"/>
            <a:ext cx="2167200" cy="761760"/>
            <a:chOff x="2909520" y="1111320"/>
            <a:chExt cx="2167200" cy="761760"/>
          </a:xfrm>
        </p:grpSpPr>
        <p:sp>
          <p:nvSpPr>
            <p:cNvPr id="638" name=""/>
            <p:cNvSpPr/>
            <p:nvPr/>
          </p:nvSpPr>
          <p:spPr>
            <a:xfrm>
              <a:off x="3419640" y="1111320"/>
              <a:ext cx="165708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"/>
            <p:cNvCxnSpPr>
              <a:stCxn id="638" idx="4"/>
              <a:endCxn id="630" idx="1"/>
            </p:cNvCxnSpPr>
            <p:nvPr/>
          </p:nvCxnSpPr>
          <p:spPr>
            <a:xfrm flipH="1">
              <a:off x="2909520" y="1491840"/>
              <a:ext cx="510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0" name=""/>
          <p:cNvGrpSpPr/>
          <p:nvPr/>
        </p:nvGrpSpPr>
        <p:grpSpPr>
          <a:xfrm>
            <a:off x="4247640" y="768240"/>
            <a:ext cx="4678920" cy="343440"/>
            <a:chOff x="4247640" y="768240"/>
            <a:chExt cx="4678920" cy="343440"/>
          </a:xfrm>
        </p:grpSpPr>
        <p:sp>
          <p:nvSpPr>
            <p:cNvPr id="651" name=""/>
            <p:cNvSpPr/>
            <p:nvPr/>
          </p:nvSpPr>
          <p:spPr>
            <a:xfrm>
              <a:off x="5764320" y="7682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Vent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2" name=""/>
            <p:cNvCxnSpPr>
              <a:stCxn id="651" idx="0"/>
              <a:endCxn id="638" idx="0"/>
            </p:cNvCxnSpPr>
            <p:nvPr/>
          </p:nvCxnSpPr>
          <p:spPr>
            <a:xfrm flipV="1" rot="10800000">
              <a:off x="4247280" y="926640"/>
              <a:ext cx="151704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3" name=""/>
          <p:cNvGrpSpPr/>
          <p:nvPr/>
        </p:nvGrpSpPr>
        <p:grpSpPr>
          <a:xfrm>
            <a:off x="4247280" y="1823400"/>
            <a:ext cx="4679280" cy="434160"/>
            <a:chOff x="4247280" y="1823400"/>
            <a:chExt cx="4679280" cy="434160"/>
          </a:xfrm>
        </p:grpSpPr>
        <p:sp>
          <p:nvSpPr>
            <p:cNvPr id="654" name=""/>
            <p:cNvSpPr/>
            <p:nvPr/>
          </p:nvSpPr>
          <p:spPr>
            <a:xfrm>
              <a:off x="5764320" y="1940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Servicio de Información al 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5" name=""/>
            <p:cNvCxnSpPr>
              <a:stCxn id="654" idx="0"/>
              <a:endCxn id="638" idx="3"/>
            </p:cNvCxnSpPr>
            <p:nvPr/>
          </p:nvCxnSpPr>
          <p:spPr>
            <a:xfrm rot="10800000">
              <a:off x="4247280" y="1823400"/>
              <a:ext cx="1537560" cy="275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6" name=""/>
          <p:cNvGrpSpPr/>
          <p:nvPr/>
        </p:nvGrpSpPr>
        <p:grpSpPr>
          <a:xfrm>
            <a:off x="1366920" y="1111320"/>
            <a:ext cx="1542960" cy="1864800"/>
            <a:chOff x="1366920" y="1111320"/>
            <a:chExt cx="1542960" cy="1864800"/>
          </a:xfrm>
        </p:grpSpPr>
        <p:sp>
          <p:nvSpPr>
            <p:cNvPr id="630" name=""/>
            <p:cNvSpPr/>
            <p:nvPr/>
          </p:nvSpPr>
          <p:spPr>
            <a:xfrm>
              <a:off x="1366920" y="111132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Fu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</a:rPr>
                <a:t>Secundari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"/>
            <p:cNvCxnSpPr>
              <a:stCxn id="630" idx="2"/>
              <a:endCxn id="610" idx="1"/>
            </p:cNvCxnSpPr>
            <p:nvPr/>
          </p:nvCxnSpPr>
          <p:spPr>
            <a:xfrm rot="5400000">
              <a:off x="1469520" y="2307600"/>
              <a:ext cx="1152720" cy="185040"/>
            </a:xfrm>
            <a:prstGeom prst="bentConnector3">
              <a:avLst>
                <a:gd name="adj1" fmla="val 52077"/>
              </a:avLst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58" name=""/>
          <p:cNvGrpSpPr/>
          <p:nvPr/>
        </p:nvGrpSpPr>
        <p:grpSpPr>
          <a:xfrm>
            <a:off x="5076000" y="4437000"/>
            <a:ext cx="3850560" cy="1038240"/>
            <a:chOff x="5076000" y="4437000"/>
            <a:chExt cx="3850560" cy="1038240"/>
          </a:xfrm>
        </p:grpSpPr>
        <p:sp>
          <p:nvSpPr>
            <p:cNvPr id="659" name=""/>
            <p:cNvSpPr/>
            <p:nvPr/>
          </p:nvSpPr>
          <p:spPr>
            <a:xfrm>
              <a:off x="5764320" y="443700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Auditoría de tiend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764320" y="4802040"/>
              <a:ext cx="316224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Paneles/ Estudios medición contin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1" name=""/>
            <p:cNvCxnSpPr>
              <a:stCxn id="659" idx="0"/>
              <a:endCxn id="662" idx="0"/>
            </p:cNvCxnSpPr>
            <p:nvPr/>
          </p:nvCxnSpPr>
          <p:spPr>
            <a:xfrm flipV="1" rot="10800000">
              <a:off x="5076000" y="4595400"/>
              <a:ext cx="708840" cy="29448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63" name=""/>
            <p:cNvCxnSpPr>
              <a:stCxn id="660" idx="0"/>
              <a:endCxn id="662" idx="1"/>
            </p:cNvCxnSpPr>
            <p:nvPr/>
          </p:nvCxnSpPr>
          <p:spPr>
            <a:xfrm rot="10800000">
              <a:off x="5076000" y="4888800"/>
              <a:ext cx="708840" cy="72000"/>
            </a:xfrm>
            <a:prstGeom prst="bentConnector3">
              <a:avLst>
                <a:gd name="adj1" fmla="val 51321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4" name=""/>
            <p:cNvSpPr/>
            <p:nvPr/>
          </p:nvSpPr>
          <p:spPr>
            <a:xfrm>
              <a:off x="5759280" y="5157720"/>
              <a:ext cx="3162600" cy="3175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a0c0c3"/>
                </a:gs>
                <a:gs pos="100000">
                  <a:srgbClr val="bbe0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ahoma"/>
                </a:rPr>
                <a:t>Mediciones de circulación/ lector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"/>
            <p:cNvCxnSpPr>
              <a:stCxn id="664" idx="0"/>
              <a:endCxn id="662" idx="3"/>
            </p:cNvCxnSpPr>
            <p:nvPr/>
          </p:nvCxnSpPr>
          <p:spPr>
            <a:xfrm rot="10800000">
              <a:off x="5076720" y="4888800"/>
              <a:ext cx="682920" cy="427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666" name=""/>
          <p:cNvGrpSpPr/>
          <p:nvPr/>
        </p:nvGrpSpPr>
        <p:grpSpPr>
          <a:xfrm>
            <a:off x="2866320" y="4508640"/>
            <a:ext cx="2210400" cy="873720"/>
            <a:chOff x="2866320" y="4508640"/>
            <a:chExt cx="2210400" cy="873720"/>
          </a:xfrm>
        </p:grpSpPr>
        <p:cxnSp>
          <p:nvCxnSpPr>
            <p:cNvPr id="667" name=""/>
            <p:cNvCxnSpPr>
              <a:stCxn id="662" idx="2"/>
              <a:endCxn id="633" idx="0"/>
            </p:cNvCxnSpPr>
            <p:nvPr/>
          </p:nvCxnSpPr>
          <p:spPr>
            <a:xfrm flipV="1" rot="10800000">
              <a:off x="2866320" y="4888440"/>
              <a:ext cx="716760" cy="49428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2" name=""/>
            <p:cNvSpPr/>
            <p:nvPr/>
          </p:nvSpPr>
          <p:spPr>
            <a:xfrm>
              <a:off x="3533760" y="4508640"/>
              <a:ext cx="1542960" cy="76176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c1770b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Estud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ahoma"/>
                </a:rPr>
                <a:t>Sindic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273-55F2-4697-83FF-75D361F79A14}" type="slidenum">
              <a:t>39</a:t>
            </a:fld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0000" y="936720"/>
            <a:ext cx="7488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de Cát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lases Auxili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  <a:ea typeface="Arial"/>
              </a:rPr>
              <a:t>Contro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5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  <a:ea typeface="Arial"/>
              </a:rPr>
              <a:t>2 Controles +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Examen (5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Trabajo Grup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2 Informes + 2 Presentaciones (30% Nota Final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T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6 CTP (20% del Cur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Char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Actividade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256-F6D6-4AC0-82FB-E72E3CE49EC9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60" y="277920"/>
            <a:ext cx="8605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Industria de Investigación de Mercado en Chile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1425600"/>
            <a:ext cx="803916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Arial"/>
              </a:rPr>
              <a:t>Algunas empresas de Investigación de Merc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C Niel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Adim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C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AD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OR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Time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IPSOS Search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tin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Kronos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BDO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CIMA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Vox Pop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Feed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Lado Hum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Brain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792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Data V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82C-F1D3-498D-8D8A-1504164474C3}" type="slidenum">
              <a:t>40</a:t>
            </a:fld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6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6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6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6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Proceso de Muestre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definir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Población objetiv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Método de Muestreo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451"/>
              </a:spcBef>
              <a:spcAft>
                <a:spcPts val="225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Tamaño de muestra </a:t>
            </a:r>
            <a:r>
              <a:rPr b="0" lang="es-CL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 Error muestra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7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5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631960" y="2940120"/>
            <a:ext cx="5662440" cy="2459160"/>
            <a:chOff x="2631960" y="2940120"/>
            <a:chExt cx="5662440" cy="2459160"/>
          </a:xfrm>
        </p:grpSpPr>
        <p:sp>
          <p:nvSpPr>
            <p:cNvPr id="673" name=""/>
            <p:cNvSpPr/>
            <p:nvPr/>
          </p:nvSpPr>
          <p:spPr>
            <a:xfrm>
              <a:off x="5216400" y="2940120"/>
              <a:ext cx="1091520" cy="377640"/>
            </a:xfrm>
            <a:prstGeom prst="bevel">
              <a:avLst>
                <a:gd name="adj" fmla="val 6486"/>
              </a:avLst>
            </a:prstGeom>
            <a:solidFill>
              <a:srgbClr val="d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étodo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Muestr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82120" y="3599280"/>
              <a:ext cx="10026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744000" y="4283280"/>
              <a:ext cx="888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Aleato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Simp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31960" y="4279680"/>
              <a:ext cx="10501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Estratific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86480" y="4281840"/>
              <a:ext cx="12866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 Conglomera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53920" y="4291560"/>
              <a:ext cx="109620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onveni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437960" y="4296960"/>
              <a:ext cx="85644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riter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956640" y="4907160"/>
              <a:ext cx="862920" cy="4921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f4970e"/>
                </a:gs>
                <a:gs pos="100000">
                  <a:srgbClr val="ff9e0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P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ahoma"/>
                </a:rPr>
                <a:t>cuo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85040" y="3599280"/>
              <a:ext cx="1004400" cy="376920"/>
            </a:xfrm>
            <a:prstGeom prst="bevel">
              <a:avLst>
                <a:gd name="adj" fmla="val 6486"/>
              </a:avLst>
            </a:prstGeom>
            <a:gradFill rotWithShape="0">
              <a:gsLst>
                <a:gs pos="0">
                  <a:srgbClr val="935700"/>
                </a:gs>
                <a:gs pos="100000">
                  <a:srgbClr val="c27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Tahoma"/>
                </a:rPr>
                <a:t>Probabilíst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2" name=""/>
            <p:cNvCxnSpPr>
              <a:stCxn id="673" idx="0"/>
              <a:endCxn id="681" idx="0"/>
            </p:cNvCxnSpPr>
            <p:nvPr/>
          </p:nvCxnSpPr>
          <p:spPr>
            <a:xfrm rot="5400000">
              <a:off x="4883400" y="2721600"/>
              <a:ext cx="282240" cy="14745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3" name=""/>
            <p:cNvCxnSpPr>
              <a:stCxn id="673" idx="1"/>
              <a:endCxn id="674" idx="0"/>
            </p:cNvCxnSpPr>
            <p:nvPr/>
          </p:nvCxnSpPr>
          <p:spPr>
            <a:xfrm flipH="1" rot="16200000">
              <a:off x="6432120" y="2647440"/>
              <a:ext cx="282240" cy="1622160"/>
            </a:xfrm>
            <a:prstGeom prst="bentConnector3">
              <a:avLst>
                <a:gd name="adj1" fmla="val 4980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74" idx="1"/>
              <a:endCxn id="680" idx="0"/>
            </p:cNvCxnSpPr>
            <p:nvPr/>
          </p:nvCxnSpPr>
          <p:spPr>
            <a:xfrm flipV="1" rot="10800000">
              <a:off x="7383240" y="3976200"/>
              <a:ext cx="1080" cy="1031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5" name=""/>
            <p:cNvCxnSpPr>
              <a:stCxn id="674" idx="2"/>
              <a:endCxn id="679" idx="0"/>
            </p:cNvCxnSpPr>
            <p:nvPr/>
          </p:nvCxnSpPr>
          <p:spPr>
            <a:xfrm flipH="1" rot="16200000">
              <a:off x="7412040" y="3947760"/>
              <a:ext cx="421560" cy="478080"/>
            </a:xfrm>
            <a:prstGeom prst="bentConnector3">
              <a:avLst>
                <a:gd name="adj1" fmla="val 49829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6" name=""/>
            <p:cNvCxnSpPr>
              <a:stCxn id="674" idx="3"/>
              <a:endCxn id="678" idx="0"/>
            </p:cNvCxnSpPr>
            <p:nvPr/>
          </p:nvCxnSpPr>
          <p:spPr>
            <a:xfrm rot="5400000">
              <a:off x="6868800" y="3883320"/>
              <a:ext cx="447120" cy="583200"/>
            </a:xfrm>
            <a:prstGeom prst="bentConnector3">
              <a:avLst>
                <a:gd name="adj1" fmla="val 52457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7" name=""/>
            <p:cNvCxnSpPr>
              <a:stCxn id="681" idx="1"/>
              <a:endCxn id="676" idx="0"/>
            </p:cNvCxnSpPr>
            <p:nvPr/>
          </p:nvCxnSpPr>
          <p:spPr>
            <a:xfrm rot="5400000">
              <a:off x="3515760" y="3613320"/>
              <a:ext cx="408960" cy="1135080"/>
            </a:xfrm>
            <a:prstGeom prst="bentConnector3">
              <a:avLst>
                <a:gd name="adj1" fmla="val 49691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8" name=""/>
            <p:cNvCxnSpPr>
              <a:stCxn id="681" idx="2"/>
              <a:endCxn id="677" idx="0"/>
            </p:cNvCxnSpPr>
            <p:nvPr/>
          </p:nvCxnSpPr>
          <p:spPr>
            <a:xfrm flipH="1" rot="16200000">
              <a:off x="4573800" y="3690360"/>
              <a:ext cx="466560" cy="1038240"/>
            </a:xfrm>
            <a:prstGeom prst="bentConnector3">
              <a:avLst>
                <a:gd name="adj1" fmla="val 49884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689" name=""/>
            <p:cNvCxnSpPr>
              <a:stCxn id="681" idx="3"/>
              <a:endCxn id="675" idx="0"/>
            </p:cNvCxnSpPr>
            <p:nvPr/>
          </p:nvCxnSpPr>
          <p:spPr>
            <a:xfrm rot="5400000">
              <a:off x="4030560" y="4129920"/>
              <a:ext cx="410400" cy="103320"/>
            </a:xfrm>
            <a:prstGeom prst="bentConnector3">
              <a:avLst>
                <a:gd name="adj1" fmla="val 49692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</p:grpSp>
      <p:pic>
        <p:nvPicPr>
          <p:cNvPr id="690" name="" descr=""/>
          <p:cNvPicPr/>
          <p:nvPr/>
        </p:nvPicPr>
        <p:blipFill>
          <a:blip r:embed="rId1"/>
          <a:srcRect l="0" t="0" r="0" b="30001"/>
          <a:stretch/>
        </p:blipFill>
        <p:spPr>
          <a:xfrm>
            <a:off x="7093080" y="836640"/>
            <a:ext cx="1280880" cy="9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19D-E878-42EC-8CF9-CBBE035C9178}" type="slidenum">
              <a:t>41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10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13564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Es recomendable escoger anticipadamente el método de análisis de datos de manera de diseñar la investigación de manera coherente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79280" indent="-179280" algn="just">
              <a:spcBef>
                <a:spcPts val="400"/>
              </a:spcBef>
              <a:spcAft>
                <a:spcPts val="2001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99"/>
                </a:solidFill>
                <a:latin typeface="Arial"/>
              </a:rPr>
              <a:t>Se debe tener en cuenta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Objetivos de la investigació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Características de los datos a recolecta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Recursos con que cuenta el investigador (tiempo, software, etc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Técnicas usadas en estudios similar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1D4-E5AD-47AB-BA87-4A90379BF39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4560" y="248760"/>
            <a:ext cx="8785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Métodos de Análisis de Datos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 algn="just">
              <a:lnSpc>
                <a:spcPct val="90000"/>
              </a:lnSpc>
              <a:spcBef>
                <a:spcPts val="349"/>
              </a:spcBef>
              <a:spcAft>
                <a:spcPts val="1749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99"/>
                </a:solidFill>
                <a:latin typeface="Arial"/>
              </a:rPr>
              <a:t>Algunas técnicas de análisis de datos usualmente ocupadas :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tadísticos descriptivos (frecuencias, porcentajes)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K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Factor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e Correspondenci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Escalamiento Multidimensional (MD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Fuzzy C-Mea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Discrimina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Análisis Conjunto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Árboles de Decisió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Regresión Lineal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Arial"/>
              </a:rPr>
              <a:t>Clase Latent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lvl="1" marL="449280" indent="0" algn="just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1A1-0BAA-4B9C-9DE7-ADF15CE18BC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591160" y="23684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cluy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25640" y="234000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lo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765600" y="337824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472520" y="335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60560" y="4367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27520" y="441180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ngitud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765600" y="128916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eño de Investig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4600" y="5388120"/>
            <a:ext cx="148896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5389560"/>
            <a:ext cx="1489320" cy="549000"/>
          </a:xfrm>
          <a:prstGeom prst="rect">
            <a:avLst/>
          </a:prstGeom>
          <a:solidFill>
            <a:srgbClr val="cc33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estr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0" idx="2"/>
            <a:endCxn id="703" idx="0"/>
          </p:cNvCxnSpPr>
          <p:nvPr/>
        </p:nvCxnSpPr>
        <p:spPr>
          <a:xfrm rot="5400000">
            <a:off x="1613520" y="4259160"/>
            <a:ext cx="396000" cy="1786680"/>
          </a:xfrm>
          <a:prstGeom prst="bentConnector3">
            <a:avLst>
              <a:gd name="adj1" fmla="val 389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700" idx="2"/>
            <a:endCxn id="704" idx="0"/>
          </p:cNvCxnSpPr>
          <p:nvPr/>
        </p:nvCxnSpPr>
        <p:spPr>
          <a:xfrm flipH="1" rot="16200000">
            <a:off x="3430440" y="4228200"/>
            <a:ext cx="397440" cy="1850040"/>
          </a:xfrm>
          <a:prstGeom prst="bentConnector3">
            <a:avLst>
              <a:gd name="adj1" fmla="val 38712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98" idx="2"/>
            <a:endCxn id="700" idx="0"/>
          </p:cNvCxnSpPr>
          <p:nvPr/>
        </p:nvCxnSpPr>
        <p:spPr>
          <a:xfrm rot="5400000">
            <a:off x="3425040" y="3244680"/>
            <a:ext cx="364320" cy="1805760"/>
          </a:xfrm>
          <a:prstGeom prst="bentConnector3">
            <a:avLst>
              <a:gd name="adj1" fmla="val 3402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98" idx="2"/>
            <a:endCxn id="701" idx="0"/>
          </p:cNvCxnSpPr>
          <p:nvPr/>
        </p:nvCxnSpPr>
        <p:spPr>
          <a:xfrm flipH="1" rot="16200000">
            <a:off x="5236200" y="3238200"/>
            <a:ext cx="408960" cy="1863000"/>
          </a:xfrm>
          <a:prstGeom prst="bentConnector3">
            <a:avLst>
              <a:gd name="adj1" fmla="val 32599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2" idx="2"/>
            <a:endCxn id="697" idx="0"/>
          </p:cNvCxnSpPr>
          <p:nvPr/>
        </p:nvCxnSpPr>
        <p:spPr>
          <a:xfrm rot="5400000">
            <a:off x="3376440" y="1168920"/>
            <a:ext cx="426240" cy="1840680"/>
          </a:xfrm>
          <a:prstGeom prst="bentConnector3">
            <a:avLst>
              <a:gd name="adj1" fmla="val 2603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2" idx="2"/>
            <a:endCxn id="696" idx="0"/>
          </p:cNvCxnSpPr>
          <p:nvPr/>
        </p:nvCxnSpPr>
        <p:spPr>
          <a:xfrm flipH="1" rot="16200000">
            <a:off x="5194800" y="1190160"/>
            <a:ext cx="454680" cy="1826280"/>
          </a:xfrm>
          <a:prstGeom prst="bentConnector3">
            <a:avLst>
              <a:gd name="adj1" fmla="val 23375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6" idx="2"/>
            <a:endCxn id="698" idx="0"/>
          </p:cNvCxnSpPr>
          <p:nvPr/>
        </p:nvCxnSpPr>
        <p:spPr>
          <a:xfrm rot="5400000">
            <a:off x="5230080" y="2234880"/>
            <a:ext cx="384840" cy="1826280"/>
          </a:xfrm>
          <a:prstGeom prst="bentConnector3">
            <a:avLst>
              <a:gd name="adj1" fmla="val 34644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6" idx="2"/>
            <a:endCxn id="699" idx="0"/>
          </p:cNvCxnSpPr>
          <p:nvPr/>
        </p:nvCxnSpPr>
        <p:spPr>
          <a:xfrm flipH="1" rot="16200000">
            <a:off x="7093800" y="2197440"/>
            <a:ext cx="365760" cy="1882080"/>
          </a:xfrm>
          <a:prstGeom prst="bentConnector3">
            <a:avLst>
              <a:gd name="adj1" fmla="val 37733"/>
            </a:avLst>
          </a:prstGeom>
          <a:ln w="38160">
            <a:solidFill>
              <a:srgbClr val="a50021"/>
            </a:solidFill>
            <a:miter/>
            <a:tailEnd len="med" type="triangle" w="med"/>
          </a:ln>
        </p:spPr>
      </p:cxnSp>
      <p:sp>
        <p:nvSpPr>
          <p:cNvPr id="713" name=""/>
          <p:cNvSpPr/>
          <p:nvPr/>
        </p:nvSpPr>
        <p:spPr>
          <a:xfrm>
            <a:off x="369720" y="-1303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38D-7D39-40E8-8944-DC2EFCAC66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463680" y="1968480"/>
          <a:ext cx="82119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968480"/>
                    <a:ext cx="82119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recordar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CFB-13F4-42D2-9EB2-D56FB4B13F8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10920" y="1525680"/>
            <a:ext cx="7993080" cy="42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sigue un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proceso sistemático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que asegura 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on tiempo y esfuerz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la recolección de información de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calidad</a:t>
            </a:r>
            <a:r>
              <a:rPr b="0" lang="es-CL" sz="2000" spc="-1" strike="noStrike">
                <a:solidFill>
                  <a:srgbClr val="c273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para tomar mejores decision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spcAft>
                <a:spcPts val="37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elección del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tipo de investigación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depende de la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incertidumbre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sociada con el problema y esta elección tiene implicancias para el </a:t>
            </a:r>
            <a:r>
              <a:rPr b="0" i="1" lang="es-CL" sz="2000" spc="-1" strike="noStrike">
                <a:solidFill>
                  <a:srgbClr val="c27300"/>
                </a:solidFill>
                <a:latin typeface="Arial"/>
              </a:rPr>
              <a:t>método de recolección y análisis de los dato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mantener en mente…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244-22ED-4EED-A78A-9571B83BDDC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¿Cómo lo harían ahora?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Arial"/>
              </a:rPr>
              <a:t>¿Qué harían para...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nalizar cómo ha evolucionado el uso de pañales desechables en los hogares chileno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Conocer el nivel de penetración de un producto de alta tecnologí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Estudiar la evolución en los hábitos alimenticios de las familias C2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0240" indent="-1774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Indagar acerca de la aceptación de un nuevo tipo de helados para la próxima temporada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754-E7F5-43DE-B36F-51BFBD469D7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066680"/>
            <a:ext cx="7559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troducción a la Metodología de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l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stadística par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tapa Cuantitativa de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-Diseño Cuestio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bjetivos de Marketing asociados a la Investigación de Merc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eg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osicion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iseño de 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ijación de 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-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ortamiento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Contenidos del Curso</a:t>
            </a: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9C6-6E4D-4FC9-9209-9AE64123F0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Capítulo 1:</a:t>
            </a:r>
            <a:br>
              <a:rPr sz="3200"/>
            </a:br>
            <a:r>
              <a:rPr b="1" lang="es-CL" sz="3200" spc="-1" strike="noStrike">
                <a:solidFill>
                  <a:srgbClr val="ff3300"/>
                </a:solidFill>
                <a:latin typeface="Arial"/>
              </a:rPr>
              <a:t> Introducción a la Metodología de Investigación de Mercado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1A8-FDD3-4DF3-A3F6-97303E5DEA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¿Qué es Investigación de Mercados?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a función que une el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mercado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con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empres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a través de l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formac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pecifica la información necesaria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r una decisión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La Investigación de Mercados es un conjunto d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écnicas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y procedimientos para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analiz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e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interpretar 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istemáticamente los datos del mercado para que puedan convertirse en información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relevante, oportuna, eficiente y exacta</a:t>
            </a: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 para los </a:t>
            </a:r>
            <a:r>
              <a:rPr b="0" i="1" lang="es-CL" sz="2000" spc="-1" strike="noStrike">
                <a:solidFill>
                  <a:srgbClr val="000099"/>
                </a:solidFill>
                <a:latin typeface="Arial"/>
              </a:rPr>
              <a:t>tomadores de decisión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8C4-0A96-4C99-BBF9-113E309D86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un  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ink entre la Empresa y el Mercado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133720"/>
            <a:ext cx="23623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209680"/>
            <a:ext cx="2361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5909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3880" y="2819520"/>
            <a:ext cx="1143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re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292720" y="2565360"/>
            <a:ext cx="1752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Merc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2133720"/>
            <a:ext cx="25923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A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Public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648320"/>
            <a:ext cx="179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4572000"/>
            <a:ext cx="23619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057400" y="3962520"/>
            <a:ext cx="9907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410080" y="3962520"/>
            <a:ext cx="106704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24080" y="480060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stigació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025680" y="4572000"/>
            <a:ext cx="1244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Univers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Demográf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Hábi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99"/>
                </a:solidFill>
                <a:latin typeface="Univers"/>
              </a:rPr>
              <a:t>Actit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143680" y="3068640"/>
            <a:ext cx="2319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(Consumidores/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badi MT Condensed Extra Bold"/>
              </a:rPr>
              <a:t>Competidores)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badi MT Condensed Extra Bold"/>
              <a:ea typeface="Abadi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431-CD70-4F24-AE66-9A89843C5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28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La Investigación de Mercados como Método para</a:t>
            </a:r>
            <a:br>
              <a:rPr sz="2000"/>
            </a:br>
            <a:r>
              <a:rPr b="1" lang="es-CL" sz="2000" spc="-1" strike="noStrike">
                <a:solidFill>
                  <a:srgbClr val="ff3300"/>
                </a:solidFill>
                <a:latin typeface="Arial"/>
              </a:rPr>
              <a:t> Obtener Información de Calida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671480"/>
            <a:ext cx="14479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671480"/>
            <a:ext cx="2286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671480"/>
            <a:ext cx="14475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12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12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1824120"/>
            <a:ext cx="7714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t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29400" y="1824120"/>
            <a:ext cx="10764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352680" y="1824120"/>
            <a:ext cx="19051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1203480" y="316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621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colec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ocus Group, Cuest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Registr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Teléfono, Web, Grabad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Analiz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Regresión Lineal, Análisis Conjunto, Análisis de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Factores, K-Means, Redes Neur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99"/>
                </a:solidFill>
                <a:latin typeface="Univers"/>
              </a:rPr>
              <a:t>Interpretar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: 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	</a:t>
            </a:r>
            <a:r>
              <a:rPr b="0" lang="es-CL" sz="2000" spc="-1" strike="noStrike">
                <a:solidFill>
                  <a:srgbClr val="000099"/>
                </a:solidFill>
                <a:latin typeface="Univers"/>
              </a:rPr>
              <a:t>Conclusiones, Recomend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852640"/>
            <a:ext cx="791064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0C0-00AB-4A48-89CD-8FECA5405D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14:47:40Z</dcterms:created>
  <dc:creator>BBDO</dc:creator>
  <dc:description/>
  <dc:language>en-US</dc:language>
  <cp:lastModifiedBy>Casa</cp:lastModifiedBy>
  <dcterms:modified xsi:type="dcterms:W3CDTF">2006-07-23T16:19:04Z</dcterms:modified>
  <cp:revision>157</cp:revision>
  <dc:subject/>
  <dc:title>IN627</dc:title>
</cp:coreProperties>
</file>