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7F8-A842-48BB-A749-8F4C75824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C8A3-B1BD-4659-A7C5-FF50DE7B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10ED-9E29-495B-BF54-0794BA773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0BE6-6B4D-48B2-A6DE-896304CFC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BABB-FB68-46E4-BDA4-63D5A0C93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0D3A-1F8E-4AB4-B089-A58FE8C13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1112F-C318-4136-8532-443D945B7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257A1-F3F4-4D6B-96EB-1488450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40C9F-1CCD-4932-A851-A90F315D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2E3E8-1139-4581-B755-49DC04C1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A1207-C23B-41C9-ABAB-A2145B6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A418-4075-4367-9578-67513A10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8B8BD-31D8-4C0D-9E94-D57239AD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549E-C1DF-4AB4-8BC2-A43FE36DE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7A3C2-0535-44EE-88C0-D4E1064A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08A56-EB22-4459-8986-8CCACC7E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F78C1-0C4B-43C8-B3B2-084DD489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F5259-C893-4E77-B635-6B10A14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32FC-F47F-46F1-9BDA-E07119541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528A-1B87-46E8-8B25-03B3728E6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5EB2-E8B7-4F5B-B231-A08F8E4A1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2605-31D9-43F3-9C91-A1257205A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4BC7-FD24-471C-9A76-7038AC050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B42C-D76E-46D9-A2F5-6C41A6650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B77C-097C-4A3E-915E-3A8698C02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7CAA-8562-4A72-BF8B-CE8E4D861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60F1-88DD-4DA3-A476-8A853E04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64A9-339E-42D6-B321-C1BC37C6214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CBC3A-C146-4D1A-BCFB-465D1A6960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289F-09D2-4CD4-B4F8-49D639F923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824F-3035-4366-91D3-251407A1E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6D4D-288E-493F-8215-F92A32D63A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0DFA-30F3-423A-BB78-BD845854F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D6B0-96E1-48F0-82D3-D996330EF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58C0-C7B1-4FA0-93DF-7D295AD5FE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CA50-AE7D-4749-8F01-CBC81CCFD4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2048-90E9-4913-997D-B9C3DED6C9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76F7-F8AD-43A2-BDE6-EC9EF6B0A0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6C75-E7B9-4DB0-80C5-4337F36313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F883-8AEC-40D3-A383-835F304AC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121E-2B62-44FB-AC35-AE69D0D600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6B6A-72A2-4977-B462-3B3E553943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4545-E43F-47F8-A157-C694254DAC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4304-A9E7-47B8-8550-82856E3BF6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7079-EB83-474B-B585-7FAE76FEDF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7BE2-52CC-496B-BF3E-3527C85DCE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3D5D0-9D3C-4B32-AFF3-AED976998B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7E3E-2AEC-4321-94BE-FC67A1E997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E9E5-AE8E-4836-BCB1-E7F34ADC10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3CC8F-F4AA-4B80-BF88-A0C50364C4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9E7BF-5E65-4C7A-A7B1-A5EAC53004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2B10-CE33-406D-8CD0-A9C127CD24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8602-37E3-415C-B6E1-29ED7F6228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21B6-3D80-4008-AB57-B90AF9F83A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D3CEB-809B-4768-8C51-A0B0FB267B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E949-21CE-4164-8586-E98325CDA3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FC5A-33F9-4CAD-B1A0-B877DE57E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140C-FFC2-409E-8278-25C33F65A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3B09C-076A-48E3-8978-8DE2FF7DF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D6B9-C777-4135-B2CA-7337EAF5E5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7FA9-AF4D-4B5C-B050-68610E6681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B8AE-E62E-46B2-9421-543F2A2C5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prupin</cp:lastModifiedBy>
  <dcterms:modified xsi:type="dcterms:W3CDTF">2006-11-13T16:04:45Z</dcterms:modified>
  <cp:revision>6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