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0E89-A94A-421E-AA57-B9176A494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4607-9F26-42A6-AE5F-16B2B38B3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33D4-476E-478E-9F4F-4ADCC9B2F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BBB0-387E-4521-A628-5DCF699B2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EB18-8A4A-420B-809F-605812C01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F098-A85B-4DD0-8F09-04F92DB7C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DFEC1-8827-450C-97FB-B2677A990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E4459-B0E2-4293-B936-CD402C8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896F8-5BDF-4E3A-BCFA-363F0D25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EBF50-E8DA-48B9-AD59-17A2E7E4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70DC1-1A4A-4D93-94E5-770AC9AE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8224B-5CDC-46B4-B1EA-1B2C86B9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C1B39-8810-44A8-9C78-BC96BC96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88EF-1C85-4C4B-A9F4-6DB68D5E4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3E616-1424-415F-AA06-1AB4C832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375D7-8293-4E25-932F-BE569295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A0C0E-4D5C-404E-999C-AB549CE1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8FEFD-FD7A-4442-9F69-8B1866A1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5808C-FBFE-41BE-8549-799F4AADE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CF42-2BC5-4A1E-B80C-3B688BC7D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0127-886C-4B97-B137-BE47C2CDD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DF36-C032-410F-9D6F-2B9CEBD9B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8E70-A0F3-4C73-BD47-D93B4BD5F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AE5E-9B5A-4E5E-A975-1F5FDB447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81AB-84AD-4B84-A671-881EBED83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18D7-EAAF-4E1C-AEEC-D7778101A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A40-BB03-4610-A49F-796664554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E94E-43D2-403A-BB73-D53216404C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25A79-DC25-4D41-B065-96FAABF6AF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0CA0-06D2-428A-89B5-36C9D7D197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456B-1189-4EC7-ACE1-767713E5E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549A-BC96-4AC6-A1FD-4F0F592D16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E72D-F15C-46F9-9650-A90B096D17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CDEA-2A1D-49AE-B16B-0C53BE892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A352-EA6A-43A9-A129-2C6F283460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2935-6824-46AD-BD3F-FA93DA8C6A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215D-FF1C-4889-BA8A-20EFBB95A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04D0-6C32-4FAB-B85B-BB961D984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9587-7E0A-4C66-AE49-2D2426E6D2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F3C9-2B88-46D5-9D03-A7EF1A43E3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FF14-0681-4623-BB40-70C2678BC6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609F-D0AC-4F13-B1A3-9A05CA5A1C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59E9-9366-4B76-B2E6-FB7A4CEFC0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4576-EBAD-4E4B-A1B2-1C9CC1CF51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C55C-36B4-4E90-B0C8-FC05A0F7A4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ACFC-0F8C-4FED-AD4D-388A28CC4A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D8BC0-77D2-4449-A32F-BF542AEA19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D7F4-6E76-4242-A2A0-E02D11795A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3DFF-379C-4796-AC76-35AD927C02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25AA5-26AA-4DE3-8EB8-957248300C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034CF-305F-446E-A617-0E1211B1B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130E-6C19-4872-AC97-8B3BEA34AE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4C04-F7D1-469F-A6EB-1560C6B13D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9EB5-ADE9-43F7-80FC-8C11303134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8C00A-5FB5-44D9-BBB9-239A1F31F7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3297-234E-4FE1-B2BC-CA2E7604FE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1ADE-70B3-49CE-8D4E-00486E31AE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94D6-AD52-4E9F-B832-80826873E7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75DBA-10A7-4A85-80E0-3756261884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E43A-959A-4A1B-A884-164891BC41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85E9-1FA0-4A1C-8EE8-40B3E5410C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945C-D1B3-4002-ABD2-2D263562AC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prupin</cp:lastModifiedBy>
  <dcterms:modified xsi:type="dcterms:W3CDTF">2006-11-13T16:04:45Z</dcterms:modified>
  <cp:revision>6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