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31FA-0D3D-40FD-B37C-7F790FC82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D965-34E1-4ADB-9041-9D2C0CCA6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 corrige título columna depre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larar que precios privados no están ajustados por complejidad y eficiencia, aunque nos queda la duda, si lo públicos están corregidos, aclarar que los privados no lo están, si no es así dejarlo tal c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8C47C-F513-412A-8983-7A845323B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2FF49-9808-4C77-ADC9-C2A7EB4FF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6ADDF-B5FC-4572-9244-DFAA9DBF7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70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856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70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856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61DB-5A56-4C3E-96B2-3CED954BD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E95C7-CE77-4E8F-86CE-F9A2BBF791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AC9DF-1B58-4157-BD51-8BDAE18E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ECE04-7BB4-48D2-9D07-0781DB91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E8E57-58D7-4179-B61B-4820C304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14F3B-7149-406F-B07D-AE5F10ED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B1879-8640-44D0-BCEE-B5F1FCC5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E4BAE-29C3-4AF6-8FB2-361714DC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61D31-44C1-4B66-8AB6-7D0C01A4A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A909D-68D8-47BE-8D29-D6BCB50B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3942E-045D-476F-A0A4-E30F9A44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2EA19-CE5E-4D84-BE25-0D2ACEDE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6AF69-EE1E-48E9-B90A-437B1D27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70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9856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42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70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9856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52746-4CB8-40A3-9833-26506097FE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0BA8C-4BD2-4209-810B-42D47AC8A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44F30-0055-4C3E-A4D0-0D47BE3B3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FEF0B-BE9D-4B83-B798-D4C7F581B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6AD01-9FEF-4CAC-B105-727FA6C12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64406-C2DF-4FCE-88AA-EAD7CAF43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B1578-6662-4F6F-86B3-FFC237491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4780C-8184-47A3-8D72-ED55C59E7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31800" y="6627960"/>
            <a:ext cx="145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70360" y="6324480"/>
            <a:ext cx="73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F1AD-746C-40FE-8C02-B39B87BEC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16000" y="1197000"/>
            <a:ext cx="770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26920" y="6524640"/>
            <a:ext cx="64944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9D5F-88AA-4597-8391-571CA76E18F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spcAft>
                <a:spcPts val="4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341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Reformas en el sector salud: América Latina y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843200" y="3789000"/>
            <a:ext cx="64008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parada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cardo Bit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ciembr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-5148" t="0" r="-4815" b="-12659"/>
          <a:stretch/>
        </p:blipFill>
        <p:spPr>
          <a:xfrm>
            <a:off x="3943440" y="5805360"/>
            <a:ext cx="2141280" cy="94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B94C5-C84F-488F-BE25-E09EF4A44B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237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 medida que los países se vuelven más ricos, le dan más importancia al sector salud (rojo) –la salud como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bien super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ambién lo hacen los gobiernos (verd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3640" y="1612800"/>
            <a:ext cx="5545080" cy="4233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5080" y="580536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90147-27B0-4EC0-900D-3EFDDEC90C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Tendencias de reforma en salud con énfasis en región latinoamerican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4560" y="2914560"/>
            <a:ext cx="21621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foque tradi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9320" y="2913120"/>
            <a:ext cx="32637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dencia actual de reform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1080" y="3049560"/>
            <a:ext cx="2090880" cy="687240"/>
          </a:xfrm>
          <a:prstGeom prst="rightArrow">
            <a:avLst>
              <a:gd name="adj1" fmla="val 50000"/>
              <a:gd name="adj2" fmla="val 7606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27644-9B5C-494F-9E20-2C937368C7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Beneficio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Beneficios definidos ambiguamente: “El gobierno dará todos los servicios que pueda”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Beneficios definidos explícitamente a través de paquetes básicos: “Esta es la lista de servicios que el gobierno financiará:.. ”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olombia Ley 100, paquetes básicos POS y POS-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pública Dominicana: emulación de reforma colombian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pública Dominicana, El Salvador, Nicaragua, Panamá con paquetes básicos de atención primar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Argentina: Plan Médico Obligatorio, PM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ino Unido: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The Patient’s Charter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hile: AUG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9BF1A-29B3-4431-88B5-03A3EC332D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inanciamien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Gobierno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financia provisión universal en establecimientos públicos con subsidio a la oferta y con mala focalización.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Govierno subsidia provisión de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 paquete básico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sólo para  pobres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,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con subsidio focalizado 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hacia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la demanda y 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con 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prima ajustada por riesgo.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00007a"/>
                </a:solidFill>
                <a:uFillTx/>
                <a:latin typeface="Arial"/>
              </a:rPr>
              <a:t>Ejemplos: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olombia Ley 100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anadá: El gobierno compra; los privados produce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ino Unido: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Purchaser-provider split</a:t>
            </a: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: Entre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National Health Service</a:t>
            </a: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 comprador y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Hospital Trust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hile: Poco desarroll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EA981-557E-424E-8023-98E06360AC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236000" y="2060640"/>
            <a:ext cx="1081080" cy="4248000"/>
          </a:xfrm>
          <a:prstGeom prst="rect">
            <a:avLst/>
          </a:prstGeom>
          <a:solidFill>
            <a:srgbClr val="99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060640"/>
            <a:ext cx="1079640" cy="42480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00000"/>
                </a:solidFill>
                <a:latin typeface="Arial"/>
              </a:rPr>
              <a:t>Financiamiento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33640" y="2583000"/>
            <a:ext cx="28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Co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92640" y="258300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Glos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35520" y="2416320"/>
            <a:ext cx="99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Precio MAI Original ($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223524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sto medio de operación y  adminis-tración, ajustado por complejidad y eficienc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57800" y="2098800"/>
            <a:ext cx="10810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sto medio de operación y  adminis-tración, ajustado por complejidad, eficiencia y depreciación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34640" y="2359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ecio privado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07600" y="2581200"/>
            <a:ext cx="17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($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76480" y="2801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75280" y="2801880"/>
            <a:ext cx="179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edicina adul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4176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5308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4.6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6440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6.75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7392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69.7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6480" y="3019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720" y="3019320"/>
            <a:ext cx="1291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4176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5308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9.88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6440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92.0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94720" y="3019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9.6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76480" y="3236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5280" y="3236760"/>
            <a:ext cx="164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cirugía adul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4176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4.55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440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6.70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94720" y="32367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76480" y="34545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6360" y="3454560"/>
            <a:ext cx="168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cirugía infant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4176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308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6.01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6440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16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94720" y="34545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9.6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6480" y="367200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3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5640" y="367200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intermedio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4176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9.2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5308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6.48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6440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8.63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94720" y="36720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9.39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76480" y="38894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4560" y="3889440"/>
            <a:ext cx="190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6256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7208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03.65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8340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21.80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9472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2.30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76480" y="4106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5640" y="410688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6256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7208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35.10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8340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53.25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9472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32.28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76480" y="4324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4560" y="4324320"/>
            <a:ext cx="198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neonata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6256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7208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92.72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8340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04.26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9472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2.59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6480" y="4541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5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74560" y="4541760"/>
            <a:ext cx="182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rología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4176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5308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7.38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6440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9.53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94720" y="45417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76480" y="475920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6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5280" y="4759200"/>
            <a:ext cx="221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traumatología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4176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5308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4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6440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3.55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94720" y="47592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76480" y="49766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6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76000" y="4976640"/>
            <a:ext cx="21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traumatología infant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4176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5308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78.6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6440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0.77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94720" y="49766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76480" y="51944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7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76360" y="5194440"/>
            <a:ext cx="142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psiqu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4176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9.79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5308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6.23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8.38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7392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68.0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76480" y="5411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75280" y="5411880"/>
            <a:ext cx="239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obstetricia y ginecolog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4176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5308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5.91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6440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1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720" y="5411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7.04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76480" y="5629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76000" y="5629320"/>
            <a:ext cx="155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oftalmolog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4176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5308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84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6440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84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94720" y="5629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76480" y="5846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76720" y="5846760"/>
            <a:ext cx="240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ixto medicina-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4176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5308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6.76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6440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9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7392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74.60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76480" y="60595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75640" y="6059520"/>
            <a:ext cx="23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ixto cirugía adulto-inf.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4176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5308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5.4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6440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7.57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94720" y="60595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4.25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02680" y="1882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esta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29960" y="1882800"/>
            <a:ext cx="130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Vectores de preci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57320" y="1863720"/>
            <a:ext cx="33120" cy="444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94120" y="1897200"/>
            <a:ext cx="1440" cy="4378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94120" y="1897200"/>
            <a:ext cx="17640" cy="437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27880" y="1897200"/>
            <a:ext cx="33480" cy="441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05440" y="210672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05440" y="2106720"/>
            <a:ext cx="158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14960" y="2106720"/>
            <a:ext cx="180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4960" y="2106720"/>
            <a:ext cx="176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26280" y="210672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26280" y="2106720"/>
            <a:ext cx="158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90440" y="1863720"/>
            <a:ext cx="727092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90440" y="2089080"/>
            <a:ext cx="7237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90440" y="2089080"/>
            <a:ext cx="72374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90440" y="2792520"/>
            <a:ext cx="7237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90440" y="2792520"/>
            <a:ext cx="72374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90440" y="6275520"/>
            <a:ext cx="727092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24680" y="2089080"/>
            <a:ext cx="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26280" y="2095560"/>
            <a:ext cx="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124308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Chile: Comparación precios públicos y precios priv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6C7F1-7200-46B9-82B9-83C9F6724D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ocaliz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Provisión universal: servicios públicos de salud disponibles para todos los ciudadanos sin distinción de nivel socioeconómico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Focalización de los subsidios públicos en personas de menores ingres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Tailandia: Tarjetas de Salu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EEUU: Medicai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olombia: Régimen Subsidiado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hile: FONASA Grupo A, indigente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E3AFF-5499-4B38-A1D9-D105814130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Aseguramien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Aseguramiento en manos de un gran sistema público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, con ciertas ineficiencia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con 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aseguradores privados múltiple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 y 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no regulad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A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seguradores públicos y privados coexisten y compiten (al igual que proveedores públicos y privados) en ambiente de competencia regul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olombia: EPS vs. AR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hile: FONASA vs. ISAPRE?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Argentina y República Dominicana: Superintendencia de Salu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F6181-4DB7-4816-AD5D-D3089D83A8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rovis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La mayoría de los proveedores estaba en manos del gobierno, a través del Ministerio de Salud e Instituto de Seguridad Social, con problemas de financiamiento, eficiencia y calidad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Proveedore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públicos y privados coexisten y compiten (al igual que 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aseguradore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públicos y privados) en ambiente de competencia regul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Panamá HISMA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olombia Ley 100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D50FC-9513-4C0C-9F8D-84DA8CE757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800000"/>
                </a:solidFill>
                <a:latin typeface="Arial"/>
              </a:rPr>
              <a:t>Relación </a:t>
            </a: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</a:t>
            </a:r>
            <a:r>
              <a:rPr b="1" sz="3600" spc="-1" strike="noStrike">
                <a:solidFill>
                  <a:srgbClr val="800000"/>
                </a:solidFill>
                <a:latin typeface="Arial"/>
              </a:rPr>
              <a:t>inanciamiento</a:t>
            </a: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1" sz="3600" spc="-1" strike="noStrike">
                <a:solidFill>
                  <a:srgbClr val="800000"/>
                </a:solidFill>
                <a:latin typeface="Arial"/>
              </a:rPr>
              <a:t>rovis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Financiamiento y provisión integradas en las mismas manos del Ministerio de Salud y Seguridad Social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Separación de funcione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 el gobierno financia, a través de Ministerio de Salud, pero provisión no necesariamente está sólo en manos del MS (o Seguridad Social) y está atomiz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spcBef>
                <a:spcPts val="414"/>
              </a:spcBef>
              <a:spcAft>
                <a:spcPts val="41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spcBef>
                <a:spcPts val="414"/>
              </a:spcBef>
              <a:spcAft>
                <a:spcPts val="41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olombia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BCE14-7BDA-43ED-9BE3-B94323210A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Gestión hospitales público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Hospitales públicos con esquemas rígidos de gestión, sin flexibilidad administrativa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7a"/>
                </a:solidFill>
                <a:latin typeface="Arial"/>
              </a:rPr>
              <a:t>Hospitales públicos reciben autonomía de gestión, con facultad para contratar y administrar sus recursos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_tradnl" sz="28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Reino Unido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Chile: Hospitales públicos autónomo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Chile: ¿Concesiones hospitalarias?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3BCAB-6244-4389-B745-85CDC285BD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ontenido de la present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sión de con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financiamiento y gasto en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ndencias de re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hile y el A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58A6D-DEB0-4166-98C0-0D6F716886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Separación de Funciones o Especialización 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Ministerio de Salud con el monopolio de las funciones: financiamiento, provisión, regulación, control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Tendencia a la especialización de funciones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Regulación y control (Rol Rector): Ministerio de Salu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Salud pública: Ministerio de Salu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Regulación y control: Superintendencia de Salud (especialmente del aseguramiento) y participación ciudadana (“contraloría social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Aseguramiento y financiamiento: Aseguradores públicos y privados operando en competenc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Provisión: Proveedores públicos y privados en competenc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D0689-74D2-46D8-9BA6-AF57C96F05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Nivel de Centraliz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Funciones de regulación, financiamiento, control, aseguramiento y provisión concentradas en una sola mano: el gobierno central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Descentralización de funciones hacia el nivel local y hacia la población (participación ciudadana)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A74B8-F244-4FDE-96C8-74611CE169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800000"/>
                </a:solidFill>
                <a:latin typeface="Arial"/>
              </a:rPr>
              <a:t>Algunos Ejemplos de Reforma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nam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0">
              <a:spcBef>
                <a:spcPts val="638"/>
              </a:spcBef>
              <a:spcAft>
                <a:spcPts val="638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C1E2C-7855-473A-8A07-4A3BB5B8F2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lombia: Reforma de la Ley 100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14320" y="1200240"/>
            <a:ext cx="7248600" cy="5270400"/>
            <a:chOff x="814320" y="1200240"/>
            <a:chExt cx="7248600" cy="5270400"/>
          </a:xfrm>
        </p:grpSpPr>
        <p:sp>
          <p:nvSpPr>
            <p:cNvPr id="286" name=""/>
            <p:cNvSpPr/>
            <p:nvPr/>
          </p:nvSpPr>
          <p:spPr>
            <a:xfrm>
              <a:off x="6192720" y="2448000"/>
              <a:ext cx="1195560" cy="46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80120" y="2435400"/>
              <a:ext cx="1220760" cy="49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2840" y="261288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SYG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75120" y="1224000"/>
              <a:ext cx="1392480" cy="780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25760" y="13953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OBIERNO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83160" y="1547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24680" y="170028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OMBI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88120" y="1511280"/>
              <a:ext cx="5824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811920" y="1538280"/>
              <a:ext cx="141480" cy="890640"/>
              <a:chOff x="6811920" y="1538280"/>
              <a:chExt cx="141480" cy="890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869160" y="1538280"/>
                <a:ext cx="25200" cy="7509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11920" y="228744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404760" y="1200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84280" y="3454560"/>
              <a:ext cx="2170080" cy="4935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1680" y="3441600"/>
              <a:ext cx="2195640" cy="51912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89520" y="35575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76920" y="3710160"/>
              <a:ext cx="78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AD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914560" y="4440240"/>
              <a:ext cx="917640" cy="612720"/>
              <a:chOff x="2914560" y="4440240"/>
              <a:chExt cx="917640" cy="612720"/>
            </a:xfrm>
          </p:grpSpPr>
          <p:sp>
            <p:nvSpPr>
              <p:cNvPr id="303" name=""/>
              <p:cNvSpPr/>
              <p:nvPr/>
            </p:nvSpPr>
            <p:spPr>
              <a:xfrm>
                <a:off x="3049560" y="4452840"/>
                <a:ext cx="770040" cy="4651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36960" y="4440240"/>
                <a:ext cx="795240" cy="4906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00840" y="4618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987640" y="4513320"/>
                <a:ext cx="771480" cy="46656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75040" y="4500720"/>
                <a:ext cx="797040" cy="49212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238920" y="468000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27520" y="4575240"/>
                <a:ext cx="769680" cy="4651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14560" y="4562640"/>
                <a:ext cx="795600" cy="49032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78440" y="474012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2238480" y="2208240"/>
              <a:ext cx="25200" cy="2473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2266920" y="4621320"/>
              <a:ext cx="644400" cy="141120"/>
              <a:chOff x="2266920" y="4621320"/>
              <a:chExt cx="644400" cy="141120"/>
            </a:xfrm>
          </p:grpSpPr>
          <p:sp>
            <p:nvSpPr>
              <p:cNvPr id="314" name=""/>
              <p:cNvSpPr/>
              <p:nvPr/>
            </p:nvSpPr>
            <p:spPr>
              <a:xfrm>
                <a:off x="2266920" y="4678200"/>
                <a:ext cx="506520" cy="255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771640" y="4621320"/>
                <a:ext cx="139680" cy="14112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5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3095640" y="5072040"/>
              <a:ext cx="141120" cy="401760"/>
              <a:chOff x="3095640" y="5072040"/>
              <a:chExt cx="141120" cy="401760"/>
            </a:xfrm>
          </p:grpSpPr>
          <p:sp>
            <p:nvSpPr>
              <p:cNvPr id="317" name=""/>
              <p:cNvSpPr/>
              <p:nvPr/>
            </p:nvSpPr>
            <p:spPr>
              <a:xfrm>
                <a:off x="3152880" y="5072040"/>
                <a:ext cx="25200" cy="262080"/>
              </a:xfrm>
              <a:custGeom>
                <a:avLst/>
                <a:gdLst/>
                <a:ahLst/>
                <a:rect l="l" t="t" r="r" b="b"/>
                <a:pathLst>
                  <a:path w="16" h="165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0" y="144"/>
                    </a:lnTo>
                    <a:lnTo>
                      <a:pt x="16" y="144"/>
                    </a:lnTo>
                    <a:lnTo>
                      <a:pt x="16" y="128"/>
                    </a:lnTo>
                    <a:lnTo>
                      <a:pt x="16" y="0"/>
                    </a:lnTo>
                    <a:lnTo>
                      <a:pt x="16" y="160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16" y="165"/>
                    </a:lnTo>
                    <a:lnTo>
                      <a:pt x="16" y="1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95640" y="533232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4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2221200" y="51735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179880" y="5165640"/>
              <a:ext cx="3346200" cy="308160"/>
              <a:chOff x="3179880" y="5165640"/>
              <a:chExt cx="3346200" cy="308160"/>
            </a:xfrm>
          </p:grpSpPr>
          <p:sp>
            <p:nvSpPr>
              <p:cNvPr id="321" name=""/>
              <p:cNvSpPr/>
              <p:nvPr/>
            </p:nvSpPr>
            <p:spPr>
              <a:xfrm>
                <a:off x="3179880" y="5165640"/>
                <a:ext cx="3265200" cy="25560"/>
              </a:xfrm>
              <a:custGeom>
                <a:avLst/>
                <a:gdLst/>
                <a:ahLst/>
                <a:rect l="l" t="t" r="r" b="b"/>
                <a:pathLst>
                  <a:path w="2057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16"/>
                    </a:lnTo>
                    <a:lnTo>
                      <a:pt x="48" y="16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16"/>
                    </a:lnTo>
                    <a:lnTo>
                      <a:pt x="80" y="16"/>
                    </a:lnTo>
                    <a:lnTo>
                      <a:pt x="8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16"/>
                    </a:lnTo>
                    <a:lnTo>
                      <a:pt x="112" y="16"/>
                    </a:lnTo>
                    <a:lnTo>
                      <a:pt x="112" y="0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6"/>
                    </a:lnTo>
                    <a:lnTo>
                      <a:pt x="144" y="16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0" y="0"/>
                    </a:lnTo>
                    <a:lnTo>
                      <a:pt x="160" y="0"/>
                    </a:lnTo>
                    <a:lnTo>
                      <a:pt x="160" y="16"/>
                    </a:lnTo>
                    <a:lnTo>
                      <a:pt x="176" y="16"/>
                    </a:lnTo>
                    <a:lnTo>
                      <a:pt x="176" y="0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192" y="0"/>
                    </a:lnTo>
                    <a:lnTo>
                      <a:pt x="192" y="16"/>
                    </a:lnTo>
                    <a:lnTo>
                      <a:pt x="208" y="16"/>
                    </a:lnTo>
                    <a:lnTo>
                      <a:pt x="208" y="0"/>
                    </a:lnTo>
                    <a:lnTo>
                      <a:pt x="192" y="0"/>
                    </a:lnTo>
                    <a:lnTo>
                      <a:pt x="0" y="0"/>
                    </a:lnTo>
                    <a:lnTo>
                      <a:pt x="224" y="0"/>
                    </a:lnTo>
                    <a:lnTo>
                      <a:pt x="224" y="16"/>
                    </a:lnTo>
                    <a:lnTo>
                      <a:pt x="240" y="16"/>
                    </a:lnTo>
                    <a:lnTo>
                      <a:pt x="240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256" y="0"/>
                    </a:lnTo>
                    <a:lnTo>
                      <a:pt x="256" y="16"/>
                    </a:lnTo>
                    <a:lnTo>
                      <a:pt x="272" y="16"/>
                    </a:lnTo>
                    <a:lnTo>
                      <a:pt x="272" y="0"/>
                    </a:lnTo>
                    <a:lnTo>
                      <a:pt x="256" y="0"/>
                    </a:lnTo>
                    <a:lnTo>
                      <a:pt x="0" y="0"/>
                    </a:lnTo>
                    <a:lnTo>
                      <a:pt x="288" y="0"/>
                    </a:lnTo>
                    <a:lnTo>
                      <a:pt x="288" y="16"/>
                    </a:lnTo>
                    <a:lnTo>
                      <a:pt x="304" y="16"/>
                    </a:lnTo>
                    <a:lnTo>
                      <a:pt x="304" y="0"/>
                    </a:lnTo>
                    <a:lnTo>
                      <a:pt x="288" y="0"/>
                    </a:lnTo>
                    <a:lnTo>
                      <a:pt x="0" y="0"/>
                    </a:lnTo>
                    <a:lnTo>
                      <a:pt x="320" y="0"/>
                    </a:lnTo>
                    <a:lnTo>
                      <a:pt x="320" y="16"/>
                    </a:lnTo>
                    <a:lnTo>
                      <a:pt x="336" y="16"/>
                    </a:lnTo>
                    <a:lnTo>
                      <a:pt x="336" y="0"/>
                    </a:lnTo>
                    <a:lnTo>
                      <a:pt x="320" y="0"/>
                    </a:lnTo>
                    <a:lnTo>
                      <a:pt x="0" y="0"/>
                    </a:lnTo>
                    <a:lnTo>
                      <a:pt x="352" y="0"/>
                    </a:lnTo>
                    <a:lnTo>
                      <a:pt x="352" y="16"/>
                    </a:lnTo>
                    <a:lnTo>
                      <a:pt x="368" y="16"/>
                    </a:lnTo>
                    <a:lnTo>
                      <a:pt x="368" y="0"/>
                    </a:lnTo>
                    <a:lnTo>
                      <a:pt x="352" y="0"/>
                    </a:lnTo>
                    <a:lnTo>
                      <a:pt x="0" y="0"/>
                    </a:lnTo>
                    <a:lnTo>
                      <a:pt x="384" y="0"/>
                    </a:lnTo>
                    <a:lnTo>
                      <a:pt x="384" y="16"/>
                    </a:lnTo>
                    <a:lnTo>
                      <a:pt x="400" y="16"/>
                    </a:lnTo>
                    <a:lnTo>
                      <a:pt x="400" y="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416" y="0"/>
                    </a:lnTo>
                    <a:lnTo>
                      <a:pt x="416" y="16"/>
                    </a:lnTo>
                    <a:lnTo>
                      <a:pt x="432" y="16"/>
                    </a:lnTo>
                    <a:lnTo>
                      <a:pt x="432" y="0"/>
                    </a:lnTo>
                    <a:lnTo>
                      <a:pt x="416" y="0"/>
                    </a:lnTo>
                    <a:lnTo>
                      <a:pt x="0" y="0"/>
                    </a:lnTo>
                    <a:lnTo>
                      <a:pt x="448" y="0"/>
                    </a:lnTo>
                    <a:lnTo>
                      <a:pt x="448" y="16"/>
                    </a:lnTo>
                    <a:lnTo>
                      <a:pt x="464" y="16"/>
                    </a:lnTo>
                    <a:lnTo>
                      <a:pt x="464" y="0"/>
                    </a:lnTo>
                    <a:lnTo>
                      <a:pt x="448" y="0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0" y="16"/>
                    </a:lnTo>
                    <a:lnTo>
                      <a:pt x="496" y="16"/>
                    </a:lnTo>
                    <a:lnTo>
                      <a:pt x="496" y="0"/>
                    </a:lnTo>
                    <a:lnTo>
                      <a:pt x="480" y="0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512" y="16"/>
                    </a:lnTo>
                    <a:lnTo>
                      <a:pt x="528" y="16"/>
                    </a:lnTo>
                    <a:lnTo>
                      <a:pt x="528" y="0"/>
                    </a:lnTo>
                    <a:lnTo>
                      <a:pt x="512" y="0"/>
                    </a:lnTo>
                    <a:lnTo>
                      <a:pt x="0" y="0"/>
                    </a:lnTo>
                    <a:lnTo>
                      <a:pt x="544" y="0"/>
                    </a:lnTo>
                    <a:lnTo>
                      <a:pt x="544" y="16"/>
                    </a:lnTo>
                    <a:lnTo>
                      <a:pt x="560" y="16"/>
                    </a:lnTo>
                    <a:lnTo>
                      <a:pt x="560" y="0"/>
                    </a:lnTo>
                    <a:lnTo>
                      <a:pt x="544" y="0"/>
                    </a:lnTo>
                    <a:lnTo>
                      <a:pt x="0" y="0"/>
                    </a:lnTo>
                    <a:lnTo>
                      <a:pt x="576" y="0"/>
                    </a:lnTo>
                    <a:lnTo>
                      <a:pt x="576" y="16"/>
                    </a:lnTo>
                    <a:lnTo>
                      <a:pt x="592" y="16"/>
                    </a:lnTo>
                    <a:lnTo>
                      <a:pt x="592" y="0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608" y="16"/>
                    </a:lnTo>
                    <a:lnTo>
                      <a:pt x="624" y="16"/>
                    </a:lnTo>
                    <a:lnTo>
                      <a:pt x="624" y="0"/>
                    </a:lnTo>
                    <a:lnTo>
                      <a:pt x="608" y="0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40" y="16"/>
                    </a:lnTo>
                    <a:lnTo>
                      <a:pt x="656" y="16"/>
                    </a:lnTo>
                    <a:lnTo>
                      <a:pt x="656" y="0"/>
                    </a:lnTo>
                    <a:lnTo>
                      <a:pt x="640" y="0"/>
                    </a:lnTo>
                    <a:lnTo>
                      <a:pt x="0" y="0"/>
                    </a:lnTo>
                    <a:lnTo>
                      <a:pt x="672" y="0"/>
                    </a:lnTo>
                    <a:lnTo>
                      <a:pt x="672" y="16"/>
                    </a:lnTo>
                    <a:lnTo>
                      <a:pt x="688" y="16"/>
                    </a:lnTo>
                    <a:lnTo>
                      <a:pt x="688" y="0"/>
                    </a:lnTo>
                    <a:lnTo>
                      <a:pt x="672" y="0"/>
                    </a:lnTo>
                    <a:lnTo>
                      <a:pt x="0" y="0"/>
                    </a:lnTo>
                    <a:lnTo>
                      <a:pt x="704" y="0"/>
                    </a:lnTo>
                    <a:lnTo>
                      <a:pt x="704" y="16"/>
                    </a:lnTo>
                    <a:lnTo>
                      <a:pt x="720" y="16"/>
                    </a:lnTo>
                    <a:lnTo>
                      <a:pt x="720" y="0"/>
                    </a:lnTo>
                    <a:lnTo>
                      <a:pt x="704" y="0"/>
                    </a:lnTo>
                    <a:lnTo>
                      <a:pt x="0" y="0"/>
                    </a:lnTo>
                    <a:lnTo>
                      <a:pt x="736" y="0"/>
                    </a:lnTo>
                    <a:lnTo>
                      <a:pt x="736" y="16"/>
                    </a:lnTo>
                    <a:lnTo>
                      <a:pt x="752" y="16"/>
                    </a:lnTo>
                    <a:lnTo>
                      <a:pt x="752" y="0"/>
                    </a:lnTo>
                    <a:lnTo>
                      <a:pt x="736" y="0"/>
                    </a:lnTo>
                    <a:lnTo>
                      <a:pt x="0" y="0"/>
                    </a:lnTo>
                    <a:lnTo>
                      <a:pt x="768" y="0"/>
                    </a:lnTo>
                    <a:lnTo>
                      <a:pt x="768" y="16"/>
                    </a:lnTo>
                    <a:lnTo>
                      <a:pt x="784" y="16"/>
                    </a:lnTo>
                    <a:lnTo>
                      <a:pt x="784" y="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800" y="0"/>
                    </a:lnTo>
                    <a:lnTo>
                      <a:pt x="800" y="16"/>
                    </a:lnTo>
                    <a:lnTo>
                      <a:pt x="816" y="16"/>
                    </a:lnTo>
                    <a:lnTo>
                      <a:pt x="816" y="0"/>
                    </a:lnTo>
                    <a:lnTo>
                      <a:pt x="800" y="0"/>
                    </a:lnTo>
                    <a:lnTo>
                      <a:pt x="0" y="0"/>
                    </a:lnTo>
                    <a:lnTo>
                      <a:pt x="832" y="0"/>
                    </a:lnTo>
                    <a:lnTo>
                      <a:pt x="832" y="16"/>
                    </a:lnTo>
                    <a:lnTo>
                      <a:pt x="848" y="16"/>
                    </a:lnTo>
                    <a:lnTo>
                      <a:pt x="848" y="0"/>
                    </a:lnTo>
                    <a:lnTo>
                      <a:pt x="832" y="0"/>
                    </a:lnTo>
                    <a:lnTo>
                      <a:pt x="0" y="0"/>
                    </a:lnTo>
                    <a:lnTo>
                      <a:pt x="864" y="0"/>
                    </a:lnTo>
                    <a:lnTo>
                      <a:pt x="864" y="16"/>
                    </a:lnTo>
                    <a:lnTo>
                      <a:pt x="880" y="16"/>
                    </a:lnTo>
                    <a:lnTo>
                      <a:pt x="880" y="0"/>
                    </a:lnTo>
                    <a:lnTo>
                      <a:pt x="864" y="0"/>
                    </a:lnTo>
                    <a:lnTo>
                      <a:pt x="0" y="0"/>
                    </a:lnTo>
                    <a:lnTo>
                      <a:pt x="896" y="0"/>
                    </a:lnTo>
                    <a:lnTo>
                      <a:pt x="896" y="16"/>
                    </a:lnTo>
                    <a:lnTo>
                      <a:pt x="912" y="16"/>
                    </a:lnTo>
                    <a:lnTo>
                      <a:pt x="912" y="0"/>
                    </a:lnTo>
                    <a:lnTo>
                      <a:pt x="896" y="0"/>
                    </a:lnTo>
                    <a:lnTo>
                      <a:pt x="0" y="0"/>
                    </a:lnTo>
                    <a:lnTo>
                      <a:pt x="928" y="0"/>
                    </a:lnTo>
                    <a:lnTo>
                      <a:pt x="928" y="16"/>
                    </a:lnTo>
                    <a:lnTo>
                      <a:pt x="944" y="16"/>
                    </a:lnTo>
                    <a:lnTo>
                      <a:pt x="944" y="0"/>
                    </a:lnTo>
                    <a:lnTo>
                      <a:pt x="928" y="0"/>
                    </a:lnTo>
                    <a:lnTo>
                      <a:pt x="0" y="0"/>
                    </a:lnTo>
                    <a:lnTo>
                      <a:pt x="960" y="0"/>
                    </a:lnTo>
                    <a:lnTo>
                      <a:pt x="960" y="16"/>
                    </a:lnTo>
                    <a:lnTo>
                      <a:pt x="976" y="16"/>
                    </a:lnTo>
                    <a:lnTo>
                      <a:pt x="976" y="0"/>
                    </a:lnTo>
                    <a:lnTo>
                      <a:pt x="960" y="0"/>
                    </a:lnTo>
                    <a:lnTo>
                      <a:pt x="0" y="0"/>
                    </a:lnTo>
                    <a:lnTo>
                      <a:pt x="992" y="0"/>
                    </a:lnTo>
                    <a:lnTo>
                      <a:pt x="992" y="16"/>
                    </a:lnTo>
                    <a:lnTo>
                      <a:pt x="1008" y="16"/>
                    </a:lnTo>
                    <a:lnTo>
                      <a:pt x="1008" y="0"/>
                    </a:lnTo>
                    <a:lnTo>
                      <a:pt x="992" y="0"/>
                    </a:lnTo>
                    <a:lnTo>
                      <a:pt x="0" y="0"/>
                    </a:lnTo>
                    <a:lnTo>
                      <a:pt x="1024" y="0"/>
                    </a:lnTo>
                    <a:lnTo>
                      <a:pt x="1024" y="16"/>
                    </a:lnTo>
                    <a:lnTo>
                      <a:pt x="1040" y="16"/>
                    </a:lnTo>
                    <a:lnTo>
                      <a:pt x="1040" y="0"/>
                    </a:lnTo>
                    <a:lnTo>
                      <a:pt x="1024" y="0"/>
                    </a:lnTo>
                    <a:lnTo>
                      <a:pt x="0" y="0"/>
                    </a:lnTo>
                    <a:lnTo>
                      <a:pt x="1056" y="0"/>
                    </a:lnTo>
                    <a:lnTo>
                      <a:pt x="1056" y="16"/>
                    </a:lnTo>
                    <a:lnTo>
                      <a:pt x="1072" y="16"/>
                    </a:lnTo>
                    <a:lnTo>
                      <a:pt x="1072" y="0"/>
                    </a:lnTo>
                    <a:lnTo>
                      <a:pt x="1056" y="0"/>
                    </a:lnTo>
                    <a:lnTo>
                      <a:pt x="0" y="0"/>
                    </a:lnTo>
                    <a:lnTo>
                      <a:pt x="1088" y="0"/>
                    </a:lnTo>
                    <a:lnTo>
                      <a:pt x="1088" y="16"/>
                    </a:lnTo>
                    <a:lnTo>
                      <a:pt x="1104" y="16"/>
                    </a:lnTo>
                    <a:lnTo>
                      <a:pt x="1104" y="0"/>
                    </a:lnTo>
                    <a:lnTo>
                      <a:pt x="1088" y="0"/>
                    </a:lnTo>
                    <a:lnTo>
                      <a:pt x="0" y="0"/>
                    </a:lnTo>
                    <a:lnTo>
                      <a:pt x="1120" y="0"/>
                    </a:lnTo>
                    <a:lnTo>
                      <a:pt x="1120" y="16"/>
                    </a:lnTo>
                    <a:lnTo>
                      <a:pt x="1136" y="16"/>
                    </a:lnTo>
                    <a:lnTo>
                      <a:pt x="1136" y="0"/>
                    </a:lnTo>
                    <a:lnTo>
                      <a:pt x="1120" y="0"/>
                    </a:lnTo>
                    <a:lnTo>
                      <a:pt x="0" y="0"/>
                    </a:lnTo>
                    <a:lnTo>
                      <a:pt x="1152" y="0"/>
                    </a:lnTo>
                    <a:lnTo>
                      <a:pt x="1152" y="16"/>
                    </a:lnTo>
                    <a:lnTo>
                      <a:pt x="1168" y="16"/>
                    </a:lnTo>
                    <a:lnTo>
                      <a:pt x="1168" y="0"/>
                    </a:lnTo>
                    <a:lnTo>
                      <a:pt x="1152" y="0"/>
                    </a:lnTo>
                    <a:lnTo>
                      <a:pt x="0" y="0"/>
                    </a:lnTo>
                    <a:lnTo>
                      <a:pt x="1184" y="0"/>
                    </a:lnTo>
                    <a:lnTo>
                      <a:pt x="1184" y="16"/>
                    </a:lnTo>
                    <a:lnTo>
                      <a:pt x="1200" y="16"/>
                    </a:lnTo>
                    <a:lnTo>
                      <a:pt x="1200" y="0"/>
                    </a:lnTo>
                    <a:lnTo>
                      <a:pt x="1184" y="0"/>
                    </a:lnTo>
                    <a:lnTo>
                      <a:pt x="0" y="0"/>
                    </a:lnTo>
                    <a:lnTo>
                      <a:pt x="1216" y="0"/>
                    </a:lnTo>
                    <a:lnTo>
                      <a:pt x="1216" y="16"/>
                    </a:lnTo>
                    <a:lnTo>
                      <a:pt x="1232" y="16"/>
                    </a:lnTo>
                    <a:lnTo>
                      <a:pt x="1232" y="0"/>
                    </a:lnTo>
                    <a:lnTo>
                      <a:pt x="1216" y="0"/>
                    </a:lnTo>
                    <a:lnTo>
                      <a:pt x="0" y="0"/>
                    </a:lnTo>
                    <a:lnTo>
                      <a:pt x="1248" y="0"/>
                    </a:lnTo>
                    <a:lnTo>
                      <a:pt x="1248" y="16"/>
                    </a:lnTo>
                    <a:lnTo>
                      <a:pt x="1264" y="16"/>
                    </a:lnTo>
                    <a:lnTo>
                      <a:pt x="1264" y="0"/>
                    </a:lnTo>
                    <a:lnTo>
                      <a:pt x="1248" y="0"/>
                    </a:lnTo>
                    <a:lnTo>
                      <a:pt x="0" y="0"/>
                    </a:lnTo>
                    <a:lnTo>
                      <a:pt x="1280" y="0"/>
                    </a:lnTo>
                    <a:lnTo>
                      <a:pt x="1280" y="16"/>
                    </a:lnTo>
                    <a:lnTo>
                      <a:pt x="1296" y="16"/>
                    </a:lnTo>
                    <a:lnTo>
                      <a:pt x="1296" y="0"/>
                    </a:lnTo>
                    <a:lnTo>
                      <a:pt x="1280" y="0"/>
                    </a:lnTo>
                    <a:lnTo>
                      <a:pt x="0" y="0"/>
                    </a:lnTo>
                    <a:lnTo>
                      <a:pt x="1312" y="0"/>
                    </a:lnTo>
                    <a:lnTo>
                      <a:pt x="1312" y="16"/>
                    </a:lnTo>
                    <a:lnTo>
                      <a:pt x="1328" y="16"/>
                    </a:lnTo>
                    <a:lnTo>
                      <a:pt x="1328" y="0"/>
                    </a:lnTo>
                    <a:lnTo>
                      <a:pt x="1312" y="0"/>
                    </a:lnTo>
                    <a:lnTo>
                      <a:pt x="0" y="0"/>
                    </a:lnTo>
                    <a:lnTo>
                      <a:pt x="1344" y="0"/>
                    </a:lnTo>
                    <a:lnTo>
                      <a:pt x="1344" y="16"/>
                    </a:lnTo>
                    <a:lnTo>
                      <a:pt x="1360" y="16"/>
                    </a:lnTo>
                    <a:lnTo>
                      <a:pt x="1360" y="0"/>
                    </a:lnTo>
                    <a:lnTo>
                      <a:pt x="1344" y="0"/>
                    </a:lnTo>
                    <a:lnTo>
                      <a:pt x="0" y="0"/>
                    </a:lnTo>
                    <a:lnTo>
                      <a:pt x="1376" y="0"/>
                    </a:lnTo>
                    <a:lnTo>
                      <a:pt x="1376" y="16"/>
                    </a:lnTo>
                    <a:lnTo>
                      <a:pt x="1392" y="16"/>
                    </a:lnTo>
                    <a:lnTo>
                      <a:pt x="1392" y="0"/>
                    </a:lnTo>
                    <a:lnTo>
                      <a:pt x="1376" y="0"/>
                    </a:lnTo>
                    <a:lnTo>
                      <a:pt x="0" y="0"/>
                    </a:lnTo>
                    <a:lnTo>
                      <a:pt x="1408" y="0"/>
                    </a:lnTo>
                    <a:lnTo>
                      <a:pt x="1408" y="16"/>
                    </a:lnTo>
                    <a:lnTo>
                      <a:pt x="1424" y="16"/>
                    </a:lnTo>
                    <a:lnTo>
                      <a:pt x="1424" y="0"/>
                    </a:lnTo>
                    <a:lnTo>
                      <a:pt x="1408" y="0"/>
                    </a:lnTo>
                    <a:lnTo>
                      <a:pt x="0" y="0"/>
                    </a:lnTo>
                    <a:lnTo>
                      <a:pt x="1440" y="0"/>
                    </a:lnTo>
                    <a:lnTo>
                      <a:pt x="1440" y="16"/>
                    </a:lnTo>
                    <a:lnTo>
                      <a:pt x="1456" y="16"/>
                    </a:lnTo>
                    <a:lnTo>
                      <a:pt x="1456" y="0"/>
                    </a:lnTo>
                    <a:lnTo>
                      <a:pt x="1440" y="0"/>
                    </a:lnTo>
                    <a:lnTo>
                      <a:pt x="0" y="0"/>
                    </a:lnTo>
                    <a:lnTo>
                      <a:pt x="1472" y="0"/>
                    </a:lnTo>
                    <a:lnTo>
                      <a:pt x="1472" y="16"/>
                    </a:lnTo>
                    <a:lnTo>
                      <a:pt x="1488" y="16"/>
                    </a:lnTo>
                    <a:lnTo>
                      <a:pt x="1488" y="0"/>
                    </a:lnTo>
                    <a:lnTo>
                      <a:pt x="1472" y="0"/>
                    </a:lnTo>
                    <a:lnTo>
                      <a:pt x="0" y="0"/>
                    </a:lnTo>
                    <a:lnTo>
                      <a:pt x="1504" y="0"/>
                    </a:lnTo>
                    <a:lnTo>
                      <a:pt x="1504" y="16"/>
                    </a:lnTo>
                    <a:lnTo>
                      <a:pt x="1520" y="16"/>
                    </a:lnTo>
                    <a:lnTo>
                      <a:pt x="1520" y="0"/>
                    </a:lnTo>
                    <a:lnTo>
                      <a:pt x="1504" y="0"/>
                    </a:lnTo>
                    <a:lnTo>
                      <a:pt x="0" y="0"/>
                    </a:lnTo>
                    <a:lnTo>
                      <a:pt x="1536" y="0"/>
                    </a:lnTo>
                    <a:lnTo>
                      <a:pt x="1536" y="16"/>
                    </a:lnTo>
                    <a:lnTo>
                      <a:pt x="1552" y="16"/>
                    </a:lnTo>
                    <a:lnTo>
                      <a:pt x="1552" y="0"/>
                    </a:lnTo>
                    <a:lnTo>
                      <a:pt x="1536" y="0"/>
                    </a:lnTo>
                    <a:lnTo>
                      <a:pt x="0" y="0"/>
                    </a:lnTo>
                    <a:lnTo>
                      <a:pt x="1568" y="0"/>
                    </a:lnTo>
                    <a:lnTo>
                      <a:pt x="1568" y="16"/>
                    </a:lnTo>
                    <a:lnTo>
                      <a:pt x="1584" y="16"/>
                    </a:lnTo>
                    <a:lnTo>
                      <a:pt x="1584" y="0"/>
                    </a:lnTo>
                    <a:lnTo>
                      <a:pt x="1568" y="0"/>
                    </a:lnTo>
                    <a:lnTo>
                      <a:pt x="0" y="0"/>
                    </a:lnTo>
                    <a:lnTo>
                      <a:pt x="1600" y="0"/>
                    </a:lnTo>
                    <a:lnTo>
                      <a:pt x="1600" y="16"/>
                    </a:lnTo>
                    <a:lnTo>
                      <a:pt x="1616" y="16"/>
                    </a:lnTo>
                    <a:lnTo>
                      <a:pt x="1616" y="0"/>
                    </a:lnTo>
                    <a:lnTo>
                      <a:pt x="1600" y="0"/>
                    </a:lnTo>
                    <a:lnTo>
                      <a:pt x="0" y="0"/>
                    </a:lnTo>
                    <a:lnTo>
                      <a:pt x="1632" y="0"/>
                    </a:lnTo>
                    <a:lnTo>
                      <a:pt x="1632" y="16"/>
                    </a:lnTo>
                    <a:lnTo>
                      <a:pt x="1648" y="16"/>
                    </a:lnTo>
                    <a:lnTo>
                      <a:pt x="1648" y="0"/>
                    </a:lnTo>
                    <a:lnTo>
                      <a:pt x="1632" y="0"/>
                    </a:lnTo>
                    <a:lnTo>
                      <a:pt x="0" y="0"/>
                    </a:lnTo>
                    <a:lnTo>
                      <a:pt x="1664" y="0"/>
                    </a:lnTo>
                    <a:lnTo>
                      <a:pt x="1664" y="16"/>
                    </a:lnTo>
                    <a:lnTo>
                      <a:pt x="1680" y="16"/>
                    </a:lnTo>
                    <a:lnTo>
                      <a:pt x="1680" y="0"/>
                    </a:lnTo>
                    <a:lnTo>
                      <a:pt x="1664" y="0"/>
                    </a:lnTo>
                    <a:lnTo>
                      <a:pt x="0" y="0"/>
                    </a:lnTo>
                    <a:lnTo>
                      <a:pt x="1696" y="0"/>
                    </a:lnTo>
                    <a:lnTo>
                      <a:pt x="1696" y="16"/>
                    </a:lnTo>
                    <a:lnTo>
                      <a:pt x="1712" y="16"/>
                    </a:lnTo>
                    <a:lnTo>
                      <a:pt x="1712" y="0"/>
                    </a:lnTo>
                    <a:lnTo>
                      <a:pt x="1696" y="0"/>
                    </a:lnTo>
                    <a:lnTo>
                      <a:pt x="0" y="0"/>
                    </a:lnTo>
                    <a:lnTo>
                      <a:pt x="1728" y="0"/>
                    </a:lnTo>
                    <a:lnTo>
                      <a:pt x="1728" y="16"/>
                    </a:lnTo>
                    <a:lnTo>
                      <a:pt x="1744" y="16"/>
                    </a:lnTo>
                    <a:lnTo>
                      <a:pt x="1744" y="0"/>
                    </a:lnTo>
                    <a:lnTo>
                      <a:pt x="1728" y="0"/>
                    </a:lnTo>
                    <a:lnTo>
                      <a:pt x="0" y="0"/>
                    </a:lnTo>
                    <a:lnTo>
                      <a:pt x="1760" y="0"/>
                    </a:lnTo>
                    <a:lnTo>
                      <a:pt x="1760" y="16"/>
                    </a:lnTo>
                    <a:lnTo>
                      <a:pt x="1776" y="16"/>
                    </a:lnTo>
                    <a:lnTo>
                      <a:pt x="1776" y="0"/>
                    </a:lnTo>
                    <a:lnTo>
                      <a:pt x="1760" y="0"/>
                    </a:lnTo>
                    <a:lnTo>
                      <a:pt x="0" y="0"/>
                    </a:lnTo>
                    <a:lnTo>
                      <a:pt x="1792" y="0"/>
                    </a:lnTo>
                    <a:lnTo>
                      <a:pt x="1792" y="16"/>
                    </a:lnTo>
                    <a:lnTo>
                      <a:pt x="1808" y="16"/>
                    </a:lnTo>
                    <a:lnTo>
                      <a:pt x="1808" y="0"/>
                    </a:lnTo>
                    <a:lnTo>
                      <a:pt x="1792" y="0"/>
                    </a:lnTo>
                    <a:lnTo>
                      <a:pt x="0" y="0"/>
                    </a:lnTo>
                    <a:lnTo>
                      <a:pt x="1824" y="0"/>
                    </a:lnTo>
                    <a:lnTo>
                      <a:pt x="1824" y="16"/>
                    </a:lnTo>
                    <a:lnTo>
                      <a:pt x="1840" y="16"/>
                    </a:lnTo>
                    <a:lnTo>
                      <a:pt x="1840" y="0"/>
                    </a:lnTo>
                    <a:lnTo>
                      <a:pt x="1824" y="0"/>
                    </a:lnTo>
                    <a:lnTo>
                      <a:pt x="0" y="0"/>
                    </a:lnTo>
                    <a:lnTo>
                      <a:pt x="1856" y="0"/>
                    </a:lnTo>
                    <a:lnTo>
                      <a:pt x="1856" y="16"/>
                    </a:lnTo>
                    <a:lnTo>
                      <a:pt x="1872" y="16"/>
                    </a:lnTo>
                    <a:lnTo>
                      <a:pt x="1872" y="0"/>
                    </a:lnTo>
                    <a:lnTo>
                      <a:pt x="1856" y="0"/>
                    </a:lnTo>
                    <a:lnTo>
                      <a:pt x="0" y="0"/>
                    </a:lnTo>
                    <a:lnTo>
                      <a:pt x="1888" y="0"/>
                    </a:lnTo>
                    <a:lnTo>
                      <a:pt x="1888" y="16"/>
                    </a:lnTo>
                    <a:lnTo>
                      <a:pt x="1904" y="16"/>
                    </a:lnTo>
                    <a:lnTo>
                      <a:pt x="1904" y="0"/>
                    </a:lnTo>
                    <a:lnTo>
                      <a:pt x="1888" y="0"/>
                    </a:lnTo>
                    <a:lnTo>
                      <a:pt x="0" y="0"/>
                    </a:lnTo>
                    <a:lnTo>
                      <a:pt x="1920" y="0"/>
                    </a:lnTo>
                    <a:lnTo>
                      <a:pt x="1920" y="16"/>
                    </a:lnTo>
                    <a:lnTo>
                      <a:pt x="1936" y="16"/>
                    </a:lnTo>
                    <a:lnTo>
                      <a:pt x="1936" y="0"/>
                    </a:lnTo>
                    <a:lnTo>
                      <a:pt x="1920" y="0"/>
                    </a:lnTo>
                    <a:lnTo>
                      <a:pt x="0" y="0"/>
                    </a:lnTo>
                    <a:lnTo>
                      <a:pt x="1952" y="0"/>
                    </a:lnTo>
                    <a:lnTo>
                      <a:pt x="1952" y="16"/>
                    </a:lnTo>
                    <a:lnTo>
                      <a:pt x="1968" y="16"/>
                    </a:lnTo>
                    <a:lnTo>
                      <a:pt x="1968" y="0"/>
                    </a:lnTo>
                    <a:lnTo>
                      <a:pt x="1952" y="0"/>
                    </a:lnTo>
                    <a:lnTo>
                      <a:pt x="0" y="0"/>
                    </a:lnTo>
                    <a:lnTo>
                      <a:pt x="1984" y="0"/>
                    </a:lnTo>
                    <a:lnTo>
                      <a:pt x="1984" y="16"/>
                    </a:lnTo>
                    <a:lnTo>
                      <a:pt x="2000" y="16"/>
                    </a:lnTo>
                    <a:lnTo>
                      <a:pt x="2000" y="0"/>
                    </a:lnTo>
                    <a:lnTo>
                      <a:pt x="1984" y="0"/>
                    </a:lnTo>
                    <a:lnTo>
                      <a:pt x="0" y="0"/>
                    </a:lnTo>
                    <a:lnTo>
                      <a:pt x="2016" y="0"/>
                    </a:lnTo>
                    <a:lnTo>
                      <a:pt x="2016" y="16"/>
                    </a:lnTo>
                    <a:lnTo>
                      <a:pt x="2032" y="16"/>
                    </a:lnTo>
                    <a:lnTo>
                      <a:pt x="2032" y="0"/>
                    </a:lnTo>
                    <a:lnTo>
                      <a:pt x="2016" y="0"/>
                    </a:lnTo>
                    <a:lnTo>
                      <a:pt x="0" y="0"/>
                    </a:lnTo>
                    <a:lnTo>
                      <a:pt x="2048" y="0"/>
                    </a:lnTo>
                    <a:lnTo>
                      <a:pt x="2048" y="16"/>
                    </a:lnTo>
                    <a:lnTo>
                      <a:pt x="2057" y="16"/>
                    </a:lnTo>
                    <a:lnTo>
                      <a:pt x="2057" y="0"/>
                    </a:lnTo>
                    <a:lnTo>
                      <a:pt x="20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6384960" y="5194440"/>
                <a:ext cx="141120" cy="279360"/>
                <a:chOff x="6384960" y="5194440"/>
                <a:chExt cx="141120" cy="2793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442200" y="5194440"/>
                  <a:ext cx="25200" cy="126720"/>
                </a:xfrm>
                <a:custGeom>
                  <a:avLst/>
                  <a:gdLst/>
                  <a:ahLst/>
                  <a:rect l="l" t="t" r="r" b="b"/>
                  <a:pathLst>
                    <a:path w="16" h="80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16" y="32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16" y="48"/>
                      </a:lnTo>
                      <a:lnTo>
                        <a:pt x="16" y="32"/>
                      </a:lnTo>
                      <a:lnTo>
                        <a:pt x="16" y="0"/>
                      </a:lnTo>
                      <a:lnTo>
                        <a:pt x="16" y="64"/>
                      </a:lnTo>
                      <a:lnTo>
                        <a:pt x="0" y="64"/>
                      </a:lnTo>
                      <a:lnTo>
                        <a:pt x="0" y="80"/>
                      </a:lnTo>
                      <a:lnTo>
                        <a:pt x="16" y="80"/>
                      </a:lnTo>
                      <a:lnTo>
                        <a:pt x="16" y="64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384960" y="5332320"/>
                  <a:ext cx="141120" cy="141480"/>
                </a:xfrm>
                <a:custGeom>
                  <a:avLst/>
                  <a:gdLst/>
                  <a:ahLst/>
                  <a:rect l="l" t="t" r="r" b="b"/>
                  <a:pathLst>
                    <a:path w="89" h="89">
                      <a:moveTo>
                        <a:pt x="0" y="0"/>
                      </a:moveTo>
                      <a:lnTo>
                        <a:pt x="44" y="89"/>
                      </a:lnTo>
                      <a:lnTo>
                        <a:pt x="8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5" name=""/>
            <p:cNvGrpSpPr/>
            <p:nvPr/>
          </p:nvGrpSpPr>
          <p:grpSpPr>
            <a:xfrm>
              <a:off x="6083280" y="5477040"/>
              <a:ext cx="1407960" cy="798480"/>
              <a:chOff x="6083280" y="5477040"/>
              <a:chExt cx="1407960" cy="798480"/>
            </a:xfrm>
          </p:grpSpPr>
          <p:sp>
            <p:nvSpPr>
              <p:cNvPr id="326" name=""/>
              <p:cNvSpPr/>
              <p:nvPr/>
            </p:nvSpPr>
            <p:spPr>
              <a:xfrm>
                <a:off x="6229440" y="5611680"/>
                <a:ext cx="1249200" cy="65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16480" y="5599080"/>
                <a:ext cx="1274760" cy="676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62840" y="5551560"/>
                <a:ext cx="1249200" cy="649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49880" y="5538960"/>
                <a:ext cx="1274760" cy="6746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095880" y="5489640"/>
                <a:ext cx="1249560" cy="65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83280" y="5477040"/>
                <a:ext cx="1274760" cy="676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31960" y="5672160"/>
                <a:ext cx="975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OVEEDORE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390360" y="582444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IVAD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5673600" y="3454560"/>
              <a:ext cx="2109960" cy="493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61000" y="3441600"/>
              <a:ext cx="213516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48600" y="35575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83360" y="3710160"/>
              <a:ext cx="109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YENT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4008600" y="3952800"/>
              <a:ext cx="141120" cy="1658880"/>
              <a:chOff x="4008600" y="3952800"/>
              <a:chExt cx="141120" cy="1658880"/>
            </a:xfrm>
          </p:grpSpPr>
          <p:sp>
            <p:nvSpPr>
              <p:cNvPr id="339" name=""/>
              <p:cNvSpPr/>
              <p:nvPr/>
            </p:nvSpPr>
            <p:spPr>
              <a:xfrm>
                <a:off x="4065480" y="4091040"/>
                <a:ext cx="25560" cy="1520640"/>
              </a:xfrm>
              <a:custGeom>
                <a:avLst/>
                <a:gdLst/>
                <a:ahLst/>
                <a:rect l="l" t="t" r="r" b="b"/>
                <a:pathLst>
                  <a:path w="16" h="958">
                    <a:moveTo>
                      <a:pt x="0" y="958"/>
                    </a:moveTo>
                    <a:lnTo>
                      <a:pt x="16" y="958"/>
                    </a:lnTo>
                    <a:lnTo>
                      <a:pt x="16" y="894"/>
                    </a:lnTo>
                    <a:lnTo>
                      <a:pt x="0" y="894"/>
                    </a:lnTo>
                    <a:lnTo>
                      <a:pt x="0" y="958"/>
                    </a:lnTo>
                    <a:lnTo>
                      <a:pt x="0" y="846"/>
                    </a:lnTo>
                    <a:lnTo>
                      <a:pt x="16" y="846"/>
                    </a:lnTo>
                    <a:lnTo>
                      <a:pt x="16" y="782"/>
                    </a:lnTo>
                    <a:lnTo>
                      <a:pt x="0" y="782"/>
                    </a:lnTo>
                    <a:lnTo>
                      <a:pt x="0" y="846"/>
                    </a:lnTo>
                    <a:lnTo>
                      <a:pt x="0" y="958"/>
                    </a:lnTo>
                    <a:lnTo>
                      <a:pt x="0" y="734"/>
                    </a:lnTo>
                    <a:lnTo>
                      <a:pt x="16" y="734"/>
                    </a:lnTo>
                    <a:lnTo>
                      <a:pt x="16" y="670"/>
                    </a:lnTo>
                    <a:lnTo>
                      <a:pt x="0" y="670"/>
                    </a:lnTo>
                    <a:lnTo>
                      <a:pt x="0" y="734"/>
                    </a:lnTo>
                    <a:lnTo>
                      <a:pt x="0" y="958"/>
                    </a:lnTo>
                    <a:lnTo>
                      <a:pt x="0" y="622"/>
                    </a:lnTo>
                    <a:lnTo>
                      <a:pt x="16" y="622"/>
                    </a:lnTo>
                    <a:lnTo>
                      <a:pt x="16" y="558"/>
                    </a:lnTo>
                    <a:lnTo>
                      <a:pt x="0" y="558"/>
                    </a:lnTo>
                    <a:lnTo>
                      <a:pt x="0" y="622"/>
                    </a:lnTo>
                    <a:lnTo>
                      <a:pt x="0" y="958"/>
                    </a:lnTo>
                    <a:lnTo>
                      <a:pt x="0" y="510"/>
                    </a:lnTo>
                    <a:lnTo>
                      <a:pt x="16" y="510"/>
                    </a:lnTo>
                    <a:lnTo>
                      <a:pt x="16" y="446"/>
                    </a:lnTo>
                    <a:lnTo>
                      <a:pt x="0" y="446"/>
                    </a:lnTo>
                    <a:lnTo>
                      <a:pt x="0" y="510"/>
                    </a:lnTo>
                    <a:lnTo>
                      <a:pt x="0" y="958"/>
                    </a:lnTo>
                    <a:lnTo>
                      <a:pt x="0" y="398"/>
                    </a:lnTo>
                    <a:lnTo>
                      <a:pt x="16" y="398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398"/>
                    </a:lnTo>
                    <a:lnTo>
                      <a:pt x="0" y="958"/>
                    </a:lnTo>
                    <a:lnTo>
                      <a:pt x="0" y="286"/>
                    </a:lnTo>
                    <a:lnTo>
                      <a:pt x="16" y="286"/>
                    </a:lnTo>
                    <a:lnTo>
                      <a:pt x="16" y="222"/>
                    </a:lnTo>
                    <a:lnTo>
                      <a:pt x="0" y="222"/>
                    </a:lnTo>
                    <a:lnTo>
                      <a:pt x="0" y="286"/>
                    </a:lnTo>
                    <a:lnTo>
                      <a:pt x="0" y="958"/>
                    </a:lnTo>
                    <a:lnTo>
                      <a:pt x="0" y="174"/>
                    </a:lnTo>
                    <a:lnTo>
                      <a:pt x="16" y="174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0" y="174"/>
                    </a:lnTo>
                    <a:lnTo>
                      <a:pt x="0" y="958"/>
                    </a:lnTo>
                    <a:lnTo>
                      <a:pt x="0" y="62"/>
                    </a:lnTo>
                    <a:lnTo>
                      <a:pt x="16" y="6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95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08600" y="395280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715000" y="3952800"/>
              <a:ext cx="141120" cy="1658880"/>
              <a:chOff x="5715000" y="3952800"/>
              <a:chExt cx="141120" cy="1658880"/>
            </a:xfrm>
          </p:grpSpPr>
          <p:sp>
            <p:nvSpPr>
              <p:cNvPr id="342" name=""/>
              <p:cNvSpPr/>
              <p:nvPr/>
            </p:nvSpPr>
            <p:spPr>
              <a:xfrm>
                <a:off x="5772240" y="4091040"/>
                <a:ext cx="25200" cy="1520640"/>
              </a:xfrm>
              <a:custGeom>
                <a:avLst/>
                <a:gdLst/>
                <a:ahLst/>
                <a:rect l="l" t="t" r="r" b="b"/>
                <a:pathLst>
                  <a:path w="16" h="958">
                    <a:moveTo>
                      <a:pt x="0" y="958"/>
                    </a:moveTo>
                    <a:lnTo>
                      <a:pt x="16" y="958"/>
                    </a:lnTo>
                    <a:lnTo>
                      <a:pt x="16" y="894"/>
                    </a:lnTo>
                    <a:lnTo>
                      <a:pt x="0" y="894"/>
                    </a:lnTo>
                    <a:lnTo>
                      <a:pt x="0" y="958"/>
                    </a:lnTo>
                    <a:lnTo>
                      <a:pt x="0" y="846"/>
                    </a:lnTo>
                    <a:lnTo>
                      <a:pt x="16" y="846"/>
                    </a:lnTo>
                    <a:lnTo>
                      <a:pt x="16" y="782"/>
                    </a:lnTo>
                    <a:lnTo>
                      <a:pt x="0" y="782"/>
                    </a:lnTo>
                    <a:lnTo>
                      <a:pt x="0" y="846"/>
                    </a:lnTo>
                    <a:lnTo>
                      <a:pt x="0" y="958"/>
                    </a:lnTo>
                    <a:lnTo>
                      <a:pt x="0" y="734"/>
                    </a:lnTo>
                    <a:lnTo>
                      <a:pt x="16" y="734"/>
                    </a:lnTo>
                    <a:lnTo>
                      <a:pt x="16" y="670"/>
                    </a:lnTo>
                    <a:lnTo>
                      <a:pt x="0" y="670"/>
                    </a:lnTo>
                    <a:lnTo>
                      <a:pt x="0" y="734"/>
                    </a:lnTo>
                    <a:lnTo>
                      <a:pt x="0" y="958"/>
                    </a:lnTo>
                    <a:lnTo>
                      <a:pt x="0" y="622"/>
                    </a:lnTo>
                    <a:lnTo>
                      <a:pt x="16" y="622"/>
                    </a:lnTo>
                    <a:lnTo>
                      <a:pt x="16" y="558"/>
                    </a:lnTo>
                    <a:lnTo>
                      <a:pt x="0" y="558"/>
                    </a:lnTo>
                    <a:lnTo>
                      <a:pt x="0" y="622"/>
                    </a:lnTo>
                    <a:lnTo>
                      <a:pt x="0" y="958"/>
                    </a:lnTo>
                    <a:lnTo>
                      <a:pt x="0" y="510"/>
                    </a:lnTo>
                    <a:lnTo>
                      <a:pt x="16" y="510"/>
                    </a:lnTo>
                    <a:lnTo>
                      <a:pt x="16" y="446"/>
                    </a:lnTo>
                    <a:lnTo>
                      <a:pt x="0" y="446"/>
                    </a:lnTo>
                    <a:lnTo>
                      <a:pt x="0" y="510"/>
                    </a:lnTo>
                    <a:lnTo>
                      <a:pt x="0" y="958"/>
                    </a:lnTo>
                    <a:lnTo>
                      <a:pt x="0" y="398"/>
                    </a:lnTo>
                    <a:lnTo>
                      <a:pt x="16" y="398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398"/>
                    </a:lnTo>
                    <a:lnTo>
                      <a:pt x="0" y="958"/>
                    </a:lnTo>
                    <a:lnTo>
                      <a:pt x="0" y="286"/>
                    </a:lnTo>
                    <a:lnTo>
                      <a:pt x="16" y="286"/>
                    </a:lnTo>
                    <a:lnTo>
                      <a:pt x="16" y="222"/>
                    </a:lnTo>
                    <a:lnTo>
                      <a:pt x="0" y="222"/>
                    </a:lnTo>
                    <a:lnTo>
                      <a:pt x="0" y="286"/>
                    </a:lnTo>
                    <a:lnTo>
                      <a:pt x="0" y="958"/>
                    </a:lnTo>
                    <a:lnTo>
                      <a:pt x="0" y="174"/>
                    </a:lnTo>
                    <a:lnTo>
                      <a:pt x="16" y="174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0" y="174"/>
                    </a:lnTo>
                    <a:lnTo>
                      <a:pt x="0" y="958"/>
                    </a:lnTo>
                    <a:lnTo>
                      <a:pt x="0" y="62"/>
                    </a:lnTo>
                    <a:lnTo>
                      <a:pt x="16" y="6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95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15000" y="395280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4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3911760" y="5591160"/>
              <a:ext cx="1863720" cy="25560"/>
            </a:xfrm>
            <a:custGeom>
              <a:avLst/>
              <a:gdLst/>
              <a:ahLst/>
              <a:rect l="l" t="t" r="r" b="b"/>
              <a:pathLst>
                <a:path w="1174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74" y="16"/>
                  </a:lnTo>
                  <a:lnTo>
                    <a:pt x="1174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5776560" y="449820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8840" y="5835600"/>
              <a:ext cx="1801800" cy="25560"/>
            </a:xfrm>
            <a:custGeom>
              <a:avLst/>
              <a:gdLst/>
              <a:ahLst/>
              <a:rect l="l" t="t" r="r" b="b"/>
              <a:pathLst>
                <a:path w="1135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5" y="16"/>
                  </a:lnTo>
                  <a:lnTo>
                    <a:pt x="1135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313160" y="3952800"/>
              <a:ext cx="141480" cy="1903320"/>
              <a:chOff x="4313160" y="3952800"/>
              <a:chExt cx="141480" cy="1903320"/>
            </a:xfrm>
          </p:grpSpPr>
          <p:sp>
            <p:nvSpPr>
              <p:cNvPr id="348" name=""/>
              <p:cNvSpPr/>
              <p:nvPr/>
            </p:nvSpPr>
            <p:spPr>
              <a:xfrm>
                <a:off x="4370400" y="4154400"/>
                <a:ext cx="2556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31316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732040" y="5477040"/>
              <a:ext cx="1347840" cy="798480"/>
              <a:chOff x="2732040" y="5477040"/>
              <a:chExt cx="1347840" cy="798480"/>
            </a:xfrm>
          </p:grpSpPr>
          <p:sp>
            <p:nvSpPr>
              <p:cNvPr id="351" name=""/>
              <p:cNvSpPr/>
              <p:nvPr/>
            </p:nvSpPr>
            <p:spPr>
              <a:xfrm>
                <a:off x="2873520" y="5611680"/>
                <a:ext cx="1193760" cy="6508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60560" y="5599080"/>
                <a:ext cx="1219320" cy="676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808360" y="5551560"/>
                <a:ext cx="1195200" cy="6490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95760" y="5538960"/>
                <a:ext cx="1220760" cy="6746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744640" y="5489640"/>
                <a:ext cx="1194120" cy="6508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32040" y="5477040"/>
                <a:ext cx="1219320" cy="6760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53720" y="5672160"/>
                <a:ext cx="975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OVEEDORE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13560" y="5824440"/>
                <a:ext cx="654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UBLIC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1758960" y="1511280"/>
              <a:ext cx="312264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51040" y="1538280"/>
              <a:ext cx="25200" cy="49086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79480" y="6445080"/>
              <a:ext cx="17416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17040" y="1371600"/>
              <a:ext cx="125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 OFERT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460680" y="6146640"/>
              <a:ext cx="141480" cy="317520"/>
              <a:chOff x="3460680" y="6146640"/>
              <a:chExt cx="141480" cy="317520"/>
            </a:xfrm>
          </p:grpSpPr>
          <p:sp>
            <p:nvSpPr>
              <p:cNvPr id="364" name=""/>
              <p:cNvSpPr/>
              <p:nvPr/>
            </p:nvSpPr>
            <p:spPr>
              <a:xfrm>
                <a:off x="3517920" y="6283440"/>
                <a:ext cx="25560" cy="18072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460680" y="6146640"/>
                <a:ext cx="141480" cy="14004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89" y="88"/>
                    </a:moveTo>
                    <a:lnTo>
                      <a:pt x="44" y="0"/>
                    </a:lnTo>
                    <a:lnTo>
                      <a:pt x="0" y="88"/>
                    </a:lnTo>
                    <a:lnTo>
                      <a:pt x="89" y="88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330960" y="4446720"/>
              <a:ext cx="917640" cy="610920"/>
              <a:chOff x="6330960" y="4446720"/>
              <a:chExt cx="917640" cy="610920"/>
            </a:xfrm>
          </p:grpSpPr>
          <p:sp>
            <p:nvSpPr>
              <p:cNvPr id="367" name=""/>
              <p:cNvSpPr/>
              <p:nvPr/>
            </p:nvSpPr>
            <p:spPr>
              <a:xfrm>
                <a:off x="6465960" y="4459320"/>
                <a:ext cx="770040" cy="463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53360" y="4446720"/>
                <a:ext cx="795240" cy="4888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17240" y="462456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04040" y="4519440"/>
                <a:ext cx="771480" cy="465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91440" y="4506840"/>
                <a:ext cx="796680" cy="4906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655320" y="46846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43560" y="4581360"/>
                <a:ext cx="770040" cy="463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30960" y="4568760"/>
                <a:ext cx="795240" cy="488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02400" y="474660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P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7140600" y="4678200"/>
              <a:ext cx="76680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04160" y="2795760"/>
              <a:ext cx="25560" cy="190332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426440" y="2732040"/>
              <a:ext cx="500040" cy="141480"/>
              <a:chOff x="7426440" y="2732040"/>
              <a:chExt cx="500040" cy="141480"/>
            </a:xfrm>
          </p:grpSpPr>
          <p:sp>
            <p:nvSpPr>
              <p:cNvPr id="379" name=""/>
              <p:cNvSpPr/>
              <p:nvPr/>
            </p:nvSpPr>
            <p:spPr>
              <a:xfrm>
                <a:off x="7562880" y="2789280"/>
                <a:ext cx="36360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426440" y="2732040"/>
                <a:ext cx="139680" cy="14148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88" y="0"/>
                    </a:moveTo>
                    <a:lnTo>
                      <a:pt x="0" y="45"/>
                    </a:lnTo>
                    <a:lnTo>
                      <a:pt x="88" y="89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6603840" y="307800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97640" y="2546280"/>
              <a:ext cx="6238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6200000">
              <a:off x="731520" y="1882440"/>
              <a:ext cx="31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PRO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6200000">
              <a:off x="692280" y="188028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VEEDOR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558360" y="3071880"/>
              <a:ext cx="68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ASEGURO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6200000">
              <a:off x="827280" y="307476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DOR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6200000">
              <a:off x="516600" y="421128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200000">
              <a:off x="408240" y="5737680"/>
              <a:ext cx="97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99"/>
                  </a:solidFill>
                  <a:latin typeface="Arial"/>
                </a:rPr>
                <a:t>INSTIT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725760" y="5737320"/>
              <a:ext cx="64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99"/>
                  </a:solidFill>
                  <a:latin typeface="Arial"/>
                </a:rPr>
                <a:t>PUBLICA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94520" y="2556000"/>
              <a:ext cx="25560" cy="233028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140600" y="4803840"/>
              <a:ext cx="887400" cy="141120"/>
              <a:chOff x="7140600" y="4803840"/>
              <a:chExt cx="887400" cy="141120"/>
            </a:xfrm>
          </p:grpSpPr>
          <p:sp>
            <p:nvSpPr>
              <p:cNvPr id="392" name=""/>
              <p:cNvSpPr/>
              <p:nvPr/>
            </p:nvSpPr>
            <p:spPr>
              <a:xfrm>
                <a:off x="7278840" y="4861080"/>
                <a:ext cx="74916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140600" y="480384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6908400" y="206532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03800" y="2217600"/>
              <a:ext cx="96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SUFICIENT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37240" y="3548160"/>
              <a:ext cx="25200" cy="2473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6200000">
              <a:off x="4605120" y="4442760"/>
              <a:ext cx="64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AG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911760" y="5961240"/>
              <a:ext cx="2288880" cy="141120"/>
              <a:chOff x="3911760" y="5961240"/>
              <a:chExt cx="2288880" cy="141120"/>
            </a:xfrm>
          </p:grpSpPr>
          <p:sp>
            <p:nvSpPr>
              <p:cNvPr id="399" name=""/>
              <p:cNvSpPr/>
              <p:nvPr/>
            </p:nvSpPr>
            <p:spPr>
              <a:xfrm>
                <a:off x="4049640" y="6018120"/>
                <a:ext cx="2013120" cy="255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11760" y="596124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5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060960" y="5961240"/>
                <a:ext cx="139680" cy="14112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5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4581360" y="3521160"/>
              <a:ext cx="157320" cy="25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313160" y="3952800"/>
              <a:ext cx="141480" cy="1903320"/>
              <a:chOff x="4313160" y="3952800"/>
              <a:chExt cx="141480" cy="1903320"/>
            </a:xfrm>
          </p:grpSpPr>
          <p:sp>
            <p:nvSpPr>
              <p:cNvPr id="404" name=""/>
              <p:cNvSpPr/>
              <p:nvPr/>
            </p:nvSpPr>
            <p:spPr>
              <a:xfrm>
                <a:off x="4370400" y="4154400"/>
                <a:ext cx="2556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1316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 rot="16200000">
              <a:off x="4065480" y="432684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-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98840" y="5835600"/>
              <a:ext cx="1801800" cy="25560"/>
            </a:xfrm>
            <a:custGeom>
              <a:avLst/>
              <a:gdLst/>
              <a:ahLst/>
              <a:rect l="l" t="t" r="r" b="b"/>
              <a:pathLst>
                <a:path w="1135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5" y="16"/>
                  </a:lnTo>
                  <a:lnTo>
                    <a:pt x="1135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5897520" y="3952800"/>
              <a:ext cx="141480" cy="1903320"/>
              <a:chOff x="5897520" y="3952800"/>
              <a:chExt cx="141480" cy="1903320"/>
            </a:xfrm>
          </p:grpSpPr>
          <p:sp>
            <p:nvSpPr>
              <p:cNvPr id="409" name=""/>
              <p:cNvSpPr/>
              <p:nvPr/>
            </p:nvSpPr>
            <p:spPr>
              <a:xfrm>
                <a:off x="5954760" y="4154400"/>
                <a:ext cx="2520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9752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872400" y="5072040"/>
              <a:ext cx="141120" cy="401760"/>
              <a:chOff x="6872400" y="5072040"/>
              <a:chExt cx="141120" cy="401760"/>
            </a:xfrm>
          </p:grpSpPr>
          <p:sp>
            <p:nvSpPr>
              <p:cNvPr id="412" name=""/>
              <p:cNvSpPr/>
              <p:nvPr/>
            </p:nvSpPr>
            <p:spPr>
              <a:xfrm>
                <a:off x="6929280" y="5072040"/>
                <a:ext cx="25560" cy="262080"/>
              </a:xfrm>
              <a:custGeom>
                <a:avLst/>
                <a:gdLst/>
                <a:ahLst/>
                <a:rect l="l" t="t" r="r" b="b"/>
                <a:pathLst>
                  <a:path w="16" h="165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0" y="144"/>
                    </a:lnTo>
                    <a:lnTo>
                      <a:pt x="16" y="144"/>
                    </a:lnTo>
                    <a:lnTo>
                      <a:pt x="16" y="128"/>
                    </a:lnTo>
                    <a:lnTo>
                      <a:pt x="16" y="0"/>
                    </a:lnTo>
                    <a:lnTo>
                      <a:pt x="16" y="160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16" y="165"/>
                    </a:lnTo>
                    <a:lnTo>
                      <a:pt x="16" y="1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72400" y="533232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7021800" y="51483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46360" y="5288040"/>
              <a:ext cx="3378240" cy="25200"/>
            </a:xfrm>
            <a:custGeom>
              <a:avLst/>
              <a:gdLst/>
              <a:ahLst/>
              <a:rect l="l" t="t" r="r" b="b"/>
              <a:pathLst>
                <a:path w="2128" h="16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80" y="16"/>
                  </a:lnTo>
                  <a:lnTo>
                    <a:pt x="80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96" y="0"/>
                  </a:lnTo>
                  <a:lnTo>
                    <a:pt x="96" y="16"/>
                  </a:lnTo>
                  <a:lnTo>
                    <a:pt x="112" y="16"/>
                  </a:lnTo>
                  <a:lnTo>
                    <a:pt x="112" y="0"/>
                  </a:lnTo>
                  <a:lnTo>
                    <a:pt x="96" y="0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6"/>
                  </a:lnTo>
                  <a:lnTo>
                    <a:pt x="144" y="16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0" y="0"/>
                  </a:lnTo>
                  <a:lnTo>
                    <a:pt x="160" y="0"/>
                  </a:lnTo>
                  <a:lnTo>
                    <a:pt x="160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2" y="16"/>
                  </a:lnTo>
                  <a:lnTo>
                    <a:pt x="208" y="16"/>
                  </a:lnTo>
                  <a:lnTo>
                    <a:pt x="208" y="0"/>
                  </a:lnTo>
                  <a:lnTo>
                    <a:pt x="19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40" y="16"/>
                  </a:lnTo>
                  <a:lnTo>
                    <a:pt x="240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256" y="0"/>
                  </a:lnTo>
                  <a:lnTo>
                    <a:pt x="256" y="16"/>
                  </a:lnTo>
                  <a:lnTo>
                    <a:pt x="272" y="16"/>
                  </a:lnTo>
                  <a:lnTo>
                    <a:pt x="272" y="0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288" y="0"/>
                  </a:lnTo>
                  <a:lnTo>
                    <a:pt x="288" y="16"/>
                  </a:lnTo>
                  <a:lnTo>
                    <a:pt x="304" y="16"/>
                  </a:lnTo>
                  <a:lnTo>
                    <a:pt x="304" y="0"/>
                  </a:lnTo>
                  <a:lnTo>
                    <a:pt x="288" y="0"/>
                  </a:lnTo>
                  <a:lnTo>
                    <a:pt x="0" y="0"/>
                  </a:lnTo>
                  <a:lnTo>
                    <a:pt x="320" y="0"/>
                  </a:lnTo>
                  <a:lnTo>
                    <a:pt x="320" y="16"/>
                  </a:lnTo>
                  <a:lnTo>
                    <a:pt x="336" y="16"/>
                  </a:lnTo>
                  <a:lnTo>
                    <a:pt x="336" y="0"/>
                  </a:lnTo>
                  <a:lnTo>
                    <a:pt x="320" y="0"/>
                  </a:lnTo>
                  <a:lnTo>
                    <a:pt x="0" y="0"/>
                  </a:lnTo>
                  <a:lnTo>
                    <a:pt x="352" y="0"/>
                  </a:lnTo>
                  <a:lnTo>
                    <a:pt x="352" y="16"/>
                  </a:lnTo>
                  <a:lnTo>
                    <a:pt x="368" y="16"/>
                  </a:lnTo>
                  <a:lnTo>
                    <a:pt x="368" y="0"/>
                  </a:lnTo>
                  <a:lnTo>
                    <a:pt x="352" y="0"/>
                  </a:lnTo>
                  <a:lnTo>
                    <a:pt x="0" y="0"/>
                  </a:lnTo>
                  <a:lnTo>
                    <a:pt x="384" y="0"/>
                  </a:lnTo>
                  <a:lnTo>
                    <a:pt x="384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84" y="0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6" y="16"/>
                  </a:lnTo>
                  <a:lnTo>
                    <a:pt x="432" y="16"/>
                  </a:lnTo>
                  <a:lnTo>
                    <a:pt x="432" y="0"/>
                  </a:lnTo>
                  <a:lnTo>
                    <a:pt x="41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464" y="16"/>
                  </a:lnTo>
                  <a:lnTo>
                    <a:pt x="464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480" y="0"/>
                  </a:lnTo>
                  <a:lnTo>
                    <a:pt x="480" y="16"/>
                  </a:lnTo>
                  <a:lnTo>
                    <a:pt x="496" y="16"/>
                  </a:lnTo>
                  <a:lnTo>
                    <a:pt x="496" y="0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512" y="0"/>
                  </a:lnTo>
                  <a:lnTo>
                    <a:pt x="512" y="16"/>
                  </a:lnTo>
                  <a:lnTo>
                    <a:pt x="528" y="16"/>
                  </a:lnTo>
                  <a:lnTo>
                    <a:pt x="528" y="0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544" y="0"/>
                  </a:lnTo>
                  <a:lnTo>
                    <a:pt x="544" y="16"/>
                  </a:lnTo>
                  <a:lnTo>
                    <a:pt x="560" y="16"/>
                  </a:lnTo>
                  <a:lnTo>
                    <a:pt x="560" y="0"/>
                  </a:lnTo>
                  <a:lnTo>
                    <a:pt x="544" y="0"/>
                  </a:lnTo>
                  <a:lnTo>
                    <a:pt x="0" y="0"/>
                  </a:lnTo>
                  <a:lnTo>
                    <a:pt x="576" y="0"/>
                  </a:lnTo>
                  <a:lnTo>
                    <a:pt x="576" y="16"/>
                  </a:lnTo>
                  <a:lnTo>
                    <a:pt x="592" y="16"/>
                  </a:lnTo>
                  <a:lnTo>
                    <a:pt x="592" y="0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608" y="0"/>
                  </a:lnTo>
                  <a:lnTo>
                    <a:pt x="608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608" y="0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0" y="16"/>
                  </a:lnTo>
                  <a:lnTo>
                    <a:pt x="656" y="16"/>
                  </a:lnTo>
                  <a:lnTo>
                    <a:pt x="656" y="0"/>
                  </a:lnTo>
                  <a:lnTo>
                    <a:pt x="64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688" y="16"/>
                  </a:lnTo>
                  <a:lnTo>
                    <a:pt x="688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4" y="16"/>
                  </a:lnTo>
                  <a:lnTo>
                    <a:pt x="720" y="16"/>
                  </a:lnTo>
                  <a:lnTo>
                    <a:pt x="720" y="0"/>
                  </a:lnTo>
                  <a:lnTo>
                    <a:pt x="704" y="0"/>
                  </a:lnTo>
                  <a:lnTo>
                    <a:pt x="0" y="0"/>
                  </a:lnTo>
                  <a:lnTo>
                    <a:pt x="736" y="0"/>
                  </a:lnTo>
                  <a:lnTo>
                    <a:pt x="736" y="16"/>
                  </a:lnTo>
                  <a:lnTo>
                    <a:pt x="752" y="16"/>
                  </a:lnTo>
                  <a:lnTo>
                    <a:pt x="752" y="0"/>
                  </a:lnTo>
                  <a:lnTo>
                    <a:pt x="736" y="0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68" y="16"/>
                  </a:lnTo>
                  <a:lnTo>
                    <a:pt x="784" y="16"/>
                  </a:lnTo>
                  <a:lnTo>
                    <a:pt x="784" y="0"/>
                  </a:lnTo>
                  <a:lnTo>
                    <a:pt x="768" y="0"/>
                  </a:lnTo>
                  <a:lnTo>
                    <a:pt x="0" y="0"/>
                  </a:lnTo>
                  <a:lnTo>
                    <a:pt x="800" y="0"/>
                  </a:lnTo>
                  <a:lnTo>
                    <a:pt x="800" y="16"/>
                  </a:lnTo>
                  <a:lnTo>
                    <a:pt x="816" y="16"/>
                  </a:lnTo>
                  <a:lnTo>
                    <a:pt x="816" y="0"/>
                  </a:lnTo>
                  <a:lnTo>
                    <a:pt x="800" y="0"/>
                  </a:lnTo>
                  <a:lnTo>
                    <a:pt x="0" y="0"/>
                  </a:lnTo>
                  <a:lnTo>
                    <a:pt x="832" y="0"/>
                  </a:lnTo>
                  <a:lnTo>
                    <a:pt x="832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832" y="0"/>
                  </a:lnTo>
                  <a:lnTo>
                    <a:pt x="0" y="0"/>
                  </a:lnTo>
                  <a:lnTo>
                    <a:pt x="864" y="0"/>
                  </a:lnTo>
                  <a:lnTo>
                    <a:pt x="864" y="16"/>
                  </a:lnTo>
                  <a:lnTo>
                    <a:pt x="880" y="16"/>
                  </a:lnTo>
                  <a:lnTo>
                    <a:pt x="880" y="0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12" y="16"/>
                  </a:lnTo>
                  <a:lnTo>
                    <a:pt x="912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928" y="0"/>
                  </a:lnTo>
                  <a:lnTo>
                    <a:pt x="928" y="16"/>
                  </a:lnTo>
                  <a:lnTo>
                    <a:pt x="944" y="16"/>
                  </a:lnTo>
                  <a:lnTo>
                    <a:pt x="944" y="0"/>
                  </a:lnTo>
                  <a:lnTo>
                    <a:pt x="928" y="0"/>
                  </a:lnTo>
                  <a:lnTo>
                    <a:pt x="0" y="0"/>
                  </a:lnTo>
                  <a:lnTo>
                    <a:pt x="960" y="0"/>
                  </a:lnTo>
                  <a:lnTo>
                    <a:pt x="960" y="16"/>
                  </a:lnTo>
                  <a:lnTo>
                    <a:pt x="976" y="16"/>
                  </a:lnTo>
                  <a:lnTo>
                    <a:pt x="976" y="0"/>
                  </a:lnTo>
                  <a:lnTo>
                    <a:pt x="960" y="0"/>
                  </a:lnTo>
                  <a:lnTo>
                    <a:pt x="0" y="0"/>
                  </a:lnTo>
                  <a:lnTo>
                    <a:pt x="992" y="0"/>
                  </a:lnTo>
                  <a:lnTo>
                    <a:pt x="992" y="16"/>
                  </a:lnTo>
                  <a:lnTo>
                    <a:pt x="1008" y="16"/>
                  </a:lnTo>
                  <a:lnTo>
                    <a:pt x="1008" y="0"/>
                  </a:lnTo>
                  <a:lnTo>
                    <a:pt x="992" y="0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24" y="16"/>
                  </a:lnTo>
                  <a:lnTo>
                    <a:pt x="1040" y="16"/>
                  </a:lnTo>
                  <a:lnTo>
                    <a:pt x="1040" y="0"/>
                  </a:lnTo>
                  <a:lnTo>
                    <a:pt x="1024" y="0"/>
                  </a:lnTo>
                  <a:lnTo>
                    <a:pt x="0" y="0"/>
                  </a:lnTo>
                  <a:lnTo>
                    <a:pt x="1056" y="0"/>
                  </a:lnTo>
                  <a:lnTo>
                    <a:pt x="1056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56" y="0"/>
                  </a:lnTo>
                  <a:lnTo>
                    <a:pt x="0" y="0"/>
                  </a:lnTo>
                  <a:lnTo>
                    <a:pt x="1088" y="0"/>
                  </a:lnTo>
                  <a:lnTo>
                    <a:pt x="1088" y="16"/>
                  </a:lnTo>
                  <a:lnTo>
                    <a:pt x="1104" y="16"/>
                  </a:lnTo>
                  <a:lnTo>
                    <a:pt x="1104" y="0"/>
                  </a:lnTo>
                  <a:lnTo>
                    <a:pt x="108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6" y="16"/>
                  </a:lnTo>
                  <a:lnTo>
                    <a:pt x="1136" y="0"/>
                  </a:lnTo>
                  <a:lnTo>
                    <a:pt x="1120" y="0"/>
                  </a:lnTo>
                  <a:lnTo>
                    <a:pt x="0" y="0"/>
                  </a:lnTo>
                  <a:lnTo>
                    <a:pt x="1152" y="0"/>
                  </a:lnTo>
                  <a:lnTo>
                    <a:pt x="1152" y="16"/>
                  </a:lnTo>
                  <a:lnTo>
                    <a:pt x="1168" y="16"/>
                  </a:lnTo>
                  <a:lnTo>
                    <a:pt x="1168" y="0"/>
                  </a:lnTo>
                  <a:lnTo>
                    <a:pt x="1152" y="0"/>
                  </a:lnTo>
                  <a:lnTo>
                    <a:pt x="0" y="0"/>
                  </a:lnTo>
                  <a:lnTo>
                    <a:pt x="1184" y="0"/>
                  </a:lnTo>
                  <a:lnTo>
                    <a:pt x="1184" y="16"/>
                  </a:lnTo>
                  <a:lnTo>
                    <a:pt x="1200" y="16"/>
                  </a:lnTo>
                  <a:lnTo>
                    <a:pt x="1200" y="0"/>
                  </a:lnTo>
                  <a:lnTo>
                    <a:pt x="1184" y="0"/>
                  </a:lnTo>
                  <a:lnTo>
                    <a:pt x="0" y="0"/>
                  </a:lnTo>
                  <a:lnTo>
                    <a:pt x="1216" y="0"/>
                  </a:lnTo>
                  <a:lnTo>
                    <a:pt x="1216" y="16"/>
                  </a:lnTo>
                  <a:lnTo>
                    <a:pt x="1232" y="16"/>
                  </a:lnTo>
                  <a:lnTo>
                    <a:pt x="1232" y="0"/>
                  </a:lnTo>
                  <a:lnTo>
                    <a:pt x="1216" y="0"/>
                  </a:lnTo>
                  <a:lnTo>
                    <a:pt x="0" y="0"/>
                  </a:lnTo>
                  <a:lnTo>
                    <a:pt x="1248" y="0"/>
                  </a:lnTo>
                  <a:lnTo>
                    <a:pt x="1248" y="16"/>
                  </a:lnTo>
                  <a:lnTo>
                    <a:pt x="1264" y="16"/>
                  </a:lnTo>
                  <a:lnTo>
                    <a:pt x="1264" y="0"/>
                  </a:lnTo>
                  <a:lnTo>
                    <a:pt x="1248" y="0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0" y="16"/>
                  </a:lnTo>
                  <a:lnTo>
                    <a:pt x="1296" y="16"/>
                  </a:lnTo>
                  <a:lnTo>
                    <a:pt x="1296" y="0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1312" y="0"/>
                  </a:lnTo>
                  <a:lnTo>
                    <a:pt x="1312" y="16"/>
                  </a:lnTo>
                  <a:lnTo>
                    <a:pt x="1328" y="16"/>
                  </a:lnTo>
                  <a:lnTo>
                    <a:pt x="1328" y="0"/>
                  </a:lnTo>
                  <a:lnTo>
                    <a:pt x="1312" y="0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44" y="16"/>
                  </a:lnTo>
                  <a:lnTo>
                    <a:pt x="1360" y="16"/>
                  </a:lnTo>
                  <a:lnTo>
                    <a:pt x="1360" y="0"/>
                  </a:lnTo>
                  <a:lnTo>
                    <a:pt x="1344" y="0"/>
                  </a:lnTo>
                  <a:lnTo>
                    <a:pt x="0" y="0"/>
                  </a:lnTo>
                  <a:lnTo>
                    <a:pt x="1376" y="0"/>
                  </a:lnTo>
                  <a:lnTo>
                    <a:pt x="1376" y="16"/>
                  </a:lnTo>
                  <a:lnTo>
                    <a:pt x="1392" y="16"/>
                  </a:lnTo>
                  <a:lnTo>
                    <a:pt x="1392" y="0"/>
                  </a:lnTo>
                  <a:lnTo>
                    <a:pt x="1376" y="0"/>
                  </a:lnTo>
                  <a:lnTo>
                    <a:pt x="0" y="0"/>
                  </a:lnTo>
                  <a:lnTo>
                    <a:pt x="1408" y="0"/>
                  </a:lnTo>
                  <a:lnTo>
                    <a:pt x="1408" y="16"/>
                  </a:lnTo>
                  <a:lnTo>
                    <a:pt x="1424" y="16"/>
                  </a:lnTo>
                  <a:lnTo>
                    <a:pt x="1424" y="0"/>
                  </a:lnTo>
                  <a:lnTo>
                    <a:pt x="1408" y="0"/>
                  </a:lnTo>
                  <a:lnTo>
                    <a:pt x="0" y="0"/>
                  </a:lnTo>
                  <a:lnTo>
                    <a:pt x="1440" y="0"/>
                  </a:lnTo>
                  <a:lnTo>
                    <a:pt x="1440" y="16"/>
                  </a:lnTo>
                  <a:lnTo>
                    <a:pt x="1456" y="16"/>
                  </a:lnTo>
                  <a:lnTo>
                    <a:pt x="1456" y="0"/>
                  </a:lnTo>
                  <a:lnTo>
                    <a:pt x="1440" y="0"/>
                  </a:lnTo>
                  <a:lnTo>
                    <a:pt x="0" y="0"/>
                  </a:lnTo>
                  <a:lnTo>
                    <a:pt x="1472" y="0"/>
                  </a:lnTo>
                  <a:lnTo>
                    <a:pt x="1472" y="16"/>
                  </a:lnTo>
                  <a:lnTo>
                    <a:pt x="1488" y="16"/>
                  </a:lnTo>
                  <a:lnTo>
                    <a:pt x="1488" y="0"/>
                  </a:lnTo>
                  <a:lnTo>
                    <a:pt x="1472" y="0"/>
                  </a:lnTo>
                  <a:lnTo>
                    <a:pt x="0" y="0"/>
                  </a:lnTo>
                  <a:lnTo>
                    <a:pt x="1504" y="0"/>
                  </a:lnTo>
                  <a:lnTo>
                    <a:pt x="1504" y="16"/>
                  </a:lnTo>
                  <a:lnTo>
                    <a:pt x="1520" y="16"/>
                  </a:lnTo>
                  <a:lnTo>
                    <a:pt x="1520" y="0"/>
                  </a:lnTo>
                  <a:lnTo>
                    <a:pt x="1504" y="0"/>
                  </a:lnTo>
                  <a:lnTo>
                    <a:pt x="0" y="0"/>
                  </a:lnTo>
                  <a:lnTo>
                    <a:pt x="1536" y="0"/>
                  </a:lnTo>
                  <a:lnTo>
                    <a:pt x="1536" y="16"/>
                  </a:lnTo>
                  <a:lnTo>
                    <a:pt x="1552" y="16"/>
                  </a:lnTo>
                  <a:lnTo>
                    <a:pt x="1552" y="0"/>
                  </a:lnTo>
                  <a:lnTo>
                    <a:pt x="1536" y="0"/>
                  </a:lnTo>
                  <a:lnTo>
                    <a:pt x="0" y="0"/>
                  </a:lnTo>
                  <a:lnTo>
                    <a:pt x="1568" y="0"/>
                  </a:lnTo>
                  <a:lnTo>
                    <a:pt x="1568" y="16"/>
                  </a:lnTo>
                  <a:lnTo>
                    <a:pt x="1584" y="16"/>
                  </a:lnTo>
                  <a:lnTo>
                    <a:pt x="1584" y="0"/>
                  </a:lnTo>
                  <a:lnTo>
                    <a:pt x="1568" y="0"/>
                  </a:lnTo>
                  <a:lnTo>
                    <a:pt x="0" y="0"/>
                  </a:lnTo>
                  <a:lnTo>
                    <a:pt x="1600" y="0"/>
                  </a:lnTo>
                  <a:lnTo>
                    <a:pt x="1600" y="16"/>
                  </a:lnTo>
                  <a:lnTo>
                    <a:pt x="1616" y="16"/>
                  </a:lnTo>
                  <a:lnTo>
                    <a:pt x="1616" y="0"/>
                  </a:lnTo>
                  <a:lnTo>
                    <a:pt x="1600" y="0"/>
                  </a:lnTo>
                  <a:lnTo>
                    <a:pt x="0" y="0"/>
                  </a:lnTo>
                  <a:lnTo>
                    <a:pt x="1632" y="0"/>
                  </a:lnTo>
                  <a:lnTo>
                    <a:pt x="1632" y="16"/>
                  </a:lnTo>
                  <a:lnTo>
                    <a:pt x="1648" y="16"/>
                  </a:lnTo>
                  <a:lnTo>
                    <a:pt x="1648" y="0"/>
                  </a:lnTo>
                  <a:lnTo>
                    <a:pt x="1632" y="0"/>
                  </a:lnTo>
                  <a:lnTo>
                    <a:pt x="0" y="0"/>
                  </a:lnTo>
                  <a:lnTo>
                    <a:pt x="1664" y="0"/>
                  </a:lnTo>
                  <a:lnTo>
                    <a:pt x="1664" y="16"/>
                  </a:lnTo>
                  <a:lnTo>
                    <a:pt x="1680" y="16"/>
                  </a:lnTo>
                  <a:lnTo>
                    <a:pt x="1680" y="0"/>
                  </a:lnTo>
                  <a:lnTo>
                    <a:pt x="1664" y="0"/>
                  </a:lnTo>
                  <a:lnTo>
                    <a:pt x="0" y="0"/>
                  </a:lnTo>
                  <a:lnTo>
                    <a:pt x="1696" y="0"/>
                  </a:lnTo>
                  <a:lnTo>
                    <a:pt x="1696" y="16"/>
                  </a:lnTo>
                  <a:lnTo>
                    <a:pt x="1712" y="16"/>
                  </a:lnTo>
                  <a:lnTo>
                    <a:pt x="1712" y="0"/>
                  </a:lnTo>
                  <a:lnTo>
                    <a:pt x="1696" y="0"/>
                  </a:lnTo>
                  <a:lnTo>
                    <a:pt x="0" y="0"/>
                  </a:lnTo>
                  <a:lnTo>
                    <a:pt x="1728" y="0"/>
                  </a:lnTo>
                  <a:lnTo>
                    <a:pt x="1728" y="16"/>
                  </a:lnTo>
                  <a:lnTo>
                    <a:pt x="1744" y="16"/>
                  </a:lnTo>
                  <a:lnTo>
                    <a:pt x="1744" y="0"/>
                  </a:lnTo>
                  <a:lnTo>
                    <a:pt x="1728" y="0"/>
                  </a:lnTo>
                  <a:lnTo>
                    <a:pt x="0" y="0"/>
                  </a:lnTo>
                  <a:lnTo>
                    <a:pt x="1760" y="0"/>
                  </a:lnTo>
                  <a:lnTo>
                    <a:pt x="1760" y="16"/>
                  </a:lnTo>
                  <a:lnTo>
                    <a:pt x="1776" y="16"/>
                  </a:lnTo>
                  <a:lnTo>
                    <a:pt x="1776" y="0"/>
                  </a:lnTo>
                  <a:lnTo>
                    <a:pt x="1760" y="0"/>
                  </a:lnTo>
                  <a:lnTo>
                    <a:pt x="0" y="0"/>
                  </a:lnTo>
                  <a:lnTo>
                    <a:pt x="1792" y="0"/>
                  </a:lnTo>
                  <a:lnTo>
                    <a:pt x="1792" y="16"/>
                  </a:lnTo>
                  <a:lnTo>
                    <a:pt x="1808" y="16"/>
                  </a:lnTo>
                  <a:lnTo>
                    <a:pt x="1808" y="0"/>
                  </a:lnTo>
                  <a:lnTo>
                    <a:pt x="1792" y="0"/>
                  </a:lnTo>
                  <a:lnTo>
                    <a:pt x="0" y="0"/>
                  </a:lnTo>
                  <a:lnTo>
                    <a:pt x="1824" y="0"/>
                  </a:lnTo>
                  <a:lnTo>
                    <a:pt x="1824" y="16"/>
                  </a:lnTo>
                  <a:lnTo>
                    <a:pt x="1840" y="16"/>
                  </a:lnTo>
                  <a:lnTo>
                    <a:pt x="1840" y="0"/>
                  </a:lnTo>
                  <a:lnTo>
                    <a:pt x="1824" y="0"/>
                  </a:lnTo>
                  <a:lnTo>
                    <a:pt x="0" y="0"/>
                  </a:lnTo>
                  <a:lnTo>
                    <a:pt x="1856" y="0"/>
                  </a:lnTo>
                  <a:lnTo>
                    <a:pt x="1856" y="16"/>
                  </a:lnTo>
                  <a:lnTo>
                    <a:pt x="1872" y="16"/>
                  </a:lnTo>
                  <a:lnTo>
                    <a:pt x="1872" y="0"/>
                  </a:lnTo>
                  <a:lnTo>
                    <a:pt x="1856" y="0"/>
                  </a:lnTo>
                  <a:lnTo>
                    <a:pt x="0" y="0"/>
                  </a:lnTo>
                  <a:lnTo>
                    <a:pt x="1888" y="0"/>
                  </a:lnTo>
                  <a:lnTo>
                    <a:pt x="1888" y="16"/>
                  </a:lnTo>
                  <a:lnTo>
                    <a:pt x="1904" y="16"/>
                  </a:lnTo>
                  <a:lnTo>
                    <a:pt x="1904" y="0"/>
                  </a:lnTo>
                  <a:lnTo>
                    <a:pt x="1888" y="0"/>
                  </a:lnTo>
                  <a:lnTo>
                    <a:pt x="0" y="0"/>
                  </a:lnTo>
                  <a:lnTo>
                    <a:pt x="1920" y="0"/>
                  </a:lnTo>
                  <a:lnTo>
                    <a:pt x="1920" y="16"/>
                  </a:lnTo>
                  <a:lnTo>
                    <a:pt x="1936" y="16"/>
                  </a:lnTo>
                  <a:lnTo>
                    <a:pt x="1936" y="0"/>
                  </a:lnTo>
                  <a:lnTo>
                    <a:pt x="1920" y="0"/>
                  </a:lnTo>
                  <a:lnTo>
                    <a:pt x="0" y="0"/>
                  </a:lnTo>
                  <a:lnTo>
                    <a:pt x="1952" y="0"/>
                  </a:lnTo>
                  <a:lnTo>
                    <a:pt x="1952" y="16"/>
                  </a:lnTo>
                  <a:lnTo>
                    <a:pt x="1968" y="16"/>
                  </a:lnTo>
                  <a:lnTo>
                    <a:pt x="1968" y="0"/>
                  </a:lnTo>
                  <a:lnTo>
                    <a:pt x="1952" y="0"/>
                  </a:lnTo>
                  <a:lnTo>
                    <a:pt x="0" y="0"/>
                  </a:lnTo>
                  <a:lnTo>
                    <a:pt x="1984" y="0"/>
                  </a:lnTo>
                  <a:lnTo>
                    <a:pt x="1984" y="16"/>
                  </a:lnTo>
                  <a:lnTo>
                    <a:pt x="2000" y="16"/>
                  </a:lnTo>
                  <a:lnTo>
                    <a:pt x="2000" y="0"/>
                  </a:lnTo>
                  <a:lnTo>
                    <a:pt x="1984" y="0"/>
                  </a:lnTo>
                  <a:lnTo>
                    <a:pt x="0" y="0"/>
                  </a:lnTo>
                  <a:lnTo>
                    <a:pt x="2016" y="0"/>
                  </a:lnTo>
                  <a:lnTo>
                    <a:pt x="2016" y="16"/>
                  </a:lnTo>
                  <a:lnTo>
                    <a:pt x="2032" y="16"/>
                  </a:lnTo>
                  <a:lnTo>
                    <a:pt x="2032" y="0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2048" y="0"/>
                  </a:lnTo>
                  <a:lnTo>
                    <a:pt x="2048" y="16"/>
                  </a:lnTo>
                  <a:lnTo>
                    <a:pt x="2064" y="16"/>
                  </a:lnTo>
                  <a:lnTo>
                    <a:pt x="2064" y="0"/>
                  </a:lnTo>
                  <a:lnTo>
                    <a:pt x="2048" y="0"/>
                  </a:lnTo>
                  <a:lnTo>
                    <a:pt x="0" y="0"/>
                  </a:lnTo>
                  <a:lnTo>
                    <a:pt x="2080" y="0"/>
                  </a:lnTo>
                  <a:lnTo>
                    <a:pt x="2080" y="16"/>
                  </a:lnTo>
                  <a:lnTo>
                    <a:pt x="2096" y="16"/>
                  </a:lnTo>
                  <a:lnTo>
                    <a:pt x="2096" y="0"/>
                  </a:lnTo>
                  <a:lnTo>
                    <a:pt x="2080" y="0"/>
                  </a:lnTo>
                  <a:lnTo>
                    <a:pt x="0" y="0"/>
                  </a:lnTo>
                  <a:lnTo>
                    <a:pt x="2112" y="0"/>
                  </a:lnTo>
                  <a:lnTo>
                    <a:pt x="2112" y="16"/>
                  </a:lnTo>
                  <a:lnTo>
                    <a:pt x="2128" y="16"/>
                  </a:lnTo>
                  <a:lnTo>
                    <a:pt x="2128" y="0"/>
                  </a:ln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3460680" y="5315040"/>
              <a:ext cx="141480" cy="158760"/>
              <a:chOff x="3460680" y="5315040"/>
              <a:chExt cx="141480" cy="158760"/>
            </a:xfrm>
          </p:grpSpPr>
          <p:sp>
            <p:nvSpPr>
              <p:cNvPr id="417" name=""/>
              <p:cNvSpPr/>
              <p:nvPr/>
            </p:nvSpPr>
            <p:spPr>
              <a:xfrm>
                <a:off x="3517920" y="5315040"/>
                <a:ext cx="25560" cy="1908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460680" y="533232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4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6629400" y="3975120"/>
              <a:ext cx="141120" cy="584280"/>
              <a:chOff x="6629400" y="3975120"/>
              <a:chExt cx="141120" cy="584280"/>
            </a:xfrm>
          </p:grpSpPr>
          <p:sp>
            <p:nvSpPr>
              <p:cNvPr id="420" name=""/>
              <p:cNvSpPr/>
              <p:nvPr/>
            </p:nvSpPr>
            <p:spPr>
              <a:xfrm>
                <a:off x="6686640" y="3975120"/>
                <a:ext cx="25200" cy="44604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629400" y="4419720"/>
                <a:ext cx="14112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4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750000" y="3975120"/>
              <a:ext cx="141480" cy="584280"/>
              <a:chOff x="6750000" y="3975120"/>
              <a:chExt cx="141480" cy="584280"/>
            </a:xfrm>
          </p:grpSpPr>
          <p:sp>
            <p:nvSpPr>
              <p:cNvPr id="423" name=""/>
              <p:cNvSpPr/>
              <p:nvPr/>
            </p:nvSpPr>
            <p:spPr>
              <a:xfrm>
                <a:off x="6807240" y="3975120"/>
                <a:ext cx="25200" cy="44604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750000" y="4419720"/>
                <a:ext cx="14148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4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5407200" y="3548160"/>
              <a:ext cx="25200" cy="25938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966920" y="4438080"/>
              <a:ext cx="64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AG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33840" y="3521160"/>
              <a:ext cx="219240" cy="25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911760" y="6083280"/>
              <a:ext cx="2288880" cy="141480"/>
              <a:chOff x="3911760" y="6083280"/>
              <a:chExt cx="2288880" cy="141480"/>
            </a:xfrm>
          </p:grpSpPr>
          <p:sp>
            <p:nvSpPr>
              <p:cNvPr id="429" name=""/>
              <p:cNvSpPr/>
              <p:nvPr/>
            </p:nvSpPr>
            <p:spPr>
              <a:xfrm>
                <a:off x="4049640" y="6140520"/>
                <a:ext cx="201312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1760" y="608328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60960" y="6083280"/>
                <a:ext cx="139680" cy="14148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4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2876400" y="2565360"/>
              <a:ext cx="1195560" cy="46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863800" y="2552760"/>
              <a:ext cx="1220760" cy="49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39280" y="273060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SBE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463920" y="2184480"/>
              <a:ext cx="2879640" cy="141120"/>
              <a:chOff x="3463920" y="2184480"/>
              <a:chExt cx="2879640" cy="141120"/>
            </a:xfrm>
          </p:grpSpPr>
          <p:sp>
            <p:nvSpPr>
              <p:cNvPr id="436" name=""/>
              <p:cNvSpPr/>
              <p:nvPr/>
            </p:nvSpPr>
            <p:spPr>
              <a:xfrm>
                <a:off x="3602160" y="2241720"/>
                <a:ext cx="274140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63920" y="218448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4337280" y="2432160"/>
              <a:ext cx="166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% SUBSIDIOS CRUZAD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98400" y="2584440"/>
              <a:ext cx="174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 DEL GOBIERNO 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92160" y="1967040"/>
              <a:ext cx="187668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79560" y="1954080"/>
              <a:ext cx="190188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39200" y="2011320"/>
              <a:ext cx="118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NICIPALIDAD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33720" y="2330280"/>
              <a:ext cx="141120" cy="219240"/>
              <a:chOff x="3033720" y="2330280"/>
              <a:chExt cx="141120" cy="219240"/>
            </a:xfrm>
          </p:grpSpPr>
          <p:sp>
            <p:nvSpPr>
              <p:cNvPr id="444" name=""/>
              <p:cNvSpPr/>
              <p:nvPr/>
            </p:nvSpPr>
            <p:spPr>
              <a:xfrm>
                <a:off x="3090960" y="2330280"/>
                <a:ext cx="25200" cy="7632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33720" y="2409840"/>
                <a:ext cx="14112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5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033720" y="3060720"/>
              <a:ext cx="141120" cy="342720"/>
              <a:chOff x="3033720" y="3060720"/>
              <a:chExt cx="141120" cy="342720"/>
            </a:xfrm>
          </p:grpSpPr>
          <p:sp>
            <p:nvSpPr>
              <p:cNvPr id="447" name=""/>
              <p:cNvSpPr/>
              <p:nvPr/>
            </p:nvSpPr>
            <p:spPr>
              <a:xfrm>
                <a:off x="3090960" y="3060720"/>
                <a:ext cx="25200" cy="177840"/>
              </a:xfrm>
              <a:custGeom>
                <a:avLst/>
                <a:gdLst/>
                <a:ahLst/>
                <a:rect l="l" t="t" r="r" b="b"/>
                <a:pathLst>
                  <a:path w="16" h="112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33720" y="326232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3449160" y="3102120"/>
              <a:ext cx="1027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DENTIFIC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62040" y="3254400"/>
              <a:ext cx="120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BENEFICIAR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19800" y="2270160"/>
              <a:ext cx="25560" cy="1569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85880" y="5330880"/>
              <a:ext cx="5056200" cy="1095480"/>
            </a:xfrm>
            <a:custGeom>
              <a:avLst/>
              <a:gdLst/>
              <a:ahLst/>
              <a:rect l="l" t="t" r="r" b="b"/>
              <a:pathLst>
                <a:path w="3185" h="690">
                  <a:moveTo>
                    <a:pt x="114" y="1"/>
                  </a:moveTo>
                  <a:lnTo>
                    <a:pt x="103" y="3"/>
                  </a:lnTo>
                  <a:lnTo>
                    <a:pt x="97" y="4"/>
                  </a:lnTo>
                  <a:lnTo>
                    <a:pt x="86" y="6"/>
                  </a:lnTo>
                  <a:lnTo>
                    <a:pt x="76" y="10"/>
                  </a:lnTo>
                  <a:lnTo>
                    <a:pt x="58" y="20"/>
                  </a:lnTo>
                  <a:lnTo>
                    <a:pt x="53" y="23"/>
                  </a:lnTo>
                  <a:lnTo>
                    <a:pt x="37" y="37"/>
                  </a:lnTo>
                  <a:lnTo>
                    <a:pt x="23" y="53"/>
                  </a:lnTo>
                  <a:lnTo>
                    <a:pt x="20" y="58"/>
                  </a:lnTo>
                  <a:lnTo>
                    <a:pt x="10" y="76"/>
                  </a:lnTo>
                  <a:lnTo>
                    <a:pt x="6" y="86"/>
                  </a:lnTo>
                  <a:lnTo>
                    <a:pt x="4" y="97"/>
                  </a:lnTo>
                  <a:lnTo>
                    <a:pt x="3" y="103"/>
                  </a:lnTo>
                  <a:lnTo>
                    <a:pt x="1" y="114"/>
                  </a:lnTo>
                  <a:lnTo>
                    <a:pt x="0" y="125"/>
                  </a:lnTo>
                  <a:lnTo>
                    <a:pt x="0" y="565"/>
                  </a:lnTo>
                  <a:lnTo>
                    <a:pt x="1" y="576"/>
                  </a:lnTo>
                  <a:lnTo>
                    <a:pt x="3" y="587"/>
                  </a:lnTo>
                  <a:lnTo>
                    <a:pt x="4" y="594"/>
                  </a:lnTo>
                  <a:lnTo>
                    <a:pt x="6" y="604"/>
                  </a:lnTo>
                  <a:lnTo>
                    <a:pt x="10" y="614"/>
                  </a:lnTo>
                  <a:lnTo>
                    <a:pt x="20" y="633"/>
                  </a:lnTo>
                  <a:lnTo>
                    <a:pt x="23" y="638"/>
                  </a:lnTo>
                  <a:lnTo>
                    <a:pt x="37" y="654"/>
                  </a:lnTo>
                  <a:lnTo>
                    <a:pt x="53" y="667"/>
                  </a:lnTo>
                  <a:lnTo>
                    <a:pt x="58" y="671"/>
                  </a:lnTo>
                  <a:lnTo>
                    <a:pt x="76" y="681"/>
                  </a:lnTo>
                  <a:lnTo>
                    <a:pt x="86" y="684"/>
                  </a:lnTo>
                  <a:lnTo>
                    <a:pt x="97" y="687"/>
                  </a:lnTo>
                  <a:lnTo>
                    <a:pt x="103" y="688"/>
                  </a:lnTo>
                  <a:lnTo>
                    <a:pt x="114" y="690"/>
                  </a:lnTo>
                  <a:lnTo>
                    <a:pt x="125" y="690"/>
                  </a:lnTo>
                  <a:lnTo>
                    <a:pt x="3060" y="690"/>
                  </a:lnTo>
                  <a:lnTo>
                    <a:pt x="3071" y="690"/>
                  </a:lnTo>
                  <a:lnTo>
                    <a:pt x="3082" y="688"/>
                  </a:lnTo>
                  <a:lnTo>
                    <a:pt x="3089" y="687"/>
                  </a:lnTo>
                  <a:lnTo>
                    <a:pt x="3099" y="684"/>
                  </a:lnTo>
                  <a:lnTo>
                    <a:pt x="3109" y="681"/>
                  </a:lnTo>
                  <a:lnTo>
                    <a:pt x="3128" y="671"/>
                  </a:lnTo>
                  <a:lnTo>
                    <a:pt x="3133" y="667"/>
                  </a:lnTo>
                  <a:lnTo>
                    <a:pt x="3149" y="654"/>
                  </a:lnTo>
                  <a:lnTo>
                    <a:pt x="3162" y="638"/>
                  </a:lnTo>
                  <a:lnTo>
                    <a:pt x="3166" y="633"/>
                  </a:lnTo>
                  <a:lnTo>
                    <a:pt x="3176" y="614"/>
                  </a:lnTo>
                  <a:lnTo>
                    <a:pt x="3179" y="604"/>
                  </a:lnTo>
                  <a:lnTo>
                    <a:pt x="3182" y="594"/>
                  </a:lnTo>
                  <a:lnTo>
                    <a:pt x="3183" y="587"/>
                  </a:lnTo>
                  <a:lnTo>
                    <a:pt x="3185" y="576"/>
                  </a:lnTo>
                  <a:lnTo>
                    <a:pt x="3185" y="565"/>
                  </a:lnTo>
                  <a:lnTo>
                    <a:pt x="3185" y="125"/>
                  </a:lnTo>
                  <a:lnTo>
                    <a:pt x="3185" y="114"/>
                  </a:lnTo>
                  <a:lnTo>
                    <a:pt x="3183" y="103"/>
                  </a:lnTo>
                  <a:lnTo>
                    <a:pt x="3182" y="97"/>
                  </a:lnTo>
                  <a:lnTo>
                    <a:pt x="3179" y="86"/>
                  </a:lnTo>
                  <a:lnTo>
                    <a:pt x="3176" y="76"/>
                  </a:lnTo>
                  <a:lnTo>
                    <a:pt x="3166" y="58"/>
                  </a:lnTo>
                  <a:lnTo>
                    <a:pt x="3162" y="53"/>
                  </a:lnTo>
                  <a:lnTo>
                    <a:pt x="3149" y="37"/>
                  </a:lnTo>
                  <a:lnTo>
                    <a:pt x="3133" y="23"/>
                  </a:lnTo>
                  <a:lnTo>
                    <a:pt x="3128" y="20"/>
                  </a:lnTo>
                  <a:lnTo>
                    <a:pt x="3109" y="10"/>
                  </a:lnTo>
                  <a:lnTo>
                    <a:pt x="3099" y="6"/>
                  </a:lnTo>
                  <a:lnTo>
                    <a:pt x="3089" y="4"/>
                  </a:lnTo>
                  <a:lnTo>
                    <a:pt x="3082" y="3"/>
                  </a:lnTo>
                  <a:lnTo>
                    <a:pt x="3071" y="1"/>
                  </a:lnTo>
                  <a:lnTo>
                    <a:pt x="3060" y="0"/>
                  </a:lnTo>
                  <a:lnTo>
                    <a:pt x="125" y="0"/>
                  </a:lnTo>
                  <a:lnTo>
                    <a:pt x="114" y="1"/>
                  </a:lnTo>
                  <a:lnTo>
                    <a:pt x="125" y="32"/>
                  </a:lnTo>
                  <a:lnTo>
                    <a:pt x="3060" y="32"/>
                  </a:lnTo>
                  <a:lnTo>
                    <a:pt x="3071" y="33"/>
                  </a:lnTo>
                  <a:lnTo>
                    <a:pt x="3076" y="33"/>
                  </a:lnTo>
                  <a:lnTo>
                    <a:pt x="3076" y="34"/>
                  </a:lnTo>
                  <a:lnTo>
                    <a:pt x="3086" y="36"/>
                  </a:lnTo>
                  <a:lnTo>
                    <a:pt x="3096" y="40"/>
                  </a:lnTo>
                  <a:lnTo>
                    <a:pt x="3112" y="49"/>
                  </a:lnTo>
                  <a:lnTo>
                    <a:pt x="3126" y="60"/>
                  </a:lnTo>
                  <a:lnTo>
                    <a:pt x="3137" y="73"/>
                  </a:lnTo>
                  <a:lnTo>
                    <a:pt x="3146" y="89"/>
                  </a:lnTo>
                  <a:lnTo>
                    <a:pt x="3149" y="99"/>
                  </a:lnTo>
                  <a:lnTo>
                    <a:pt x="3152" y="110"/>
                  </a:lnTo>
                  <a:lnTo>
                    <a:pt x="3152" y="110"/>
                  </a:lnTo>
                  <a:lnTo>
                    <a:pt x="3153" y="114"/>
                  </a:lnTo>
                  <a:lnTo>
                    <a:pt x="3153" y="125"/>
                  </a:lnTo>
                  <a:lnTo>
                    <a:pt x="3153" y="565"/>
                  </a:lnTo>
                  <a:lnTo>
                    <a:pt x="3153" y="576"/>
                  </a:lnTo>
                  <a:lnTo>
                    <a:pt x="3152" y="581"/>
                  </a:lnTo>
                  <a:lnTo>
                    <a:pt x="3152" y="581"/>
                  </a:lnTo>
                  <a:lnTo>
                    <a:pt x="3149" y="591"/>
                  </a:lnTo>
                  <a:lnTo>
                    <a:pt x="3146" y="601"/>
                  </a:lnTo>
                  <a:lnTo>
                    <a:pt x="3137" y="617"/>
                  </a:lnTo>
                  <a:lnTo>
                    <a:pt x="3126" y="631"/>
                  </a:lnTo>
                  <a:lnTo>
                    <a:pt x="3112" y="642"/>
                  </a:lnTo>
                  <a:lnTo>
                    <a:pt x="3096" y="651"/>
                  </a:lnTo>
                  <a:lnTo>
                    <a:pt x="3086" y="654"/>
                  </a:lnTo>
                  <a:lnTo>
                    <a:pt x="3076" y="657"/>
                  </a:lnTo>
                  <a:lnTo>
                    <a:pt x="3076" y="657"/>
                  </a:lnTo>
                  <a:lnTo>
                    <a:pt x="3071" y="658"/>
                  </a:lnTo>
                  <a:lnTo>
                    <a:pt x="3060" y="658"/>
                  </a:lnTo>
                  <a:lnTo>
                    <a:pt x="125" y="658"/>
                  </a:lnTo>
                  <a:lnTo>
                    <a:pt x="114" y="658"/>
                  </a:lnTo>
                  <a:lnTo>
                    <a:pt x="110" y="657"/>
                  </a:lnTo>
                  <a:lnTo>
                    <a:pt x="110" y="657"/>
                  </a:lnTo>
                  <a:lnTo>
                    <a:pt x="99" y="654"/>
                  </a:lnTo>
                  <a:lnTo>
                    <a:pt x="89" y="651"/>
                  </a:lnTo>
                  <a:lnTo>
                    <a:pt x="73" y="642"/>
                  </a:lnTo>
                  <a:lnTo>
                    <a:pt x="60" y="631"/>
                  </a:lnTo>
                  <a:lnTo>
                    <a:pt x="49" y="617"/>
                  </a:lnTo>
                  <a:lnTo>
                    <a:pt x="40" y="601"/>
                  </a:lnTo>
                  <a:lnTo>
                    <a:pt x="36" y="591"/>
                  </a:lnTo>
                  <a:lnTo>
                    <a:pt x="34" y="581"/>
                  </a:lnTo>
                  <a:lnTo>
                    <a:pt x="33" y="581"/>
                  </a:lnTo>
                  <a:lnTo>
                    <a:pt x="33" y="576"/>
                  </a:lnTo>
                  <a:lnTo>
                    <a:pt x="32" y="565"/>
                  </a:lnTo>
                  <a:lnTo>
                    <a:pt x="32" y="125"/>
                  </a:lnTo>
                  <a:lnTo>
                    <a:pt x="33" y="114"/>
                  </a:lnTo>
                  <a:lnTo>
                    <a:pt x="33" y="110"/>
                  </a:lnTo>
                  <a:lnTo>
                    <a:pt x="34" y="110"/>
                  </a:lnTo>
                  <a:lnTo>
                    <a:pt x="36" y="99"/>
                  </a:lnTo>
                  <a:lnTo>
                    <a:pt x="40" y="89"/>
                  </a:lnTo>
                  <a:lnTo>
                    <a:pt x="49" y="73"/>
                  </a:lnTo>
                  <a:lnTo>
                    <a:pt x="60" y="60"/>
                  </a:lnTo>
                  <a:lnTo>
                    <a:pt x="73" y="49"/>
                  </a:lnTo>
                  <a:lnTo>
                    <a:pt x="89" y="40"/>
                  </a:lnTo>
                  <a:lnTo>
                    <a:pt x="99" y="36"/>
                  </a:lnTo>
                  <a:lnTo>
                    <a:pt x="110" y="34"/>
                  </a:lnTo>
                  <a:lnTo>
                    <a:pt x="110" y="33"/>
                  </a:lnTo>
                  <a:lnTo>
                    <a:pt x="114" y="33"/>
                  </a:lnTo>
                  <a:lnTo>
                    <a:pt x="125" y="32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56240" y="39909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99920" y="4143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89120" y="4295880"/>
              <a:ext cx="71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UZAD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35120" y="3990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1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31720" y="414324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MPUESTO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04800" y="4295880"/>
              <a:ext cx="51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MIN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841320" y="5359320"/>
              <a:ext cx="1903320" cy="1006560"/>
              <a:chOff x="841320" y="5359320"/>
              <a:chExt cx="1903320" cy="1006560"/>
            </a:xfrm>
          </p:grpSpPr>
          <p:sp>
            <p:nvSpPr>
              <p:cNvPr id="460" name=""/>
              <p:cNvSpPr/>
              <p:nvPr/>
            </p:nvSpPr>
            <p:spPr>
              <a:xfrm>
                <a:off x="841320" y="5359320"/>
                <a:ext cx="1276560" cy="1006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68440" y="5415120"/>
                <a:ext cx="556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MODELO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96480" y="5567400"/>
                <a:ext cx="102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CONVENCIONAL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96480" y="5796000"/>
                <a:ext cx="102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SIN AUTONOMIA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85680" y="6024600"/>
                <a:ext cx="1038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ESUPUEST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36600" y="6176880"/>
                <a:ext cx="78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HISTORIC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046240" y="5648400"/>
                <a:ext cx="698400" cy="395280"/>
              </a:xfrm>
              <a:custGeom>
                <a:avLst/>
                <a:gdLst/>
                <a:ahLst/>
                <a:rect l="l" t="t" r="r" b="b"/>
                <a:pathLst>
                  <a:path w="440" h="249">
                    <a:moveTo>
                      <a:pt x="371" y="0"/>
                    </a:moveTo>
                    <a:lnTo>
                      <a:pt x="371" y="70"/>
                    </a:lnTo>
                    <a:lnTo>
                      <a:pt x="0" y="73"/>
                    </a:lnTo>
                    <a:lnTo>
                      <a:pt x="0" y="182"/>
                    </a:lnTo>
                    <a:lnTo>
                      <a:pt x="372" y="178"/>
                    </a:lnTo>
                    <a:lnTo>
                      <a:pt x="373" y="249"/>
                    </a:lnTo>
                    <a:lnTo>
                      <a:pt x="440" y="124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6B3A2-8D1F-4581-9282-B01F59BC80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anamá: El Modelo HISMA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41800" y="4540320"/>
            <a:ext cx="2361960" cy="2057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17560" y="1797120"/>
            <a:ext cx="1676520" cy="459000"/>
          </a:xfrm>
          <a:prstGeom prst="rect">
            <a:avLst/>
          </a:prstGeom>
          <a:solidFill>
            <a:srgbClr val="ff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AJA DEL SEGURO SOCI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75160" y="1797120"/>
            <a:ext cx="1676520" cy="459000"/>
          </a:xfrm>
          <a:prstGeom prst="rect">
            <a:avLst/>
          </a:prstGeom>
          <a:solidFill>
            <a:srgbClr val="ff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INISTERIO DE SAL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46360" y="3265560"/>
            <a:ext cx="167652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SAL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46360" y="4692600"/>
            <a:ext cx="16765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TRONATO DEL HISM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14880" y="5987880"/>
            <a:ext cx="21938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OSPITAL INTEGRADO SAN MIGUEL ARCANG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474" name=""/>
          <p:cNvCxnSpPr>
            <a:stCxn id="469" idx="2"/>
            <a:endCxn id="471" idx="1"/>
          </p:cNvCxnSpPr>
          <p:nvPr/>
        </p:nvCxnSpPr>
        <p:spPr>
          <a:xfrm flipH="1" rot="16200000">
            <a:off x="2477880" y="2340720"/>
            <a:ext cx="1145520" cy="99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470" idx="2"/>
            <a:endCxn id="471" idx="3"/>
          </p:cNvCxnSpPr>
          <p:nvPr/>
        </p:nvCxnSpPr>
        <p:spPr>
          <a:xfrm rot="5400000">
            <a:off x="5145120" y="2340720"/>
            <a:ext cx="1145520" cy="9914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71" idx="2"/>
            <a:endCxn id="472" idx="0"/>
          </p:cNvCxnSpPr>
          <p:nvPr/>
        </p:nvCxnSpPr>
        <p:spPr>
          <a:xfrm>
            <a:off x="4384440" y="3549240"/>
            <a:ext cx="108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7280280" y="5987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80280" y="62928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80280" y="4149720"/>
            <a:ext cx="304920" cy="304920"/>
          </a:xfrm>
          <a:prstGeom prst="octagon">
            <a:avLst>
              <a:gd name="adj" fmla="val 2928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80280" y="4530600"/>
            <a:ext cx="304920" cy="304920"/>
          </a:xfrm>
          <a:prstGeom prst="octagon">
            <a:avLst>
              <a:gd name="adj" fmla="val 2928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80280" y="5226120"/>
            <a:ext cx="304920" cy="274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80280" y="5576760"/>
            <a:ext cx="304920" cy="274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61160" y="405936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médicos final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61160" y="489744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médicos intermedi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61160" y="57355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general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03760" y="4616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5603760" y="4844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03760" y="54547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603760" y="5683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3760" y="61405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603760" y="6369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13600" y="249876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 CONSALUD mediante apoyo presupuestari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9480" y="246384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 CONSALUD mediante apoyo presupuestari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55800" y="364176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l Patronato HISMA mediante pago por Unidad Básica de Atención basada en (a) Egresos, (b) Cirugías ambulatorias, (c) Atenciones de urgenci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27800" y="397656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go por compra de servicios a empresas externalizad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03760" y="5180040"/>
            <a:ext cx="167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visión de servici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-265680" y="1699200"/>
            <a:ext cx="1592280" cy="520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INANCIADOR REGULAD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6200000">
            <a:off x="-224640" y="3714120"/>
            <a:ext cx="160164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-31680" y="5373720"/>
            <a:ext cx="136836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T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94332-A4CC-4CA1-8598-F3697ED178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Nicaragua: La Reforma Del INSS y las EMP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11240" y="2949480"/>
            <a:ext cx="2332080" cy="163188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09840" y="1762200"/>
            <a:ext cx="2506680" cy="40068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NSS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Instituto Nicaragüense de Seguridad Soci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11240" y="2928960"/>
            <a:ext cx="23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s privad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9920" y="3395520"/>
            <a:ext cx="2157480" cy="21564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54080" y="3862440"/>
            <a:ext cx="59868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Ambula-to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10000" y="3862440"/>
            <a:ext cx="69984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-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68520" y="3862440"/>
            <a:ext cx="758880" cy="45900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Maternidad y hospitali-z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501" idx="0"/>
          </p:cNvCxnSpPr>
          <p:nvPr/>
        </p:nvCxnSpPr>
        <p:spPr>
          <a:xfrm>
            <a:off x="3077640" y="2949120"/>
            <a:ext cx="2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4" idx="2"/>
            <a:endCxn id="505" idx="0"/>
          </p:cNvCxnSpPr>
          <p:nvPr/>
        </p:nvCxnSpPr>
        <p:spPr>
          <a:xfrm rot="5400000">
            <a:off x="2529720" y="3342960"/>
            <a:ext cx="243720" cy="79596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504" idx="2"/>
            <a:endCxn id="507" idx="0"/>
          </p:cNvCxnSpPr>
          <p:nvPr/>
        </p:nvCxnSpPr>
        <p:spPr>
          <a:xfrm flipH="1" rot="16200000">
            <a:off x="3277080" y="3391200"/>
            <a:ext cx="243720" cy="699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504" idx="2"/>
            <a:endCxn id="506" idx="0"/>
          </p:cNvCxnSpPr>
          <p:nvPr/>
        </p:nvCxnSpPr>
        <p:spPr>
          <a:xfrm rot="5400000">
            <a:off x="2882880" y="3696120"/>
            <a:ext cx="243720" cy="89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1116000" y="3860640"/>
            <a:ext cx="736560" cy="4590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04" idx="2"/>
            <a:endCxn id="512" idx="0"/>
          </p:cNvCxnSpPr>
          <p:nvPr/>
        </p:nvCxnSpPr>
        <p:spPr>
          <a:xfrm rot="5400000">
            <a:off x="2145600" y="2957400"/>
            <a:ext cx="241920" cy="1566000"/>
          </a:xfrm>
          <a:prstGeom prst="bentConnector3">
            <a:avLst>
              <a:gd name="adj1" fmla="val 4932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309840" y="5357880"/>
            <a:ext cx="2506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Beneficiarios del INS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filiados del 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NSS 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y Dependie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15" name=""/>
          <p:cNvCxnSpPr>
            <a:stCxn id="502" idx="2"/>
            <a:endCxn id="501" idx="0"/>
          </p:cNvCxnSpPr>
          <p:nvPr/>
        </p:nvCxnSpPr>
        <p:spPr>
          <a:xfrm rot="5400000">
            <a:off x="3430800" y="1816560"/>
            <a:ext cx="780120" cy="1486800"/>
          </a:xfrm>
          <a:prstGeom prst="bentConnector3">
            <a:avLst>
              <a:gd name="adj1" fmla="val 498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02" idx="2"/>
          </p:cNvCxnSpPr>
          <p:nvPr/>
        </p:nvCxnSpPr>
        <p:spPr>
          <a:xfrm flipH="1" rot="16200000">
            <a:off x="4927320" y="1805400"/>
            <a:ext cx="816840" cy="1545480"/>
          </a:xfrm>
          <a:prstGeom prst="bentConnector3">
            <a:avLst>
              <a:gd name="adj1" fmla="val 486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7332840" y="3452760"/>
            <a:ext cx="98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ueden retener ingresos por capit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668320" y="5551560"/>
            <a:ext cx="641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668680" y="456084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16520" y="4560840"/>
            <a:ext cx="641520" cy="990720"/>
            <a:chOff x="5816520" y="4560840"/>
            <a:chExt cx="641520" cy="990720"/>
          </a:xfrm>
        </p:grpSpPr>
        <p:sp>
          <p:nvSpPr>
            <p:cNvPr id="521" name=""/>
            <p:cNvSpPr/>
            <p:nvPr/>
          </p:nvSpPr>
          <p:spPr>
            <a:xfrm>
              <a:off x="5816520" y="5551560"/>
              <a:ext cx="641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458040" y="45608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3659040" y="4618080"/>
            <a:ext cx="0" cy="758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67320" y="4618080"/>
            <a:ext cx="0" cy="758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16520" y="5551560"/>
            <a:ext cx="86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eleccionan libremente EM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92680" y="501012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ntrega de Paquete Básico de Benefic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51360" y="25210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mpra de Paquete Básico por capit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11400" y="1587600"/>
            <a:ext cx="990360" cy="215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le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14" idx="2"/>
            <a:endCxn id="502" idx="1"/>
          </p:cNvCxnSpPr>
          <p:nvPr/>
        </p:nvCxnSpPr>
        <p:spPr>
          <a:xfrm flipV="1" rot="16200000">
            <a:off x="2037240" y="3238560"/>
            <a:ext cx="3799440" cy="1254960"/>
          </a:xfrm>
          <a:prstGeom prst="bentConnector4">
            <a:avLst>
              <a:gd name="adj1" fmla="val -6017"/>
              <a:gd name="adj2" fmla="val 2861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2201760" y="1762200"/>
            <a:ext cx="110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319480" y="14130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emple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38760" y="5956200"/>
            <a:ext cx="75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trabaj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19480" y="19368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trabaj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27320" y="3386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b-contrat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32640" y="1787400"/>
            <a:ext cx="992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obierno de Nicaragu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35" idx="1"/>
            <a:endCxn id="502" idx="3"/>
          </p:cNvCxnSpPr>
          <p:nvPr/>
        </p:nvCxnSpPr>
        <p:spPr>
          <a:xfrm flipH="1">
            <a:off x="5815800" y="1960560"/>
            <a:ext cx="8168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"/>
          <p:cNvSpPr/>
          <p:nvPr/>
        </p:nvSpPr>
        <p:spPr>
          <a:xfrm>
            <a:off x="5875200" y="1612800"/>
            <a:ext cx="7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Gobi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98880" y="2928960"/>
            <a:ext cx="2332080" cy="163188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98880" y="2908440"/>
            <a:ext cx="23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s públic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7920" y="3375000"/>
            <a:ext cx="2157120" cy="21564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41720" y="3841920"/>
            <a:ext cx="59868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Ambula-to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97640" y="3841920"/>
            <a:ext cx="69984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56520" y="3841920"/>
            <a:ext cx="758520" cy="45900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Maternidad y hospitali-z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38" idx="0"/>
          </p:cNvCxnSpPr>
          <p:nvPr/>
        </p:nvCxnSpPr>
        <p:spPr>
          <a:xfrm>
            <a:off x="6066000" y="2928600"/>
            <a:ext cx="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40" idx="2"/>
            <a:endCxn id="541" idx="0"/>
          </p:cNvCxnSpPr>
          <p:nvPr/>
        </p:nvCxnSpPr>
        <p:spPr>
          <a:xfrm rot="5400000">
            <a:off x="5517360" y="3322440"/>
            <a:ext cx="243720" cy="79596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0" idx="2"/>
            <a:endCxn id="543" idx="0"/>
          </p:cNvCxnSpPr>
          <p:nvPr/>
        </p:nvCxnSpPr>
        <p:spPr>
          <a:xfrm flipH="1" rot="16200000">
            <a:off x="6264720" y="3370680"/>
            <a:ext cx="243720" cy="699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2"/>
            <a:endCxn id="542" idx="0"/>
          </p:cNvCxnSpPr>
          <p:nvPr/>
        </p:nvCxnSpPr>
        <p:spPr>
          <a:xfrm rot="5400000">
            <a:off x="5870520" y="3675600"/>
            <a:ext cx="243720" cy="89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8" name=""/>
          <p:cNvSpPr/>
          <p:nvPr/>
        </p:nvSpPr>
        <p:spPr>
          <a:xfrm>
            <a:off x="2335320" y="5573880"/>
            <a:ext cx="86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eleccionan libremente EM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EDCD8-6673-4153-93A5-17D86CF16D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hile y 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E96FA-A45E-4FFB-B74C-A8B2DE7D8E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¿Qué tipo de sistema de salud tiene Chile?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00000" y="127008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hile, la mayoría del gasto en salud ocurre en cuadrante Público-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rto plazo es improbable que aumente gasto en cuadrante Público-Priv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s improbable es que aumente gasto en cuadrante Privado-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258920" y="2708280"/>
          <a:ext cx="7556400" cy="3921120"/>
        </p:xfrm>
        <a:graphic>
          <a:graphicData uri="http://schemas.openxmlformats.org/drawingml/2006/table">
            <a:tbl>
              <a:tblPr/>
              <a:tblGrid>
                <a:gridCol w="1649520"/>
                <a:gridCol w="547560"/>
                <a:gridCol w="2471760"/>
                <a:gridCol w="2887560"/>
              </a:tblGrid>
              <a:tr h="3988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amiento y provisió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ovisió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783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Financia-mient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aterr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Chile Modalidad Institucion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AUGE (much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. Medicare &amp; Medicai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á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Chile Modalidad Libre Elec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AUGE (poc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es en América Latina, Asia, África, y Europa del Este con proveedores públicos que cobran tarif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 el financiamiento de salud de gastos de bolsill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. HMO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RES de Chil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2966-9F8B-46C6-BC68-72BE7B3CC2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La segregación del sistema de salud chileno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081320" y="6486480"/>
            <a:ext cx="2452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193080" cy="49323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835280" y="6237360"/>
            <a:ext cx="6265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, R., &gt;R. Muñoz, L. Escobar, C. Farah, K. Delgado   (2006) (Forthcoming). Governance in Chile’s Mandatory Health Insurance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48360" y="1268280"/>
            <a:ext cx="0" cy="49690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FCFFD-6513-4540-83F4-6EAF2A6BCF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B78DD-6F42-4180-A8AD-5FF6F886014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Visión de contex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E8FD9-1193-4516-AD7C-C6087AA879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l paquete de beneficios de salud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280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ioridades definidas con múltiples criter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lección de 56  problemas prioritarios de sal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dopción será progresiva en 3 añ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inanciamiento GES viene del 1,0% de aumento en el 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rcRect l="1033" t="3856" r="1244" b="4499"/>
          <a:stretch/>
        </p:blipFill>
        <p:spPr>
          <a:xfrm>
            <a:off x="3905280" y="1484280"/>
            <a:ext cx="4952880" cy="513252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62" name=""/>
          <p:cNvSpPr/>
          <p:nvPr/>
        </p:nvSpPr>
        <p:spPr>
          <a:xfrm>
            <a:off x="3780000" y="1197000"/>
            <a:ext cx="532908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oblemas que serán ingresados al AUGE en 3 primeros añ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51280" y="6524640"/>
            <a:ext cx="51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162C2-F9F7-4DE6-8019-56E334B656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stos esperados d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309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álculo del costo del AUGE es total, no incr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fícil saber qué impacto tendrá AUGE en gasto total en salud en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ISAPRE ha causado un aumento mínimo del gasto to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eneficiarios de ISAPRE usando en forma exponencial las redes AUGE de las ISAPRE, en lugar de libre el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rcRect l="0" t="0" r="8749" b="0"/>
          <a:stretch/>
        </p:blipFill>
        <p:spPr>
          <a:xfrm>
            <a:off x="4140360" y="1773360"/>
            <a:ext cx="4838400" cy="36576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8111880" y="278136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$12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07160" y="314172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$10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459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95672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67280" y="5516640"/>
            <a:ext cx="4919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EE8F4-688A-497C-BC7F-174242069A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Estructura del costo del AUGE por tipo de problema de salud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428840" y="1413000"/>
            <a:ext cx="7175520" cy="515304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74" name=""/>
          <p:cNvSpPr/>
          <p:nvPr/>
        </p:nvSpPr>
        <p:spPr>
          <a:xfrm>
            <a:off x="5294520" y="12682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ipertens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56360" y="1916280"/>
            <a:ext cx="22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suficiencia renal crónica termin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78800" y="2637000"/>
            <a:ext cx="204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epresión en adultos mayores de 15 añ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78520" y="393372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iabe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62160" y="4653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VIH/SID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34920" y="177336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Otros 37 problemas, cada uno &lt;1.5%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68360" y="6524640"/>
            <a:ext cx="78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09BB0-0796-48E4-85A0-2D0A90C093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2DDD0-7C6A-4C16-8F6A-8A8FF56F3DA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rtos cambios,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“final”: Financiamiento público predo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visión: distintos modelos, público, privado y mi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 Chile en la dirección correcta? (Si, pero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F283C-F80E-47B8-B1D4-BCD5758D626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hile en el contexto internacional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413000"/>
            <a:ext cx="4537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l año 2004 el PIB per cápita de Chile fue el segundo más alto después de Méx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de el año 2000 el crecimiento económico de Chile ha sido moderado, algo mejor y más estable que el de la reg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206" t="2769" r="1073" b="3443"/>
          <a:stretch/>
        </p:blipFill>
        <p:spPr>
          <a:xfrm>
            <a:off x="5508720" y="1268280"/>
            <a:ext cx="3384360" cy="2613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2209" t="2158" r="1851" b="2679"/>
          <a:stretch/>
        </p:blipFill>
        <p:spPr>
          <a:xfrm>
            <a:off x="5508720" y="3976560"/>
            <a:ext cx="3382920" cy="2692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05640" y="6597720"/>
            <a:ext cx="14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ente: www.worldbank.org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3640" y="11970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1268280"/>
            <a:ext cx="180036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IB per cápita año 2004 (US$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4005360"/>
            <a:ext cx="266400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sa de crecimiento anual del PIB 2000, 2003, 2004 (%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85CF8-01DC-4867-A8DB-1E1A729924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hile en el contexto internacional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388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icadores de salud chilenos entre los mejores de la reg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similares a los de países industrializados, como Estados Unidos e Inglat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fil epidemiológico y demográfico de Chile cada vez más parecido al de los países desarroll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3529080" cy="2766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64000" y="3933720"/>
            <a:ext cx="3529080" cy="2706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05640" y="6597720"/>
            <a:ext cx="14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ente: www.worldbank.org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1268280"/>
            <a:ext cx="266364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peranza de vida al nacer, total 2004 (años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9080" y="3992400"/>
            <a:ext cx="266364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sa de mortalidad, menores de 5 años 2004 (por 1000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7281-7744-4084-8F68-B707F0FC12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l financiamiento y gasto en salud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049F7-2F1A-409C-A85D-3C1BD38CA0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280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ntro del contexto latinoamericano, pareciera haber espacio en Chile para el crecimiento del gasto total en sal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mbién podría aumentar la participación pública en el ga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83640" y="4925880"/>
            <a:ext cx="50472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419640" y="1628640"/>
            <a:ext cx="5760720" cy="4440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16200000">
            <a:off x="2788200" y="3291120"/>
            <a:ext cx="1739880" cy="246240"/>
          </a:xfrm>
          <a:prstGeom prst="rect">
            <a:avLst/>
          </a:prstGeom>
          <a:solidFill>
            <a:srgbClr val="f2e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Gasto en salud como % del PIB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607680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EA105-1E66-4EEE-9F4B-DD749B5E7F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268280"/>
            <a:ext cx="244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3880" indent="-2638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 el enriquecimiento de los países, el financiamiento de la salud se socializ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esto, se espera que el porcentaje de financiamiento de salud público en Chile aumente considerable-ment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59280" y="1401840"/>
            <a:ext cx="6084720" cy="4632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60720" y="602136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20000" y="5373720"/>
            <a:ext cx="288720" cy="28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E6A42-203F-448B-BE70-2FE29237F0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structura del gasto en salud en el mund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1978200"/>
            <a:ext cx="22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a participación de la seguridad social en el financiamiento de la salud aumenta con el nivel de ingre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43280" y="1809720"/>
            <a:ext cx="6192720" cy="4356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81160" y="6165720"/>
            <a:ext cx="5639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04000" y="5587920"/>
            <a:ext cx="289080" cy="289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F6F82-4699-43B2-9527-8EB350A118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00:42:05Z</dcterms:created>
  <dc:creator>Ricardo Bitrán</dc:creator>
  <dc:description/>
  <cp:keywords/>
  <dc:language>en-US</dc:language>
  <cp:lastModifiedBy>prupin</cp:lastModifiedBy>
  <dcterms:modified xsi:type="dcterms:W3CDTF">2006-11-13T16:04:45Z</dcterms:modified>
  <cp:revision>6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413082</vt:lpwstr>
  </property>
</Properties>
</file>