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E69C-C7F7-433F-924A-8464A901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28C2-24AC-4B88-9447-D414F19A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65E-3740-4A9D-B2CB-9B985AAD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7FE-50E8-4B20-B1DE-EDC3BB0D5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32A-1458-46C4-B7C1-00D73C7E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6564-8B96-47BB-9964-310942C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79EB-BF61-48D4-BCC7-BAFEA3E4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EECF-440E-439E-B270-BFB634D2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9FF4-618B-4F0D-BDCE-E8BA0F45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2E89-6BE4-41B0-B331-BD40017E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6FF-C225-45D3-93E1-577330DE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D36-7222-460C-B27D-18BDEDDF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4794-E1F4-482C-A388-83A201FE2C7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4000"/>
            </a:br>
            <a:r>
              <a:rPr b="1" lang="es-CL" sz="40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256360" cy="33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11920" y="14292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46040" y="1484280"/>
          <a:ext cx="8229600" cy="4983120"/>
        </p:xfrm>
        <a:graphic>
          <a:graphicData uri="http://schemas.openxmlformats.org/drawingml/2006/table">
            <a:tbl>
              <a:tblPr/>
              <a:tblGrid>
                <a:gridCol w="2459160"/>
                <a:gridCol w="1452600"/>
                <a:gridCol w="1438200"/>
                <a:gridCol w="1439640"/>
                <a:gridCol w="14400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por cada 100.000 habit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,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4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1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8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6,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5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2-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-3,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6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74864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Índice de litigiosidad 2003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8600" y="1268280"/>
          <a:ext cx="8951760" cy="544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68280"/>
                    <a:ext cx="8951760" cy="544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740720" y="216000"/>
            <a:ext cx="143172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628640"/>
          <a:ext cx="7272360" cy="482760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7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77000" y="18900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4760" y="-27360"/>
            <a:ext cx="707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677000" y="216000"/>
            <a:ext cx="1432080" cy="90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395280" y="1557360"/>
          <a:ext cx="8497800" cy="4535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84978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1 y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68280"/>
          <a:ext cx="9144000" cy="511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6600" y="623088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1 y 200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268280"/>
          <a:ext cx="91440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9440" y="630864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77000" y="260280"/>
            <a:ext cx="143208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9080" y="69840"/>
            <a:ext cx="9021960" cy="6716880"/>
            <a:chOff x="19080" y="69840"/>
            <a:chExt cx="9021960" cy="6716880"/>
          </a:xfrm>
        </p:grpSpPr>
        <p:sp>
          <p:nvSpPr>
            <p:cNvPr id="123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0600" y="1044720"/>
              <a:ext cx="8302680" cy="4078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200" y="1284120"/>
              <a:ext cx="100080" cy="3838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71640" y="1353960"/>
              <a:ext cx="98640" cy="37688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214640" y="1523880"/>
              <a:ext cx="100080" cy="3598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7640" y="1581120"/>
              <a:ext cx="99720" cy="3541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02080" y="1636560"/>
              <a:ext cx="99720" cy="3486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44720" y="1806480"/>
              <a:ext cx="100080" cy="3316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89160" y="2130480"/>
              <a:ext cx="98640" cy="29923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32160" y="2187720"/>
              <a:ext cx="100080" cy="2935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75160" y="2271600"/>
              <a:ext cx="110880" cy="28512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30760" y="2343240"/>
              <a:ext cx="100080" cy="2779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3400" y="2441520"/>
              <a:ext cx="100080" cy="2681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18200" y="2583000"/>
              <a:ext cx="98280" cy="2539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0840" y="2597040"/>
              <a:ext cx="100080" cy="2525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5280" y="2736720"/>
              <a:ext cx="98640" cy="2386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48280" y="2836800"/>
              <a:ext cx="100080" cy="22860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91280" y="2978280"/>
              <a:ext cx="100080" cy="2144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35720" y="3203640"/>
              <a:ext cx="98280" cy="19191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8720" y="3232080"/>
              <a:ext cx="99720" cy="18907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23160" y="3244680"/>
              <a:ext cx="98280" cy="18781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65800" y="3344760"/>
              <a:ext cx="100080" cy="17780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08800" y="3386160"/>
              <a:ext cx="100080" cy="17366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53240" y="3486240"/>
              <a:ext cx="100080" cy="16365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6240" y="3570120"/>
              <a:ext cx="100080" cy="15526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40680" y="3598920"/>
              <a:ext cx="98280" cy="15238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83680" y="3740040"/>
              <a:ext cx="99720" cy="1382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26320" y="3824280"/>
              <a:ext cx="111240" cy="12985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1920" y="3879720"/>
              <a:ext cx="100080" cy="1243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24920" y="3922560"/>
              <a:ext cx="100080" cy="120024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569360" y="3965400"/>
              <a:ext cx="9828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12360" y="3965400"/>
              <a:ext cx="99720" cy="11574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55000" y="4361040"/>
              <a:ext cx="100080" cy="7617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99440" y="4572000"/>
              <a:ext cx="100080" cy="5508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42440" y="4614840"/>
              <a:ext cx="100080" cy="50796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786880" y="5022720"/>
              <a:ext cx="98640" cy="1000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0600" y="1044720"/>
              <a:ext cx="1440" cy="4078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5960" y="51228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5960" y="471312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960" y="430380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960" y="38941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960" y="348624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960" y="309096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960" y="2681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5960" y="227160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5960" y="186228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5960" y="1454040"/>
              <a:ext cx="8892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5960" y="1044720"/>
              <a:ext cx="8892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0600" y="5122800"/>
              <a:ext cx="830268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6606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05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1480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3924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1635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8781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225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3655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6100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8641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068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3512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5942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83868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4081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43246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45691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8117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0562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299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5436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5786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0296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2740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51672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76116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7015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725832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750276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774540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99020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8232840" y="5079960"/>
              <a:ext cx="180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847584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8720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8963280" y="5079960"/>
              <a:ext cx="1440" cy="842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2640" y="1339920"/>
              <a:ext cx="974880" cy="196200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22" y="2"/>
                  </a:lnTo>
                  <a:lnTo>
                    <a:pt x="44" y="35"/>
                  </a:lnTo>
                  <a:lnTo>
                    <a:pt x="66" y="139"/>
                  </a:lnTo>
                  <a:lnTo>
                    <a:pt x="88" y="1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716640" y="2031840"/>
              <a:ext cx="5126040" cy="2765520"/>
            </a:xfrm>
            <a:custGeom>
              <a:avLst/>
              <a:gdLst/>
              <a:ahLst/>
              <a:rect l="l" t="t" r="r" b="b"/>
              <a:pathLst>
                <a:path w="463" h="196">
                  <a:moveTo>
                    <a:pt x="0" y="10"/>
                  </a:moveTo>
                  <a:lnTo>
                    <a:pt x="22" y="0"/>
                  </a:lnTo>
                  <a:lnTo>
                    <a:pt x="44" y="22"/>
                  </a:lnTo>
                  <a:lnTo>
                    <a:pt x="66" y="31"/>
                  </a:lnTo>
                  <a:lnTo>
                    <a:pt x="88" y="85"/>
                  </a:lnTo>
                  <a:lnTo>
                    <a:pt x="110" y="158"/>
                  </a:lnTo>
                  <a:lnTo>
                    <a:pt x="132" y="62"/>
                  </a:lnTo>
                  <a:lnTo>
                    <a:pt x="154" y="81"/>
                  </a:lnTo>
                  <a:lnTo>
                    <a:pt x="176" y="116"/>
                  </a:lnTo>
                  <a:lnTo>
                    <a:pt x="198" y="52"/>
                  </a:lnTo>
                  <a:lnTo>
                    <a:pt x="220" y="122"/>
                  </a:lnTo>
                  <a:lnTo>
                    <a:pt x="242" y="135"/>
                  </a:lnTo>
                  <a:lnTo>
                    <a:pt x="264" y="165"/>
                  </a:lnTo>
                  <a:lnTo>
                    <a:pt x="287" y="102"/>
                  </a:lnTo>
                  <a:lnTo>
                    <a:pt x="309" y="141"/>
                  </a:lnTo>
                  <a:lnTo>
                    <a:pt x="331" y="115"/>
                  </a:lnTo>
                  <a:lnTo>
                    <a:pt x="353" y="29"/>
                  </a:lnTo>
                  <a:lnTo>
                    <a:pt x="375" y="107"/>
                  </a:lnTo>
                  <a:lnTo>
                    <a:pt x="397" y="132"/>
                  </a:lnTo>
                  <a:lnTo>
                    <a:pt x="419" y="120"/>
                  </a:lnTo>
                  <a:lnTo>
                    <a:pt x="441" y="135"/>
                  </a:lnTo>
                  <a:lnTo>
                    <a:pt x="463" y="19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9520" y="12985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3960" y="1327320"/>
              <a:ext cx="65160" cy="8388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0" y="0"/>
                  </a:moveTo>
                  <a:lnTo>
                    <a:pt x="41" y="26"/>
                  </a:lnTo>
                  <a:lnTo>
                    <a:pt x="20" y="53"/>
                  </a:lnTo>
                  <a:lnTo>
                    <a:pt x="0" y="26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36960" y="179244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9600" y="32590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24040" y="153828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5720" y="208908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83160" y="213048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26160" y="1989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70600" y="230040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413240" y="242712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58040" y="31892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00680" y="4219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45120" y="286380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88120" y="3132000"/>
              <a:ext cx="66600" cy="8604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1120" y="36259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75560" y="27241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8200" y="3711600"/>
              <a:ext cx="6696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63000" y="3894120"/>
              <a:ext cx="6480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0" y="0"/>
                  </a:moveTo>
                  <a:lnTo>
                    <a:pt x="41" y="27"/>
                  </a:lnTo>
                  <a:lnTo>
                    <a:pt x="20" y="54"/>
                  </a:lnTo>
                  <a:lnTo>
                    <a:pt x="0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05640" y="4317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9800" y="34290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04240" y="397980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47240" y="361332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91680" y="2398680"/>
              <a:ext cx="65160" cy="84240"/>
            </a:xfrm>
            <a:custGeom>
              <a:avLst/>
              <a:gdLst/>
              <a:ahLst/>
              <a:rect l="l" t="t" r="r" b="b"/>
              <a:pathLst>
                <a:path w="41" h="53">
                  <a:moveTo>
                    <a:pt x="21" y="0"/>
                  </a:moveTo>
                  <a:lnTo>
                    <a:pt x="41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834320" y="3498840"/>
              <a:ext cx="6696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77320" y="385272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6"/>
                  </a:lnTo>
                  <a:lnTo>
                    <a:pt x="21" y="53"/>
                  </a:lnTo>
                  <a:lnTo>
                    <a:pt x="0" y="26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21760" y="3683160"/>
              <a:ext cx="66600" cy="8388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64760" y="3894120"/>
              <a:ext cx="66600" cy="85680"/>
            </a:xfrm>
            <a:custGeom>
              <a:avLst/>
              <a:gdLst/>
              <a:ahLst/>
              <a:rect l="l" t="t" r="r" b="b"/>
              <a:pathLst>
                <a:path w="42" h="54">
                  <a:moveTo>
                    <a:pt x="21" y="0"/>
                  </a:moveTo>
                  <a:lnTo>
                    <a:pt x="42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809200" y="4754520"/>
              <a:ext cx="65160" cy="85680"/>
            </a:xfrm>
            <a:custGeom>
              <a:avLst/>
              <a:gdLst/>
              <a:ahLst/>
              <a:rect l="l" t="t" r="r" b="b"/>
              <a:pathLst>
                <a:path w="41" h="54">
                  <a:moveTo>
                    <a:pt x="21" y="0"/>
                  </a:moveTo>
                  <a:lnTo>
                    <a:pt x="41" y="27"/>
                  </a:lnTo>
                  <a:lnTo>
                    <a:pt x="21" y="54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5520" y="282600"/>
              <a:ext cx="3254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Estado de Derecho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13560" y="57780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3040" y="5008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560" y="4600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4560" y="41911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4560" y="378144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4560" y="33717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4560" y="297828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4560" y="2568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94560" y="2158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560" y="174960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4560" y="133992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800" y="932040"/>
              <a:ext cx="320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900000">
              <a:off x="3355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900000">
              <a:off x="200880" y="56080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900000">
              <a:off x="749880" y="54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900000">
              <a:off x="97308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900000">
              <a:off x="1447560" y="5341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900000">
              <a:off x="1035720" y="568116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972720" y="584028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enadi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199944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900000">
              <a:off x="1918800" y="56066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900000">
              <a:off x="2480760" y="5434920"/>
              <a:ext cx="63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900000">
              <a:off x="2641320" y="5479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900000">
              <a:off x="2984760" y="543348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900000">
              <a:off x="3229920" y="544320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8900000">
              <a:off x="3597120" y="537012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8900000">
              <a:off x="3276720" y="5649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8900000">
              <a:off x="3994920" y="5401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8900000">
              <a:off x="4344120" y="537012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8900000">
              <a:off x="4415760" y="54428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8900000">
              <a:off x="4761360" y="540504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8900000">
              <a:off x="4959360" y="54147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8900000">
              <a:off x="5048280" y="549540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8900000">
              <a:off x="5461920" y="541620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8900000">
              <a:off x="5024520" y="5743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8900000">
              <a:off x="6005160" y="538920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8900000">
              <a:off x="6096240" y="54680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8900000">
              <a:off x="6599160" y="533520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900000">
              <a:off x="6578640" y="54712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8900000">
              <a:off x="6871320" y="54320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7083360" y="5471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7393680" y="54288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7523280" y="54795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7824960" y="54572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8011080" y="549036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8560800" y="5322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6200000">
              <a:off x="-237240" y="2969280"/>
              <a:ext cx="80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88040" y="1454040"/>
              <a:ext cx="1395360" cy="43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2680" y="1622520"/>
              <a:ext cx="287280" cy="9828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66352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0440" y="1679400"/>
              <a:ext cx="3002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1680" y="163656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21" y="0"/>
                  </a:moveTo>
                  <a:lnTo>
                    <a:pt x="42" y="27"/>
                  </a:lnTo>
                  <a:lnTo>
                    <a:pt x="21" y="53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3080" y="1552680"/>
              <a:ext cx="42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080" y="69840"/>
              <a:ext cx="9021960" cy="67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43964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294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482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82440" y="252360"/>
            <a:ext cx="8912160" cy="6428520"/>
            <a:chOff x="82440" y="252360"/>
            <a:chExt cx="8912160" cy="6428520"/>
          </a:xfrm>
        </p:grpSpPr>
        <p:sp>
          <p:nvSpPr>
            <p:cNvPr id="630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900000" y="1428840"/>
              <a:ext cx="8093160" cy="385452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971640" y="1714680"/>
              <a:ext cx="95040" cy="3568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9600" y="1863720"/>
              <a:ext cx="95400" cy="3419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47920" y="1882800"/>
              <a:ext cx="95040" cy="3400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85880" y="2149560"/>
              <a:ext cx="95400" cy="3133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24200" y="2206800"/>
              <a:ext cx="95040" cy="3076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60720" y="2303640"/>
              <a:ext cx="96840" cy="2979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98680" y="2513160"/>
              <a:ext cx="96840" cy="277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637000" y="2532240"/>
              <a:ext cx="95040" cy="2751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874960" y="2624040"/>
              <a:ext cx="95400" cy="265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11292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351240" y="2682720"/>
              <a:ext cx="95400" cy="2600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9200" y="2798640"/>
              <a:ext cx="95400" cy="248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27520" y="2817720"/>
              <a:ext cx="95040" cy="246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65480" y="3043080"/>
              <a:ext cx="95400" cy="2240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303800" y="3156120"/>
              <a:ext cx="95040" cy="21272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541760" y="3174840"/>
              <a:ext cx="95400" cy="2108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780080" y="3232080"/>
              <a:ext cx="96840" cy="2051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18040" y="3271680"/>
              <a:ext cx="96840" cy="2011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6360" y="3403440"/>
              <a:ext cx="96840" cy="1879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494320" y="3498840"/>
              <a:ext cx="95400" cy="1784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32640" y="3557520"/>
              <a:ext cx="9504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70600" y="3557520"/>
              <a:ext cx="95400" cy="1725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208560" y="3595680"/>
              <a:ext cx="95400" cy="1687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46880" y="3630600"/>
              <a:ext cx="95040" cy="1652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684840" y="3689280"/>
              <a:ext cx="95400" cy="159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23160" y="3803760"/>
              <a:ext cx="95040" cy="147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61120" y="4127400"/>
              <a:ext cx="95400" cy="1155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399440" y="4238640"/>
              <a:ext cx="95040" cy="1044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37400" y="4257720"/>
              <a:ext cx="95400" cy="1025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873920" y="4316400"/>
              <a:ext cx="96840" cy="96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112240" y="4734000"/>
              <a:ext cx="96840" cy="54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50200" y="4791240"/>
              <a:ext cx="95400" cy="492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588520" y="5245200"/>
              <a:ext cx="95040" cy="38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00000" y="1428840"/>
              <a:ext cx="1800" cy="385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60400" y="528336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60400" y="48974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60400" y="4513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60400" y="4127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60400" y="3741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60400" y="33577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60400" y="297180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860400" y="258588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60400" y="220032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60400" y="1814400"/>
              <a:ext cx="810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60400" y="1428840"/>
              <a:ext cx="81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00000" y="5283360"/>
              <a:ext cx="8093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9000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1138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13762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16146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8525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20908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2328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V="1">
              <a:off x="25653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28036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30416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3279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3517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755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994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23216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44704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7084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49482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1865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54230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56610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58993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13728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37524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66135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685152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708984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3278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5661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78040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804060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827892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8516880" y="523980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875520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8993160" y="523980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20600" y="1814400"/>
              <a:ext cx="474840" cy="925560"/>
            </a:xfrm>
            <a:custGeom>
              <a:avLst/>
              <a:gdLst/>
              <a:ahLst/>
              <a:rect l="l" t="t" r="r" b="b"/>
              <a:pathLst>
                <a:path w="294" h="528">
                  <a:moveTo>
                    <a:pt x="0" y="0"/>
                  </a:moveTo>
                  <a:lnTo>
                    <a:pt x="147" y="88"/>
                  </a:lnTo>
                  <a:lnTo>
                    <a:pt x="294" y="5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685960" y="2432160"/>
              <a:ext cx="238320" cy="11826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13360" y="2766960"/>
              <a:ext cx="237960" cy="12337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27600" y="3125880"/>
              <a:ext cx="3808440" cy="1668240"/>
            </a:xfrm>
            <a:custGeom>
              <a:avLst/>
              <a:gdLst/>
              <a:ahLst/>
              <a:rect l="l" t="t" r="r" b="b"/>
              <a:pathLst>
                <a:path w="2352" h="952">
                  <a:moveTo>
                    <a:pt x="0" y="15"/>
                  </a:moveTo>
                  <a:lnTo>
                    <a:pt x="147" y="411"/>
                  </a:lnTo>
                  <a:lnTo>
                    <a:pt x="294" y="367"/>
                  </a:lnTo>
                  <a:lnTo>
                    <a:pt x="441" y="72"/>
                  </a:lnTo>
                  <a:lnTo>
                    <a:pt x="588" y="279"/>
                  </a:lnTo>
                  <a:lnTo>
                    <a:pt x="735" y="0"/>
                  </a:lnTo>
                  <a:lnTo>
                    <a:pt x="882" y="675"/>
                  </a:lnTo>
                  <a:lnTo>
                    <a:pt x="1029" y="44"/>
                  </a:lnTo>
                  <a:lnTo>
                    <a:pt x="1176" y="336"/>
                  </a:lnTo>
                  <a:lnTo>
                    <a:pt x="1323" y="336"/>
                  </a:lnTo>
                  <a:lnTo>
                    <a:pt x="1470" y="864"/>
                  </a:lnTo>
                  <a:lnTo>
                    <a:pt x="1617" y="835"/>
                  </a:lnTo>
                  <a:lnTo>
                    <a:pt x="1764" y="675"/>
                  </a:lnTo>
                  <a:lnTo>
                    <a:pt x="1911" y="747"/>
                  </a:lnTo>
                  <a:lnTo>
                    <a:pt x="2058" y="615"/>
                  </a:lnTo>
                  <a:lnTo>
                    <a:pt x="2205" y="499"/>
                  </a:lnTo>
                  <a:lnTo>
                    <a:pt x="2352" y="9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985680" y="17780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224000" y="193212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461960" y="27036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76560" y="213516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51040" y="2395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8936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79880" y="272880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1784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794120" y="3114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032440" y="38098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270400" y="3732120"/>
              <a:ext cx="66600" cy="7488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506920" y="321480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45240" y="357840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983200" y="3089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21520" y="427212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59480" y="31654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697800" y="367812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35760" y="36781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74080" y="46036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12040" y="45529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50000" y="42721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88320" y="43988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124840" y="416736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8362800" y="39639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601120" y="475776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811240" y="252360"/>
              <a:ext cx="37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cc"/>
                  </a:solidFill>
                  <a:latin typeface="Arial"/>
                </a:rPr>
                <a:t>Indice de control de la corrupció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07000" y="541440"/>
              <a:ext cx="1628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Arial"/>
                </a:rPr>
                <a:t>Banco Mund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4680" y="5199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49440" y="4813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440" y="4429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49440" y="4043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49440" y="36576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9440" y="3273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49440" y="28875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9440" y="25020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9440" y="2116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9440" y="17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4200" y="13446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8900000">
              <a:off x="119880" y="573336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8900000">
              <a:off x="915480" y="549864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8900000">
              <a:off x="921240" y="559872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ham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8900000">
              <a:off x="694440" y="5785920"/>
              <a:ext cx="12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ntigua y Barbu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8900000">
              <a:off x="1393920" y="56001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arb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8900000">
              <a:off x="1561680" y="56286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8900000">
              <a:off x="1914480" y="5581440"/>
              <a:ext cx="596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rena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18900000">
              <a:off x="2169360" y="55713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18900000">
              <a:off x="2343960" y="5603040"/>
              <a:ext cx="65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urina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18900000">
              <a:off x="2269440" y="57272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Kitts y Nev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18900000">
              <a:off x="2026080" y="5925960"/>
              <a:ext cx="169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 Vincent y Granadi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18900000">
              <a:off x="3139920" y="5562360"/>
              <a:ext cx="55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St.Luc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18900000">
              <a:off x="3303360" y="5581440"/>
              <a:ext cx="678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Domin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18900000">
              <a:off x="3092400" y="578412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8900000">
              <a:off x="3837600" y="55735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8900000">
              <a:off x="4195440" y="552096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el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8900000">
              <a:off x="4459680" y="551160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8900000">
              <a:off x="4491360" y="559728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8900000">
              <a:off x="4856400" y="55465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8900000">
              <a:off x="4930560" y="561276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8900000">
              <a:off x="5296680" y="55591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y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8900000">
              <a:off x="5694120" y="549252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8900000">
              <a:off x="5583600" y="563652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18900000">
              <a:off x="5916600" y="559836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18900000">
              <a:off x="5478120" y="588276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8900000">
              <a:off x="6454440" y="557496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18900000">
              <a:off x="6623280" y="560340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8900000">
              <a:off x="6794280" y="563040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18900000">
              <a:off x="7171200" y="5571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18900000">
              <a:off x="7503480" y="553212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18900000">
              <a:off x="7531560" y="561888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8900000">
              <a:off x="7821720" y="5595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18900000">
              <a:off x="8320680" y="548748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16200000">
              <a:off x="-149400" y="324900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Percent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16200000">
              <a:off x="238680" y="3302640"/>
              <a:ext cx="68400" cy="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02120" y="1606680"/>
              <a:ext cx="137016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48200" y="1673280"/>
              <a:ext cx="2682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639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618160" y="1716120"/>
              <a:ext cx="27000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718240" y="1679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933520" y="16365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6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797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77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1619280" y="833400"/>
            <a:ext cx="5977080" cy="377496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04280" y="189000"/>
            <a:ext cx="143172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aíses con presupuestos constitucionalmente garantiza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557360"/>
          <a:ext cx="8229600" cy="5049720"/>
        </p:xfrm>
        <a:graphic>
          <a:graphicData uri="http://schemas.openxmlformats.org/drawingml/2006/table">
            <a:tbl>
              <a:tblPr/>
              <a:tblGrid>
                <a:gridCol w="3192480"/>
                <a:gridCol w="1679400"/>
                <a:gridCol w="1678320"/>
                <a:gridCol w="1679400"/>
              </a:tblGrid>
              <a:tr h="540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-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-16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9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,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l Caso de Chile 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(evolución presupuesto judici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76360" y="1916280"/>
          <a:ext cx="6058080" cy="247644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96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I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1476360" y="5013360"/>
            <a:ext cx="698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997, Gasto Total = US$ 109.394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004, Gasto Total = US$ 211.178.000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Argentina y República Dominica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67640" y="216000"/>
            <a:ext cx="143208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dii</cp:lastModifiedBy>
  <dcterms:modified xsi:type="dcterms:W3CDTF">2006-10-27T16:38:40Z</dcterms:modified>
  <cp:revision>63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23478611</vt:r8>
  </property>
  <property fmtid="{D5CDD505-2E9C-101B-9397-08002B2CF9AE}" pid="3" name="_AuthorEmail">
    <vt:lpwstr>pamela.varela@cejamericas.org</vt:lpwstr>
  </property>
  <property fmtid="{D5CDD505-2E9C-101B-9397-08002B2CF9AE}" pid="4" name="_AuthorEmailDisplayName">
    <vt:lpwstr>Pamela Varela</vt:lpwstr>
  </property>
  <property fmtid="{D5CDD505-2E9C-101B-9397-08002B2CF9AE}" pid="5" name="_EmailSubject">
    <vt:lpwstr>Formato</vt:lpwstr>
  </property>
  <property fmtid="{D5CDD505-2E9C-101B-9397-08002B2CF9AE}" pid="6" name="_PreviousAdHocReviewCycleID">
    <vt:r8>1709968934</vt:r8>
  </property>
  <property fmtid="{D5CDD505-2E9C-101B-9397-08002B2CF9AE}" pid="7" name="_ReviewingToolsShownOnce">
    <vt:lpwstr/>
  </property>
</Properties>
</file>