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029-898F-44F9-9738-E038E7F4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A25-86E3-46F8-921B-C6433D6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280-C1A0-4776-9695-043B0F4F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D3B-F1AB-4CA3-A276-2B568BBA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F4F-A069-49BB-907F-F524F37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61A-96D3-45F7-9DD4-7FE9862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7FB-F21A-4D68-9B48-BC215592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D32-E97B-4DEB-A738-DBE3FA9B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A15-E17A-4BCC-BE90-84B22E0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6E6-396D-4FA2-885F-E7E50C4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F83-6435-4742-A6CF-354B81E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F8B-8484-48EC-92F9-CFD8094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882C-D6D8-4369-8F60-908973FA5B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4000"/>
            </a:b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563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11920" y="14292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46040" y="1484280"/>
          <a:ext cx="8229600" cy="4983120"/>
        </p:xfrm>
        <a:graphic>
          <a:graphicData uri="http://schemas.openxmlformats.org/drawingml/2006/table">
            <a:tbl>
              <a:tblPr/>
              <a:tblGrid>
                <a:gridCol w="2459160"/>
                <a:gridCol w="1452600"/>
                <a:gridCol w="1438200"/>
                <a:gridCol w="1439640"/>
                <a:gridCol w="1440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por cada 100.000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8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-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4864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Índice de litigiosidad 2003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268280"/>
          <a:ext cx="8951760" cy="54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8280"/>
                    <a:ext cx="895176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4072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628640"/>
          <a:ext cx="7272360" cy="482760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77000" y="18900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95280" y="1557360"/>
          <a:ext cx="8497800" cy="45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84978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1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68280"/>
          <a:ext cx="914400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600" y="62308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1 y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6828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440" y="6308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080" y="69840"/>
            <a:ext cx="9021960" cy="6716880"/>
            <a:chOff x="19080" y="69840"/>
            <a:chExt cx="9021960" cy="6716880"/>
          </a:xfrm>
        </p:grpSpPr>
        <p:sp>
          <p:nvSpPr>
            <p:cNvPr id="123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200" y="1284120"/>
              <a:ext cx="100080" cy="383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71640" y="1353960"/>
              <a:ext cx="98640" cy="37688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4640" y="1523880"/>
              <a:ext cx="100080" cy="3598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7640" y="1581120"/>
              <a:ext cx="99720" cy="354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2080" y="1636560"/>
              <a:ext cx="99720" cy="3486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4720" y="1806480"/>
              <a:ext cx="100080" cy="3316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89160" y="2130480"/>
              <a:ext cx="98640" cy="2992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2160" y="2187720"/>
              <a:ext cx="100080" cy="2935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5160" y="2271600"/>
              <a:ext cx="110880" cy="2851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0760" y="2343240"/>
              <a:ext cx="100080" cy="2779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3400" y="2441520"/>
              <a:ext cx="100080" cy="2681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8200" y="2583000"/>
              <a:ext cx="98280" cy="2539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0840" y="2597040"/>
              <a:ext cx="100080" cy="2525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2736720"/>
              <a:ext cx="98640" cy="2386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8280" y="2836800"/>
              <a:ext cx="100080" cy="2286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1280" y="2978280"/>
              <a:ext cx="100080" cy="2144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5720" y="3203640"/>
              <a:ext cx="98280" cy="1919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8720" y="3232080"/>
              <a:ext cx="99720" cy="189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3160" y="3244680"/>
              <a:ext cx="98280" cy="18781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5800" y="3344760"/>
              <a:ext cx="100080" cy="17780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8800" y="3386160"/>
              <a:ext cx="100080" cy="173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53240" y="3486240"/>
              <a:ext cx="100080" cy="1636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6240" y="3570120"/>
              <a:ext cx="100080" cy="1552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0680" y="3598920"/>
              <a:ext cx="98280" cy="1523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3740040"/>
              <a:ext cx="99720" cy="1382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6320" y="3824280"/>
              <a:ext cx="111240" cy="129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1920" y="3879720"/>
              <a:ext cx="100080" cy="1243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4920" y="3922560"/>
              <a:ext cx="100080" cy="1200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3965400"/>
              <a:ext cx="9828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2360" y="3965400"/>
              <a:ext cx="9972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5000" y="4361040"/>
              <a:ext cx="100080" cy="761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99440" y="4572000"/>
              <a:ext cx="100080" cy="550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42440" y="4614840"/>
              <a:ext cx="100080" cy="5079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86880" y="5022720"/>
              <a:ext cx="98640" cy="100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600" y="1044720"/>
              <a:ext cx="1440" cy="407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51228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960" y="471312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960" y="430380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960" y="38941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960" y="348624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960" y="309096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960" y="2681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960" y="22716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960" y="1862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960" y="145404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960" y="10447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0600" y="5122800"/>
              <a:ext cx="83026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06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05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148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3924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5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878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225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655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100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8641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068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3512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942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868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81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24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691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8117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562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299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436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86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029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2740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167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611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015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58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5027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7454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990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328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4758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720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963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2640" y="1339920"/>
              <a:ext cx="974880" cy="196200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22" y="2"/>
                  </a:lnTo>
                  <a:lnTo>
                    <a:pt x="44" y="35"/>
                  </a:lnTo>
                  <a:lnTo>
                    <a:pt x="66" y="139"/>
                  </a:lnTo>
                  <a:lnTo>
                    <a:pt x="88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6640" y="2031840"/>
              <a:ext cx="5126040" cy="2765520"/>
            </a:xfrm>
            <a:custGeom>
              <a:avLst/>
              <a:gdLst/>
              <a:ahLst/>
              <a:rect l="l" t="t" r="r" b="b"/>
              <a:pathLst>
                <a:path w="463" h="196">
                  <a:moveTo>
                    <a:pt x="0" y="10"/>
                  </a:moveTo>
                  <a:lnTo>
                    <a:pt x="22" y="0"/>
                  </a:lnTo>
                  <a:lnTo>
                    <a:pt x="44" y="22"/>
                  </a:lnTo>
                  <a:lnTo>
                    <a:pt x="66" y="31"/>
                  </a:lnTo>
                  <a:lnTo>
                    <a:pt x="88" y="85"/>
                  </a:lnTo>
                  <a:lnTo>
                    <a:pt x="110" y="158"/>
                  </a:lnTo>
                  <a:lnTo>
                    <a:pt x="132" y="62"/>
                  </a:lnTo>
                  <a:lnTo>
                    <a:pt x="154" y="81"/>
                  </a:lnTo>
                  <a:lnTo>
                    <a:pt x="176" y="116"/>
                  </a:lnTo>
                  <a:lnTo>
                    <a:pt x="198" y="52"/>
                  </a:lnTo>
                  <a:lnTo>
                    <a:pt x="220" y="122"/>
                  </a:lnTo>
                  <a:lnTo>
                    <a:pt x="242" y="135"/>
                  </a:lnTo>
                  <a:lnTo>
                    <a:pt x="264" y="165"/>
                  </a:lnTo>
                  <a:lnTo>
                    <a:pt x="287" y="102"/>
                  </a:lnTo>
                  <a:lnTo>
                    <a:pt x="309" y="141"/>
                  </a:lnTo>
                  <a:lnTo>
                    <a:pt x="331" y="115"/>
                  </a:lnTo>
                  <a:lnTo>
                    <a:pt x="353" y="29"/>
                  </a:lnTo>
                  <a:lnTo>
                    <a:pt x="375" y="107"/>
                  </a:lnTo>
                  <a:lnTo>
                    <a:pt x="397" y="132"/>
                  </a:lnTo>
                  <a:lnTo>
                    <a:pt x="419" y="120"/>
                  </a:lnTo>
                  <a:lnTo>
                    <a:pt x="441" y="135"/>
                  </a:lnTo>
                  <a:lnTo>
                    <a:pt x="463" y="1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520" y="12985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3960" y="1327320"/>
              <a:ext cx="65160" cy="8388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0" y="0"/>
                  </a:moveTo>
                  <a:lnTo>
                    <a:pt x="41" y="26"/>
                  </a:lnTo>
                  <a:lnTo>
                    <a:pt x="20" y="53"/>
                  </a:lnTo>
                  <a:lnTo>
                    <a:pt x="0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6960" y="179244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9600" y="3259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24040" y="153828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5720" y="208908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83160" y="21304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6160" y="1989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0600" y="230040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3240" y="242712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8040" y="31892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00680" y="4219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5120" y="286380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120" y="3132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1120" y="36259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75560" y="27241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8200" y="371160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3000" y="3894120"/>
              <a:ext cx="6480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5640" y="4317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9800" y="34290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4240" y="39798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7240" y="361332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680" y="239868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1" y="0"/>
                  </a:moveTo>
                  <a:lnTo>
                    <a:pt x="41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4320" y="349884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77320" y="38527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21760" y="368316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64760" y="38941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09200" y="475452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1" y="0"/>
                  </a:moveTo>
                  <a:lnTo>
                    <a:pt x="41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520" y="2826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Estado de Derech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3560" y="57780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40" y="5008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560" y="460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4560" y="419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3781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560" y="3371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560" y="2978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560" y="256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560" y="215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560" y="1749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560" y="133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800" y="9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3355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900000">
              <a:off x="200880" y="56080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900000">
              <a:off x="749880" y="54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900000">
              <a:off x="97308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900000">
              <a:off x="1447560" y="5341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900000">
              <a:off x="1035720" y="568116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972720" y="584028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ena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199944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900000">
              <a:off x="1918800" y="56066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900000">
              <a:off x="2480760" y="54349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2641320" y="5479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900000">
              <a:off x="298476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900000">
              <a:off x="3229920" y="544320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3597120" y="53701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3276720" y="5649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3994920" y="5401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4344120" y="53701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4415760" y="54428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4761360" y="54050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4959360" y="54147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5048280" y="549540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54619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5024520" y="5743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6005160" y="53892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6096240" y="5468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6599160" y="53352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6578640" y="54712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6871320" y="54320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708336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7393680" y="5428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7523280" y="54795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7824960" y="54572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8011080" y="54903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8560800" y="5322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237240" y="2969280"/>
              <a:ext cx="80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8040" y="1454040"/>
              <a:ext cx="1395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2680" y="1622520"/>
              <a:ext cx="287280" cy="98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6352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1679400"/>
              <a:ext cx="300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1680" y="1636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308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4396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294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482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82440" y="252360"/>
            <a:ext cx="8912160" cy="6428520"/>
            <a:chOff x="82440" y="252360"/>
            <a:chExt cx="8912160" cy="6428520"/>
          </a:xfrm>
        </p:grpSpPr>
        <p:sp>
          <p:nvSpPr>
            <p:cNvPr id="630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1714680"/>
              <a:ext cx="95040" cy="3568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9600" y="1863720"/>
              <a:ext cx="95400" cy="341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1882800"/>
              <a:ext cx="95040" cy="3400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85880" y="2149560"/>
              <a:ext cx="95400" cy="3133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24200" y="2206800"/>
              <a:ext cx="95040" cy="3076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0720" y="2303640"/>
              <a:ext cx="96840" cy="2979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8680" y="2513160"/>
              <a:ext cx="96840" cy="277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37000" y="2532240"/>
              <a:ext cx="95040" cy="2751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4960" y="2624040"/>
              <a:ext cx="95400" cy="265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292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124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9200" y="2798640"/>
              <a:ext cx="95400" cy="248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27520" y="2817720"/>
              <a:ext cx="95040" cy="246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65480" y="3043080"/>
              <a:ext cx="95400" cy="2240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800" y="3156120"/>
              <a:ext cx="95040" cy="2127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1760" y="3174840"/>
              <a:ext cx="95400" cy="2108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0080" y="3232080"/>
              <a:ext cx="96840" cy="2051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8040" y="3271680"/>
              <a:ext cx="96840" cy="2011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6360" y="3403440"/>
              <a:ext cx="96840" cy="1879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94320" y="3498840"/>
              <a:ext cx="95400" cy="1784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32640" y="3557520"/>
              <a:ext cx="9504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70600" y="3557520"/>
              <a:ext cx="9540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08560" y="3595680"/>
              <a:ext cx="95400" cy="1687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46880" y="3630600"/>
              <a:ext cx="95040" cy="1652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840" y="3689280"/>
              <a:ext cx="95400" cy="159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23160" y="3803760"/>
              <a:ext cx="95040" cy="147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4127400"/>
              <a:ext cx="95400" cy="1155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99440" y="4238640"/>
              <a:ext cx="95040" cy="104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7400" y="4257720"/>
              <a:ext cx="95400" cy="102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920" y="4316400"/>
              <a:ext cx="96840" cy="96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12240" y="4734000"/>
              <a:ext cx="96840" cy="54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50200" y="4791240"/>
              <a:ext cx="95400" cy="49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88520" y="5245200"/>
              <a:ext cx="9504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0000" y="1428840"/>
              <a:ext cx="1800" cy="385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0400" y="5283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0400" y="48974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0400" y="4513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0400" y="4127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0400" y="3741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0400" y="33577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0400" y="297180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0400" y="25858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400" y="2200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400" y="1814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0400" y="1428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0000" y="5283360"/>
              <a:ext cx="809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00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8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3762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146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8525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20908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328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5653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8036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0416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279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517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755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94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2321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4704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7084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9482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1865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4230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6610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899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1372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3752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6135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85152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7089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3278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5661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8040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8040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278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516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8755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9931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20600" y="1814400"/>
              <a:ext cx="474840" cy="925560"/>
            </a:xfrm>
            <a:custGeom>
              <a:avLst/>
              <a:gdLst/>
              <a:ahLst/>
              <a:rect l="l" t="t" r="r" b="b"/>
              <a:pathLst>
                <a:path w="294" h="528">
                  <a:moveTo>
                    <a:pt x="0" y="0"/>
                  </a:moveTo>
                  <a:lnTo>
                    <a:pt x="147" y="88"/>
                  </a:lnTo>
                  <a:lnTo>
                    <a:pt x="294" y="5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85960" y="2432160"/>
              <a:ext cx="238320" cy="11826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13360" y="2766960"/>
              <a:ext cx="237960" cy="1233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27600" y="3125880"/>
              <a:ext cx="3808440" cy="1668240"/>
            </a:xfrm>
            <a:custGeom>
              <a:avLst/>
              <a:gdLst/>
              <a:ahLst/>
              <a:rect l="l" t="t" r="r" b="b"/>
              <a:pathLst>
                <a:path w="2352" h="952">
                  <a:moveTo>
                    <a:pt x="0" y="15"/>
                  </a:moveTo>
                  <a:lnTo>
                    <a:pt x="147" y="411"/>
                  </a:lnTo>
                  <a:lnTo>
                    <a:pt x="294" y="367"/>
                  </a:lnTo>
                  <a:lnTo>
                    <a:pt x="441" y="72"/>
                  </a:lnTo>
                  <a:lnTo>
                    <a:pt x="588" y="279"/>
                  </a:lnTo>
                  <a:lnTo>
                    <a:pt x="735" y="0"/>
                  </a:lnTo>
                  <a:lnTo>
                    <a:pt x="882" y="675"/>
                  </a:lnTo>
                  <a:lnTo>
                    <a:pt x="1029" y="44"/>
                  </a:lnTo>
                  <a:lnTo>
                    <a:pt x="1176" y="336"/>
                  </a:lnTo>
                  <a:lnTo>
                    <a:pt x="1323" y="336"/>
                  </a:lnTo>
                  <a:lnTo>
                    <a:pt x="1470" y="864"/>
                  </a:lnTo>
                  <a:lnTo>
                    <a:pt x="1617" y="835"/>
                  </a:lnTo>
                  <a:lnTo>
                    <a:pt x="1764" y="675"/>
                  </a:lnTo>
                  <a:lnTo>
                    <a:pt x="1911" y="747"/>
                  </a:lnTo>
                  <a:lnTo>
                    <a:pt x="2058" y="615"/>
                  </a:lnTo>
                  <a:lnTo>
                    <a:pt x="2205" y="499"/>
                  </a:lnTo>
                  <a:lnTo>
                    <a:pt x="2352" y="9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85680" y="17780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24000" y="193212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1960" y="27036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76560" y="213516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51040" y="2395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936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79880" y="272880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1784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3114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32440" y="38098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70400" y="37321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06920" y="321480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4524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3200" y="3089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21520" y="427212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9480" y="31654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7800" y="367812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5760" y="36781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74080" y="46036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12040" y="45529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50000" y="42721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8320" y="4398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24840" y="416736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6280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01120" y="475776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1240" y="252360"/>
              <a:ext cx="37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control de la corrup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7000" y="54144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4680" y="519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94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440" y="442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9440" y="4043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9440" y="3657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9440" y="3273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9440" y="2887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440" y="2502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9440" y="2116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440" y="17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4200" y="1344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8900000">
              <a:off x="119880" y="57333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900000">
              <a:off x="915480" y="54986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8900000">
              <a:off x="921240" y="55987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8900000">
              <a:off x="694440" y="57859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8900000">
              <a:off x="1393920" y="56001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8900000">
              <a:off x="1561680" y="5628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8900000">
              <a:off x="1914480" y="5581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8900000">
              <a:off x="2169360" y="55713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8900000">
              <a:off x="2343960" y="56030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900000">
              <a:off x="2269440" y="57272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900000">
              <a:off x="2026080" y="592596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anadi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8900000">
              <a:off x="3139920" y="5562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8900000">
              <a:off x="3303360" y="55814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8900000">
              <a:off x="3092400" y="5784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8900000">
              <a:off x="3837600" y="5573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900000">
              <a:off x="4195440" y="55209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8900000">
              <a:off x="4459680" y="55116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8900000">
              <a:off x="4491360" y="55972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900000">
              <a:off x="4856400" y="55465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900000">
              <a:off x="4930560" y="561276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900000">
              <a:off x="5296680" y="55591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900000">
              <a:off x="5694120" y="54925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900000">
              <a:off x="5583600" y="56365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900000">
              <a:off x="5916600" y="5598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900000">
              <a:off x="5478120" y="588276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900000">
              <a:off x="6454440" y="5574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900000">
              <a:off x="6623280" y="560340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900000">
              <a:off x="6794280" y="56304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900000">
              <a:off x="7171200" y="5571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7503480" y="55321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7531560" y="5618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7821720" y="5595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8320680" y="54874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-149400" y="32490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238680" y="3302640"/>
              <a:ext cx="6840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2120" y="1606680"/>
              <a:ext cx="137016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48200" y="1673280"/>
              <a:ext cx="2682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639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18160" y="1716120"/>
              <a:ext cx="2700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18240" y="1679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35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797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77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1619280" y="833400"/>
            <a:ext cx="5977080" cy="3774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aíses con presupuestos constitucionalmente garant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557360"/>
          <a:ext cx="8229600" cy="5049720"/>
        </p:xfrm>
        <a:graphic>
          <a:graphicData uri="http://schemas.openxmlformats.org/drawingml/2006/table">
            <a:tbl>
              <a:tblPr/>
              <a:tblGrid>
                <a:gridCol w="3192480"/>
                <a:gridCol w="1679400"/>
                <a:gridCol w="1678320"/>
                <a:gridCol w="1679400"/>
              </a:tblGrid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16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l Caso de Chile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(evolución presupuesto judic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1916280"/>
          <a:ext cx="6058080" cy="247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76360" y="5013360"/>
            <a:ext cx="69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7, Gasto Total = US$ 109.394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4, Gasto Total = US$ 211.178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Argentina y República Dominic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dii</cp:lastModifiedBy>
  <dcterms:modified xsi:type="dcterms:W3CDTF">2006-10-27T16:38:40Z</dcterms:modified>
  <cp:revision>63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3478611</vt:r8>
  </property>
  <property fmtid="{D5CDD505-2E9C-101B-9397-08002B2CF9AE}" pid="3" name="_AuthorEmail">
    <vt:lpwstr>pamela.varela@cejamericas.org</vt:lpwstr>
  </property>
  <property fmtid="{D5CDD505-2E9C-101B-9397-08002B2CF9AE}" pid="4" name="_AuthorEmailDisplayName">
    <vt:lpwstr>Pamela Varela</vt:lpwstr>
  </property>
  <property fmtid="{D5CDD505-2E9C-101B-9397-08002B2CF9AE}" pid="5" name="_EmailSubject">
    <vt:lpwstr>Formato</vt:lpwstr>
  </property>
  <property fmtid="{D5CDD505-2E9C-101B-9397-08002B2CF9AE}" pid="6" name="_PreviousAdHocReviewCycleID">
    <vt:r8>1709968934</vt:r8>
  </property>
  <property fmtid="{D5CDD505-2E9C-101B-9397-08002B2CF9AE}" pid="7" name="_ReviewingToolsShownOnce">
    <vt:lpwstr/>
  </property>
</Properties>
</file>