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78F-7C0A-4BA9-BB62-5ADEDEAF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07B-FEF1-4F04-84D5-B0A1020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5C9-901F-471E-B76F-FF3B582A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036-4FDE-41C9-A088-D7A39A5F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851-CF8E-4DAE-9E5E-E0BE902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E9D-7D2E-4426-8007-E096E09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228-E99E-4E4F-80AC-3D397FF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382-76C4-4D58-829A-68B22934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B71-96F5-4175-B3EB-A286F98D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3AE-E808-434E-A6AB-79F8F8F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603-7F20-45C9-9E05-D2FF089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432-1A5A-469E-A457-5FEAF96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9A3-244D-4FE9-B1AC-1B33D840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Iris Salinas</cp:lastModifiedBy>
  <cp:lastPrinted>2000-11-03T20:32:36Z</cp:lastPrinted>
  <dcterms:modified xsi:type="dcterms:W3CDTF">2006-08-07T15:32:41Z</dcterms:modified>
  <cp:revision>148</cp:revision>
  <dc:subject/>
  <dc:title>No Slide Title</dc:title>
</cp:coreProperties>
</file>