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9A7-0625-4401-97EE-B865125E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B7E-54D8-4DA2-B55E-2A748367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AB0-AAC7-4E68-88B7-52353956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36A-4F12-4F7F-AC58-F1B7356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207-8CDE-434A-BEE0-46A1F03B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8E5-6753-4375-B014-BF96E35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E0E-E1FE-4186-B138-609EFAF3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EDB-F4C2-494D-B628-0F67F79F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A35-2F07-488A-AA6B-5232C30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A2B-DAA1-4748-B94A-537E106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38B-1090-401F-B71C-D6E8E01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304-686D-47C8-BB26-89C23E9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05A0-136B-48E6-954D-9D75EB00C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Iris Salinas</cp:lastModifiedBy>
  <cp:lastPrinted>2000-11-03T20:32:36Z</cp:lastPrinted>
  <dcterms:modified xsi:type="dcterms:W3CDTF">2006-08-07T15:32:41Z</dcterms:modified>
  <cp:revision>148</cp:revision>
  <dc:subject/>
  <dc:title>No Slide Title</dc:title>
</cp:coreProperties>
</file>