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AD2-FCF2-45BE-9EE9-406ECD88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9FA-665B-45FC-8501-781876F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A18-CEBF-4BB3-8002-A17298B2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1E4-9008-4100-BF23-B7789C1F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CEE-CD61-4F4C-AA1A-4060DE10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3D6-F8FD-4B9A-B54F-D45121D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70C-BDCD-4B78-A5D9-AEB702FE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3B8-29DF-4AA7-A804-3B7AA994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51F-DA7D-44BF-8276-9A39162E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BDD-D95A-41FE-8637-30DA631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959-BC36-44DC-BC7F-1B152C86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EF1-1DCA-46C0-88BA-5EE80E9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8732-0C70-44CC-82B6-868AABA2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Iris Salinas</cp:lastModifiedBy>
  <cp:lastPrinted>2000-11-03T20:32:36Z</cp:lastPrinted>
  <dcterms:modified xsi:type="dcterms:W3CDTF">2006-08-07T15:32:41Z</dcterms:modified>
  <cp:revision>148</cp:revision>
  <dc:subject/>
  <dc:title>No Slide Title</dc:title>
</cp:coreProperties>
</file>