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AC2A-87EE-4CE1-8407-05A872605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61E4-349B-4E94-A96F-7989AFE1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54CA-D80C-4603-B755-1CAE5254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C2FB-C3EF-483B-930F-9764220F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9263-CA70-423E-BEED-A5E9576E4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55E8-3528-4894-B139-EF234121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0B27-D2F0-4530-9A95-AD67060A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F5C-E5FD-426A-80FA-D49A9C53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7BD7-3AC9-4EDA-B9F8-228C0B76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EB9-ECDA-45F5-AD94-6DCDDC8E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9A78-69C6-4DC6-A390-FDE32EC3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8E7-6083-4857-A89B-0888F77E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CD51-75F8-4D14-9AA2-2F57874E9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Iris Salinas</cp:lastModifiedBy>
  <cp:lastPrinted>2000-11-03T20:32:36Z</cp:lastPrinted>
  <dcterms:modified xsi:type="dcterms:W3CDTF">2006-08-07T15:32:41Z</dcterms:modified>
  <cp:revision>148</cp:revision>
  <dc:subject/>
  <dc:title>No Slide Title</dc:title>
</cp:coreProperties>
</file>