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AFC5A7-13A5-438B-9A7B-8C4A6893D6A2}"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E62A3C-EF44-421E-9B28-F2A353E49A25}"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C7D130-BAC6-4E67-BA47-9C30CB910CF7}"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BDA512-E54F-4306-8349-58E8F7B0ADCB}"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74D07-7481-41B0-8308-4DFDB31073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D82EC8A-EEF5-41E0-AFD4-32F81FB6F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B32EF7D-FBA0-4038-81A1-B77EF28FA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D535AEC-41AD-44E5-BDAC-69C4E122C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ED3A7-612B-40A9-90A5-E5A42066E3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4B256E6-4090-4615-B03E-A72689A06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DAA61DB-DC3D-4FFD-8A18-CA58B2A2D4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F455710-696A-4C42-A815-385B547F6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638D34B2-E2B1-492A-8030-C26CAD29B7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75BC3B8-8E77-4053-8E1F-FADD97758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016031B-97EA-4EDD-A764-97A4BAB5F8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3C3FCC9-F334-4860-9E1F-66BD5F6F5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64F4D0C-78E5-4B81-B562-86E12E144E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6E425E1-6879-4E78-B5F6-B18E3F1C78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AD9F33A-5AD6-425E-9B9D-E30D72344D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843D8AF-C41C-412A-B3D2-B897AA11DA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FC20DD90-AD2D-43D0-9DA5-0996A7B67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0EE7797-CC12-47DA-916C-3EF6E8F67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A025FBE-5216-4FAE-A81E-E4A7650F2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1E3C4E49-6B6F-4AD0-A94B-72AE56160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493467A-D30D-4F1B-A9D3-FBAE1A699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A3533FE-47C1-46C4-B71A-1AE01FEFBE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91D304A-F30C-49EB-AAE7-F13346BF8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D190BCF-FA29-47B4-9583-3B7A2A52B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CB1C-B7E8-4EAE-9D19-3AB1AC2AC11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610B-E14C-4239-85A6-85E04065AF2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r>
              <a:rPr b="1" lang="en-US" sz="4400" spc="-1" strike="noStrike">
                <a:solidFill>
                  <a:srgbClr val="000099"/>
                </a:solidFill>
                <a:latin typeface="Tahoma"/>
              </a:rPr>
              <a:t>Parte I</a:t>
            </a: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4277BAB-3C66-465F-BD80-138DADF7CB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CEE8D59-B626-4ACF-85E0-9629A0B655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EB40C9-1D78-48A9-8D08-02167C11C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141E3E-CB58-4D89-9CFC-D91D62086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9092964-8DD7-4CDF-898A-9CEAEE466184}"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95CAC0-047F-4ECA-AFE8-B4B5F85C3A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3483ECC-975E-4F6D-B13F-FB5D1CC27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7607F89-747D-4061-BC57-F650A3429D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B918DFB-48FF-4533-AF7F-7DC7C754A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05D5F0A7-4BE5-492B-8408-E492AE4969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7D9B611-3BF9-43B9-84B8-B9AFC3597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408014C1-E97E-4C14-849A-8656FBBB2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D2BEE7-8A99-4AAB-9E46-A8DD00AE15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957597-766A-4641-9FCE-1DFBE2D52A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BCC0734-C468-448F-8484-A42012B605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04C55D0F-4564-484C-AF72-92391D1B1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6C67E18-3E2D-400B-97C1-000396011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5FEE1C0-8C63-4227-9A48-BCAA58E62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E0D80B8-6E66-4976-ADDE-CDD80601C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A9968866-A41D-4A78-A205-18FF736B0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76F3272-B652-4F64-853B-ED86B84DC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864C180-DFD4-4629-9E67-5D93CE1BC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8FA5CE6-7FD1-4E8F-87BF-2EC02ED0EB2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FFEAAB-A091-4D3C-BA1E-F9E2169971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7ED5258-8BD9-4D8B-99FB-5B25FBB855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F6645ED-E9A0-4700-881F-7A4C2F7DD0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2DE8896-F3B5-4C82-8F33-D2CA469B30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BBAB1EB6-BFCD-4C0F-8011-F64ACE1CA9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76077EA-BEC4-4524-A712-3407253632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8F86BC4-E983-4046-8CCF-4450EDE578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310C13-0BF1-478A-9E67-B86C38187B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8AF5DE9-F3DD-463D-967C-C832A80353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2C1806D-21E7-44C3-9ADA-88EEB03195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1C6C848-DE65-45EA-9664-5D9842EFF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7421AB3-4FF7-4933-B994-0669467F5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A03DC6DC-C088-44E5-8E2E-A686EFA337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75771939-1A6B-4439-9340-F026AA336D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F122BFB-157C-4EF0-AB3A-C53CB0196F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E376202-0916-461E-9EDA-D49BE953A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790018EC-D73A-44A3-A04B-6DD625FA5B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E55ACD71-FB26-4C9D-A9D1-EE93ABAB04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70AE4088-8B17-4AEC-87A8-A7F67DD5A3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ED5C4C-9B13-4D2A-94F0-C2623CE26F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E812AF1-F762-4497-AD4F-E0D486F3F0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46927EA-6CB0-4C66-828C-11408D3DF7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949E4B2-2CEF-485C-87A8-7C3E918142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FF08A0C-2A9B-4F28-AD0E-27F54DE229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46332A1-BB4F-4069-B297-69900EC169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3E0522F-3A2F-4B33-9026-BB2D91876E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9018DC14-84B1-455E-917F-21C61543CA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8BB8EA-7B1F-4F90-A448-CB729CAB2A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F84867B-8CAE-4AA8-ADC7-47107B320D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6ED7E09B-79E7-40E8-8527-078962F447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9D38AE7-DF71-42EF-B81B-1B7BEA8724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AAA61E-5D75-45C1-A3ED-0F8D6D55AC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F701DD7D-4568-4258-A0BA-3E59E0257A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B84948-1569-43B2-9D24-7D77D2AE9D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256956-8E85-4331-96ED-51703F48C3E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074B5E3-C805-4FA9-AD12-97E91CBDC9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328EF76-4247-4828-89FF-E5960B80B0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05B4A3-DE65-43C4-8B9A-C6E42DF2B06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19E890B-97EE-4E0A-B1CE-2AF1C5377D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2994F8A-4A29-4575-84E5-2F985C24CE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18B6814-F77D-4544-9B51-070DDF14CB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3671A8-1BC9-480D-81C5-9A72DB8AB6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9AC6AF-E91D-4E6C-9412-08BAF0C450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C96FEB8F-E5E5-420A-99CF-4551429D4B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E840457-1B68-4B10-B71B-11A8876866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F5196F3-B872-41C0-849A-7CFA599784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FBCAE83C-0097-4D8F-9185-244D17A4F6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0BCA6E6-DAD1-44BE-A622-EBECEE62A1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1EE3AFD-7176-498C-935E-D6A4A8B971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588CB37-DC82-45D1-9487-D3E8180538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F37D9787-C886-4C80-92F9-30F3FB2818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AF40857-472E-4C20-9D49-2E4F0C341D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7FBD85-B162-4C90-9A5C-2BD0E46F41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3269649-31CF-46A6-BDCA-DFB33C905C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B5D5547-2343-4CFF-A6BF-57B05C9C46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6F985B1-8B98-4BCE-9DC8-27E991D102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895DF87-D8B6-4888-B15F-80D3D17C89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6B4EC28-39DF-4D22-BF77-C90C781D71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91DF3EE0-6454-4805-88B9-9B56421A84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D37EA8-7767-420C-941B-382A55536E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305ED20-B3FD-4D65-8972-AD83DA1AC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AA24CF9-68F5-49A2-8682-A4D10D598020}"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1AB8BCC-AE7D-4C8F-83DA-6DA3CD46C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6-10-16T01:37:30Z</dcterms:modified>
  <cp:revision>183</cp:revision>
  <dc:subject/>
  <dc:title>Propuesta Modelo Evaluación Impacto Programa Capacitación</dc:title>
</cp:coreProperties>
</file>