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D184-9F37-4BB6-91E8-E2933580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C605-0F3F-4574-92CC-6B0AD26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A56C-51A6-4A2C-9D3B-C4C3183A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42CE-7503-4B7A-B4EE-0676042C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141E-824B-46F1-8C7B-D3C395A6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0679-93CD-4946-9BC8-E06C35A1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F7A3-5970-4276-8EFC-C7687DAE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3F47-DB29-494C-8A7A-B3343ACB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0D77-992C-4E96-BB74-9BE63697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2010-6D54-42E4-B64F-7006BC14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9B49-DCC1-4BD3-BA6B-FF7457B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6305-8A13-49CF-A6E6-FBF92514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AEE0-99FA-4EA2-9B98-09259C0E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1D1F-57EE-4D71-B2C5-CC0FEE36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BED2-1A75-46C3-BA96-2C841481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7C94-979B-4749-937F-DE5DC36D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7650-1DCA-4801-B331-4D55619D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52CD5-DD05-4DF8-BE6B-8F7DE54C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CA565-C3DC-4456-BEB3-BAF1131F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25C80-89E4-4E9A-A1A3-A4C5F683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50F37-1CB2-47EF-9A6D-56784E7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F156F-F54E-4A80-A6E0-79839C87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452A-EAAF-4E7C-B613-015AAC85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3E77F-3302-4181-BC27-1CAA97A9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A2312-D24D-4E42-817C-B64B64FC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02E9B-B30B-48B6-8420-2E60DDB9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41EC3-59CB-4F23-A5C0-B8B153CF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C7457-39FC-4DB1-ADBA-A2A834AB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666D5-BF19-4FDC-B0E4-FAAA0288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F3C75-ADBF-4835-BFB4-71BFA581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48C9-B3E6-4684-B1F0-216322DC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78AA-62F0-4FB6-BEE4-B04FA1DC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5106-F5A8-4956-8264-0265D504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E71B-BC63-4DBA-AD05-9B9F719C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698E-E876-4CD9-85CA-5E63A341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1DCC6-4A42-4D5F-B7C2-5047DD02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F9EA-57B6-4F6A-8276-1481DB45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4AABE-20A1-4E8C-A890-C68A6FA8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9749D-2FDC-4AAD-BED1-8EFE0DE2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BBC1-AF51-479C-8A8D-63B62454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18959-20E7-456E-B735-41F2605F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43BA-F40B-416D-87D0-37AF8B35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E17C-9FCD-4374-8F80-2618CF93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A328-92D6-4456-86DF-8E7558EA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709C-C154-4EDF-ABD8-BE21F59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077E-F91A-438C-B7C1-758BC379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D175-909F-4BB5-B9E6-68E1C44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B2A4-0045-44B0-8F42-535B1E4E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E5CA-410B-45D1-B2CC-509AF5542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B043-618E-44A0-868D-99080656F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4EA7-E42F-4AB4-B32C-2439606B3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E5D-5D46-4BA7-BF43-77D230B2B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cc"/>
                </a:solidFill>
                <a:latin typeface="Lucida Sans Unicode"/>
              </a:rPr>
              <a:t>Modelos de Actit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lke y Pess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66cc"/>
                </a:solidFill>
                <a:latin typeface="Lucida Sans Unicode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15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5" idx="2"/>
              <a:endCxn id="216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6" idx="2"/>
              <a:endCxn id="222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7" idx="2"/>
              <a:endCxn id="218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8" idx="2"/>
              <a:endCxn id="219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2" idx="2"/>
              <a:endCxn id="217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9" idx="1"/>
              <a:endCxn id="215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1"/>
              <a:endCxn id="215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: Ejemplo de pelotas de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4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2"/>
            <a:endCxn id="23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2"/>
            <a:endCxn id="23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3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1"/>
            <a:endCxn id="23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4" idx="1"/>
            <a:endCxn id="23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nking de “conceptos” o productos “tip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ftware de entrevista, usando A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u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(Ejemplo de motores y pot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do hace ranking de esos per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Cómo pregu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3.- Análisis conjunto adap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 es sobre perfiles más relev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objeto 0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6-10-06T01:03:29Z</dcterms:modified>
  <cp:revision>10</cp:revision>
  <dc:subject/>
  <dc:title>PREFERENCIAS</dc:title>
</cp:coreProperties>
</file>