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28938-5ED9-4A8C-9998-25A84AE4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C020B-0000-404A-A9C1-231D3642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B2E5A-7C99-448A-BE0B-DE21D00C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95D49-ED06-4E0A-A160-42F62DA9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E5C2-4A4A-4F45-A5EF-5030A8CE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FCF9-BA3B-40CD-9855-76BDBEA8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F628-514F-4A44-AD22-58E03AAD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7BDC-3DF1-4794-A5EB-3F0F616D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2D9A-B8A1-4D4F-A2DF-DD4F3052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25E8-2BFB-4E30-A9D9-A57388AD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4AC7-0328-475F-A07C-D0348939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A85CD-18EF-4105-82DA-EA5934E9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EACA-2D81-4D77-993F-6CBC25BB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94CA-A15D-432F-BB63-8C9C6902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E3C6-D7C2-4FD8-8DCD-67AE9FC2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D8A9-0CBF-4CD1-860E-5587A0C4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A8BD-93D1-445E-A41D-CC603C2F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CA8515-7107-4ED4-A702-F7671489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ADDE0-0BD9-4A99-B0F4-4DA2F377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E9BC0-43DD-429B-A1E7-C235C347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32939-19BB-44B7-BBFF-5D70F7A0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C2754-07DF-4022-A6B3-9BDF5C06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F0AF8-4BFC-4C38-A0A0-EB856594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5B998-789A-4E2F-855C-511020DD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003FC-3A6E-4F1B-92CC-891B67EC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E5754-1533-4635-8747-183EA271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8AC8D-FD2D-41F1-AC61-16FA4357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98965-A7C9-4928-AB38-5B13B790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2F2EC-1B63-457C-862C-01370767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AC0AE-0F21-4AED-A27D-B41718AB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8F19D-7BFF-4210-9D6F-49FE725E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9A7FE-1F8A-4882-B2CC-F40126AB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C7CAD-700F-4B74-8E9A-6DC438DA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9C13B-CE81-4AA7-8BAA-16FF2422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7D3E4-5542-447C-8C81-69A9E76C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DD237-4F24-4B12-AE38-D83AA6AF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4E946-D669-4609-9CAF-30D3D342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E6135-B33A-438F-A15D-4854A074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B3418-F4D0-41A9-AB73-8A72E587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73CDA-C397-4FF8-9E43-F6B0B484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E5A0B-7298-46B1-A746-A1592598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2D940-D32E-4869-935D-1B6DFE34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6E0B1-AAB1-40DB-B15D-94AAA693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59C23-958E-4F23-B6C9-9031B554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EBF5-689A-441A-9486-884A411A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9E0CC-9E7C-45F6-8CF6-86F4AF8E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7490-62CE-412C-A875-41E75B8E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92E58-F95C-4336-82F5-231DFCC9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B292-39CC-4A89-AC03-1880489FE8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7CED-CB58-4922-9186-D31B563517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DC34-78CB-44E9-BC43-75281E5F8D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D80A-799A-4308-94F2-C44C083538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FERENCI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está el Modelo de Fishbein Exten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N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C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NB=Creencia social norm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C=Mot.  a cump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nto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pregunta acerca de la preferencia por el largo de distintos autos, algunos responden que son muy largos o muy cortos, mostrando que tienen algún ideal de largo en sus m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cc"/>
                </a:solidFill>
                <a:latin typeface="Lucida Sans Unicode"/>
              </a:rPr>
              <a:t>Modelos de Actitud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actitud hacia los programas de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lang="es-CL" sz="3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global hacia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de que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osee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osición ideal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eso de la característica particular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distancia mé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95280" y="2413080"/>
          <a:ext cx="3744720" cy="2600280"/>
        </p:xfrm>
        <a:graphic>
          <a:graphicData uri="http://schemas.openxmlformats.org/drawingml/2006/table">
            <a:tbl>
              <a:tblPr/>
              <a:tblGrid>
                <a:gridCol w="863640"/>
                <a:gridCol w="1800000"/>
                <a:gridCol w="108108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r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centr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uerp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4789440" y="3356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0040" y="3818160"/>
            <a:ext cx="3538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= percep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= importancia del atrib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 = A, B, C,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 = Concentración,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627360" y="2481120"/>
                <a:ext cx="2253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427640" y="2251080"/>
                <a:ext cx="44830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dea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3541680" y="2137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debe considerar que el consumidor no siempre elige el producto o marca más preferido, existen otras variables que influyen (cupones, tratos especiale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LU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= probabilidad de que el individuo i elij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preferencia del individuo i a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conjunto de marcas de consideración del individu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257800" y="5334120"/>
                <a:ext cx="205740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ros mod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Logit mult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V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3576600" y="2832120"/>
                <a:ext cx="176040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508200" y="4871880"/>
                <a:ext cx="205920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k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k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728640" y="2743200"/>
          <a:ext cx="7932600" cy="16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3260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28640" y="2743200"/>
          <a:ext cx="7929720" cy="33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29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ilke y Pesse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composiciones, donde la utilidad total de un objeto se pesa como la suma de su nivel percibido de atributos y la clasificación de los valores asociados. Estos son juzgados por cada persona de manera explici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Medición de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inferido o utilidad del producto j para el individu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portancia dada por el individuo i sobre el atributo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66cc"/>
                </a:solidFill>
                <a:latin typeface="Lucida Sans Unicode"/>
              </a:rPr>
              <a:t>Modelo de Valor Espe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720520" y="228600"/>
            <a:ext cx="3641760" cy="6448680"/>
            <a:chOff x="2720520" y="228600"/>
            <a:chExt cx="3641760" cy="6448680"/>
          </a:xfrm>
        </p:grpSpPr>
        <p:sp>
          <p:nvSpPr>
            <p:cNvPr id="215" name=""/>
            <p:cNvSpPr/>
            <p:nvPr/>
          </p:nvSpPr>
          <p:spPr>
            <a:xfrm>
              <a:off x="3162240" y="22860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urgimiento de la Neces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62240" y="13712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Búsqueda de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62240" y="3578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refer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62240" y="4705200"/>
              <a:ext cx="3200040" cy="4597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Decisión de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62240" y="5486040"/>
              <a:ext cx="3200040" cy="119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entimientos posteriores a la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"/>
            <p:cNvCxnSpPr>
              <a:stCxn id="215" idx="2"/>
              <a:endCxn id="216" idx="0"/>
            </p:cNvCxnSpPr>
            <p:nvPr/>
          </p:nvCxnSpPr>
          <p:spPr>
            <a:xfrm>
              <a:off x="4762080" y="107928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216" idx="2"/>
              <a:endCxn id="222" idx="0"/>
            </p:cNvCxnSpPr>
            <p:nvPr/>
          </p:nvCxnSpPr>
          <p:spPr>
            <a:xfrm>
              <a:off x="4762080" y="2221920"/>
              <a:ext cx="1080" cy="203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217" idx="2"/>
              <a:endCxn id="218" idx="0"/>
            </p:cNvCxnSpPr>
            <p:nvPr/>
          </p:nvCxnSpPr>
          <p:spPr>
            <a:xfrm>
              <a:off x="4762080" y="4428720"/>
              <a:ext cx="108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8" idx="2"/>
              <a:endCxn id="219" idx="0"/>
            </p:cNvCxnSpPr>
            <p:nvPr/>
          </p:nvCxnSpPr>
          <p:spPr>
            <a:xfrm>
              <a:off x="4762080" y="5190480"/>
              <a:ext cx="108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3162240" y="2435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ercep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" name=""/>
            <p:cNvCxnSpPr>
              <a:stCxn id="222" idx="2"/>
              <a:endCxn id="217" idx="0"/>
            </p:cNvCxnSpPr>
            <p:nvPr/>
          </p:nvCxnSpPr>
          <p:spPr>
            <a:xfrm>
              <a:off x="4762080" y="328572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9" idx="1"/>
              <a:endCxn id="215" idx="1"/>
            </p:cNvCxnSpPr>
            <p:nvPr/>
          </p:nvCxnSpPr>
          <p:spPr>
            <a:xfrm flipH="1" rot="10800000">
              <a:off x="3152160" y="648360"/>
              <a:ext cx="2160" cy="5440680"/>
            </a:xfrm>
            <a:prstGeom prst="bentConnector3">
              <a:avLst>
                <a:gd name="adj1" fmla="val -24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1"/>
              <a:endCxn id="215" idx="1"/>
            </p:cNvCxnSpPr>
            <p:nvPr/>
          </p:nvCxnSpPr>
          <p:spPr>
            <a:xfrm flipH="1" rot="10800000">
              <a:off x="3152160" y="649080"/>
              <a:ext cx="2160" cy="1143000"/>
            </a:xfrm>
            <a:prstGeom prst="bentConnector3">
              <a:avLst>
                <a:gd name="adj1" fmla="val -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>
              <a:off x="2781360" y="2895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81360" y="4952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81360" y="4038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553080" y="23623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1028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tro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oque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ar las preferencias como funciones de múltiples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idea general es que las personas definen su preferencia en función de varios atributos de la clase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Medición de 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retende estimar una función matemática que mida el valor que un producto le da a un 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-&gt; utilidad -&gt; pre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f (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...........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nde n es el número de atributos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el valor del producto i en el atributo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El Proceso de Med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n general, dado que uno no conoce las funciones de valor parcial, entonces, se realiza una transformación para poder medir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unción de valor pa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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jk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si el atributo j está presente al nivel k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producto i y 0 en caso contr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ortancia relativa del nivel k del atributo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2240" y="0"/>
            <a:ext cx="8051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Arial"/>
              </a:rPr>
              <a:t>Ejemplos de Atributos y Niv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52480" y="1143000"/>
            <a:ext cx="655344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año de un envase de café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50 gr         200 gr      300 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embolso Ambul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85%          70%         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00 w        500 w       1000 w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712800"/>
            <a:ext cx="7391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estimación de estas funciones se realiza mediante técnicas estad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colección de datos se realiza me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Análisis Conjunto requiere que el sujeto evalúe objetos en forma hol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por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ducto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: Ejemplo de pelotas de go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quiere comercializar una nueva pelota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gún los clientes, las pelotas de golf poseen 3 características import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cance de la pelota (distancia que logra recorr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medio de d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bién, se conocen los rangos de alternativas factibles para cada una de el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58440" y="4253040"/>
            <a:ext cx="1364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25520" y="3809880"/>
            <a:ext cx="187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iemp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78160" y="4267080"/>
            <a:ext cx="150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11960" y="4253040"/>
            <a:ext cx="108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14280" y="47880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7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134880" y="47880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4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54440" y="47880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14280" y="52452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50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34880" y="52452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6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54440" y="52452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14280" y="568656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2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4880" y="568656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8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54440" y="568656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63960" y="3859200"/>
            <a:ext cx="144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6396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83120" y="3859200"/>
            <a:ext cx="180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8312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25360" y="3789360"/>
            <a:ext cx="59040" cy="239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63960" y="4794120"/>
            <a:ext cx="144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6396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83120" y="4794120"/>
            <a:ext cx="180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8312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86440" y="3859200"/>
            <a:ext cx="60480" cy="232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84400" y="3789360"/>
            <a:ext cx="576252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84400" y="4722840"/>
            <a:ext cx="576252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4400" y="5202360"/>
            <a:ext cx="57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84400" y="5202360"/>
            <a:ext cx="5702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84400" y="5657760"/>
            <a:ext cx="57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84400" y="5657760"/>
            <a:ext cx="5702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84400" y="6114960"/>
            <a:ext cx="576252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133720" y="35053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337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0384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0199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467480" y="3505320"/>
            <a:ext cx="13716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2388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69343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934320" y="5410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934320" y="5867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23888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43800" y="5105520"/>
            <a:ext cx="11430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33520" y="380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urgimiento de la Nece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523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Búsqueda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3730680"/>
            <a:ext cx="3200400" cy="8254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4857840"/>
            <a:ext cx="3200400" cy="459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5638680"/>
            <a:ext cx="320040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entimientos posteriores a l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3" idx="2"/>
            <a:endCxn id="234" idx="0"/>
          </p:cNvCxnSpPr>
          <p:nvPr/>
        </p:nvCxnSpPr>
        <p:spPr>
          <a:xfrm>
            <a:off x="2133360" y="123156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4" idx="2"/>
            <a:endCxn id="240" idx="0"/>
          </p:cNvCxnSpPr>
          <p:nvPr/>
        </p:nvCxnSpPr>
        <p:spPr>
          <a:xfrm>
            <a:off x="2133360" y="2374920"/>
            <a:ext cx="1080" cy="20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5" idx="2"/>
            <a:endCxn id="236" idx="0"/>
          </p:cNvCxnSpPr>
          <p:nvPr/>
        </p:nvCxnSpPr>
        <p:spPr>
          <a:xfrm>
            <a:off x="2133360" y="4581000"/>
            <a:ext cx="108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6" idx="2"/>
            <a:endCxn id="237" idx="0"/>
          </p:cNvCxnSpPr>
          <p:nvPr/>
        </p:nvCxnSpPr>
        <p:spPr>
          <a:xfrm>
            <a:off x="2133360" y="5343480"/>
            <a:ext cx="10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533520" y="2587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ercep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40" idx="2"/>
            <a:endCxn id="235" idx="0"/>
          </p:cNvCxnSpPr>
          <p:nvPr/>
        </p:nvCxnSpPr>
        <p:spPr>
          <a:xfrm>
            <a:off x="2133360" y="343800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7" idx="1"/>
            <a:endCxn id="233" idx="1"/>
          </p:cNvCxnSpPr>
          <p:nvPr/>
        </p:nvCxnSpPr>
        <p:spPr>
          <a:xfrm flipH="1" rot="10800000">
            <a:off x="522720" y="801000"/>
            <a:ext cx="2520" cy="5441040"/>
          </a:xfrm>
          <a:prstGeom prst="bentConnector3">
            <a:avLst>
              <a:gd name="adj1" fmla="val -240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4" idx="1"/>
            <a:endCxn id="233" idx="1"/>
          </p:cNvCxnSpPr>
          <p:nvPr/>
        </p:nvCxnSpPr>
        <p:spPr>
          <a:xfrm flipH="1" rot="10800000">
            <a:off x="522720" y="801000"/>
            <a:ext cx="2520" cy="11437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152280" y="3048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510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4191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922320"/>
            <a:ext cx="46483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individuo estructura las percepciones en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consumidor tiene una función de utilidad para los atributos (la satisfacción varía con niveles alternativos y combinaciones de atribu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A través de algún proceso de evaluación se forma la actitud hacia l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consumid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productor***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2819520"/>
            <a:ext cx="3819600" cy="866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68800" y="3084480"/>
            <a:ext cx="831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10360" y="2801880"/>
            <a:ext cx="11422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95320" y="3084480"/>
            <a:ext cx="915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790320" y="3084480"/>
            <a:ext cx="6620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38760" y="3395520"/>
            <a:ext cx="10706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275 yar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12080" y="3395520"/>
            <a:ext cx="8784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54 hoy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17680" y="3395520"/>
            <a:ext cx="6012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$ 1,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15304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5304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41988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1988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75040" y="2806560"/>
            <a:ext cx="38160" cy="88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5304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5304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1988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988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74120" y="2849400"/>
            <a:ext cx="39600" cy="84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913200" y="280656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13200" y="336564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13200" y="365112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371600" y="388620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657600" y="4952880"/>
            <a:ext cx="3809880" cy="83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79800" y="520848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26400" y="4937040"/>
            <a:ext cx="1069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09920" y="5208480"/>
            <a:ext cx="855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585480" y="5208480"/>
            <a:ext cx="621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753360" y="5510160"/>
            <a:ext cx="100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25 yar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14080" y="5510160"/>
            <a:ext cx="82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8 hoy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06720" y="5510160"/>
            <a:ext cx="564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$ 1,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212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9212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848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848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646440" y="4940280"/>
            <a:ext cx="38160" cy="85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212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12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848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1848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435800" y="4981680"/>
            <a:ext cx="39600" cy="81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84600" y="494028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684600" y="5481720"/>
            <a:ext cx="379080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84600" y="575784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36160" y="5867280"/>
            <a:ext cx="76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**Se asume que es menos costoso producir a menor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solución parece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7848720" cy="9144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 rot="10800000">
            <a:off x="4190760" y="4191120"/>
            <a:ext cx="1447560" cy="129528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5715000"/>
            <a:ext cx="1676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v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Conjunto (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es A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écnica de Investigación de 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ee información acerca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de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ment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ub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o no de mercado para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ase del Análisis Conjun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colección de trade-o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imación de “utilidades” para los atributos y nive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edicción de preferencias de op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anking de “conceptos” o productos “tip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oftware de entrevista, usando A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900" spc="-1" strike="noStrike">
                <a:solidFill>
                  <a:srgbClr val="9999ff"/>
                </a:solidFill>
                <a:latin typeface="Arial"/>
              </a:rPr>
              <a:t>Diseño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atributos seleccion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o más importante para realizar un buen análisis poster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n del objetivo del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=&gt; Incluyo sólo los atributos sobre los cuales voy a act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cio y valor de marca =&gt; Incluir esos atributos (Pero deben ser independi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Cuántos atributo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 de ciertos fac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s del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 disponible para entrevi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 de AC que se utiliza para recolectar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A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Interacción entre atributo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udios asumen la no existencia de interacción entr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íricamente, se ha encontrado que muy pocos atributos interactuan entre s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cepción impor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cio y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Solución: Atributo com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Qué nivele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veles deben ser exclu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producto debe estar asociado a niveles ú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se puede aplicar dos niveles de un atributo a un mismo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posible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interpol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tre niveles, pero no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extrapolar (Ejemplo de motores y potenc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TOD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os escenario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Número de Niveles por atribut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pectos a tener en cu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entrevista más ext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medición más detal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niveles =&gt; Lo cont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99ff"/>
                </a:solidFill>
                <a:latin typeface="Arial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ados en la forma en que uno siente acerca de al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 cómo actuamos cuando se nos presenta una oportunidad de 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TITUD: tendencia general a responder favorable o desfavorablemente hacia un 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 que haremos es traspasar las percepciones de los clientes a ac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 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ormación de 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485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Modalidad de recopilación de datos: Entrevista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es modal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conjunto adap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: Mecanismo de Orden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 mecanismo rea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</a:t>
            </a:r>
            <a:r>
              <a:rPr b="0" i="1" lang="es-ES_tradnl" sz="3200" spc="-1" strike="noStrike">
                <a:solidFill>
                  <a:srgbClr val="9999ff"/>
                </a:solidFill>
                <a:latin typeface="Arial"/>
              </a:rPr>
              <a:t>perfil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_tradnl" sz="3200" spc="-1" strike="noStrike">
                <a:solidFill>
                  <a:srgbClr val="9999ff"/>
                </a:solidFill>
                <a:latin typeface="Arial"/>
              </a:rPr>
              <a:t>productos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vistado hace ranking de esos per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Limitación en el número de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Nºde tarjetas Min = NºNiveles - NºAtributos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Cómo pregu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3.- Análisis conjunto adapt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concepto muestra perfiles de no más de 5 atributos (Casi siempre, son 2 ó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stos son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perfiles par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vista es sobre perfiles más relev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ueden incluir hasta 30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fácilmente realizable en un software, aunque no hay muc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95280" y="206064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Análisis de </a:t>
            </a:r>
            <a:r>
              <a:rPr b="0" lang="es-ES_tradnl" sz="4700" spc="-1" strike="noStrike">
                <a:solidFill>
                  <a:srgbClr val="9999cc"/>
                </a:solidFill>
                <a:latin typeface="Arial"/>
              </a:rPr>
              <a:t>los</a:t>
            </a: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 Dato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pretación de las Uti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0 = Menos prefer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=/=&gt; Utilidad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número en sí NO tiene signifi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APS sí representan ganancias al cambiar niveles de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tilidades sólo son válidas relativas a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mportancia relativa de atrib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ortancia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segmentar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28600" y="1676520"/>
            <a:ext cx="2743200" cy="914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Se puede descubrir información import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0880" y="2895480"/>
            <a:ext cx="2362320" cy="990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Notar diferencia en preferencia de marc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1028520" y="4076640"/>
            <a:ext cx="1066680" cy="838080"/>
          </a:xfrm>
          <a:prstGeom prst="rightArrow">
            <a:avLst>
              <a:gd name="adj1" fmla="val 50000"/>
              <a:gd name="adj2" fmla="val 31819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5105520"/>
            <a:ext cx="2666880" cy="15238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imulación: Relatividad de los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modelos para simular comportamiento de mercado, basado en los datos obtenido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ra elección 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first choic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abilidad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intenta obtener “cuotas de merca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son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rel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rven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opciones del consum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preferencias por productos (per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imulación: Preferencias exager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2196720"/>
            <a:ext cx="808668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 de primera elección =&gt; Predicen comportamiento según selección que produce la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máxima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sobrevaloran la 1ª elección e infravaloran la úl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be a que modelos asumen que comprador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ete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 dos tipos de modelos de actitu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NSATORI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falta o deficiencia de algún atributo puede ser compensada con la presencia o exceso de o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 COMPENS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n menos atributos, los cuales no pueden ser compens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os modelos sirven para modelar el comportamiento de un cliente que elige una marca sólo si cumple uno de sus atrib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el producto es deficiente en cualquiera de esos requerimientos, entonces el producto es eli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emos lo anter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nivel percibido del atributo k en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umbral mínimo aceptable para atributo k,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la marca j es aceptable para el atributo  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j = 1 si la marca j es preferida (vál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tonces se tendr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j =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52280" y="2209680"/>
          <a:ext cx="8762760" cy="4064040"/>
        </p:xfrm>
        <a:graphic>
          <a:graphicData uri="http://schemas.openxmlformats.org/drawingml/2006/table">
            <a:tbl>
              <a:tblPr/>
              <a:tblGrid>
                <a:gridCol w="1643040"/>
                <a:gridCol w="1800000"/>
                <a:gridCol w="2195640"/>
                <a:gridCol w="1905120"/>
                <a:gridCol w="1218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 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 Gráf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Dispon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 Mí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1523880" y="63244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(</a:t>
            </a:r>
            <a:r>
              <a:rPr b="1" lang="es-ES_tradnl" sz="1800" spc="-1" strike="noStrike">
                <a:solidFill>
                  <a:srgbClr val="3366cc"/>
                </a:solidFill>
                <a:latin typeface="Arial"/>
              </a:rPr>
              <a:t>No Compensatori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Se elige opció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hacia el obje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de que el objeto 0 posee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importancia del atributo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22:32:41Z</dcterms:created>
  <dc:creator>William Young</dc:creator>
  <dc:description/>
  <dc:language>en-US</dc:language>
  <cp:lastModifiedBy>William Young</cp:lastModifiedBy>
  <dcterms:modified xsi:type="dcterms:W3CDTF">2006-10-06T01:03:29Z</dcterms:modified>
  <cp:revision>10</cp:revision>
  <dc:subject/>
  <dc:title>PREFERENCIAS</dc:title>
</cp:coreProperties>
</file>