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6346-3A8D-4345-BC70-F3BDAC7F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E8E8-CA3F-463E-A9B0-7C37C714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F39D-73E9-4F46-B330-29CA04FB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1608-72C0-47F7-8D51-90149778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468-8D76-4863-8EC9-E08CB282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A36F-D9C2-4905-A714-092910E9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B3A5-14B6-4608-AABF-54D8EC4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86F0-ED57-499E-91EA-7FCADD96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DD00-90B7-4995-AED6-14AFB64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BDD-BEF3-4E5C-89FB-A559DF78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5909-6C45-42C3-90A7-0A7D064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57B5-EC59-4B92-AB3A-38D0C62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9075-48A5-4FE3-8A27-31FCD76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F172-3359-452D-8881-F61600E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15BD-66DC-49BB-B77F-8D47776B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0C3-52D6-4D6F-90B1-A60BCA8A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A1A-1BFD-4D2A-9114-A1F36C53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BE4B0-F28E-444E-A337-317B036F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484B3-3EAD-4602-83BC-D7753165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7912F-BFCC-4685-B3D7-483B6927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C70B9-5027-472F-B81B-31F3ADF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A56AC-2A8A-4420-B50B-1F8D1CE9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B0F2-2AE2-4F49-A325-D1591E2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08383-BD26-4F98-AC26-98A4557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1EB94-F8EC-42E0-838F-9FCB96A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59565-233D-49EF-8023-BBECA8F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2D55C-843B-4567-9765-E5571FB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CBBD4-4C11-4D3E-B8D7-9F2EF6E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75DA4-45ED-491A-83AF-F6BC541B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30F6B-D4F3-47E9-BCAA-7B6C8F6E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867C-4591-485B-8282-C1291C0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4BDA-7D43-4683-8F12-D9D104D6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831B-657B-457B-BFB3-11C3F007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1DB2-1D58-48ED-9C17-59D7867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06F5-8829-486A-B2C6-97EF642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3597-00E4-48B6-9032-0FFBA903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38DE-C349-43BE-81C3-86808B0E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7217-57CE-4E2C-A6BE-16DDB3A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AF71-D548-4425-956C-243D152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B1EA-7939-4AE4-B5D7-74D8F0A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32121-4770-44CC-9D98-5C4C3AEE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498E-A014-45E1-B892-9331830D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2C7E-7B73-4825-93FA-E10DC66F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CA0C-6569-4B0B-9A0C-777F1A3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3F41-CFC7-4997-9D4B-77F7DB6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56DD-DD3E-40D8-8079-E9160CD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FAEC-EF61-4B0A-AB73-C6D14BA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EBA9-287A-440A-86DF-72B1024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563F-3DC8-4989-9145-D2DCD9288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8FB8-CBC4-4E5B-8F96-EC95B9E45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A1F-8F26-45CE-9150-07FEF6079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F64C-224E-4D1D-BB7D-1011F9F70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cc"/>
                </a:solidFill>
                <a:latin typeface="Lucida Sans Unicode"/>
              </a:rPr>
              <a:t>Modelos de Actit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lke y Pess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66cc"/>
                </a:solidFill>
                <a:latin typeface="Lucida Sans Unicode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: Ejemplo de pelotas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anking de “conceptos” o productos “tip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ftware de entrevista, usando 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u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(Ejemplo de motores y pot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32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do hace ranking de esos per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ómo pregu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3.- Análisis conjunto adap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 es sobre perfiles más relev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objeto 0 posee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6-10-06T01:03:29Z</dcterms:modified>
  <cp:revision>10</cp:revision>
  <dc:subject/>
  <dc:title>PREFERENCIAS</dc:title>
</cp:coreProperties>
</file>