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EAF7-8926-40E1-9DB6-03EDF9B2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AE7C-18CC-40B7-97A9-4E08482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7AC9-F337-414A-A737-207EC4DF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8EC2-2A37-4C29-ADCE-16377CF3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1F07-0541-4EB5-89D7-A1B027C8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CED0-F173-4DA1-B7DE-3D61B98C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B387-016D-49FC-B95F-05476B23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F150-68CF-4929-9F73-671B74DA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D87E-1879-4A47-B7D0-A4A7CC5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2F2-AE6E-4375-943A-A1E033C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4CD6-02EC-405F-8C45-E9F16D3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0428-CEF7-400A-A8A6-70330080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9BB4-FF44-48F9-B7D1-23F6DCF4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C335-C01A-4887-BCE4-4E67C30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87AE-A781-4F64-8596-2FC27DAB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7BF0-8814-4521-AC19-36457F31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0867-9671-44EF-BB66-AE0F54E6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3011E-17D7-415C-8377-07A79543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C4592-5855-4871-82EA-0AFA5E57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10837-794D-4805-AE94-A4C22A06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B7D14-67F8-4F72-8C8F-C420BCBB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E6392-3460-42D1-933A-B91BE073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0676-34DD-4E44-84DA-789E6A57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0CCC7-9AB1-4BCF-B3AB-BEB35BF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2F2C4-F0FB-4DA7-8ADD-7E2DE705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05673-5B55-4B79-89FA-B72FC35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23417-320A-49AC-80A1-96A9859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335BB-6C9A-4292-8205-BB5DBD68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AF819-7ED0-4E74-A5F6-1536B384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591AF-A17F-4311-B71C-199894DC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066D-1908-41D2-A19B-E91C38A3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F878-3B8B-486C-9D76-2785A52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5A94-23A3-4F6A-B4AC-2C0DCCD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C516-C772-4884-83F0-E2B00D9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A856-14CA-49EF-A9AE-EB691196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7DF8-36E7-4EE2-ACB2-63606638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192F-754B-4E1C-B8DD-B4A1715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1630-C0C4-4D1F-854A-3996887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09D6-0108-411F-990A-708D11E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685C-8FC5-4BB7-845B-B93C6F0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A2D5-ADC9-4E42-9954-5D2A64E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6555-57BD-4D77-A6A6-B492DDCA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7002-D8A4-47C2-B5CB-88E922F2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E8DC-E1FE-467E-8E6C-4EB27F6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63D0-FB66-494A-983B-F04F6971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6985-D77A-43C6-8F08-7BA2DEA8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F20C-4897-4A95-9682-6581B60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993B-0B39-4A94-9F7F-EAC32CA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BC2-0A9B-4FBC-9CE7-0B1DDC840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1FDD-5194-4010-AE7A-AD56F7A9B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511-8F28-4A29-BEF5-10F39BDE5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588E-3A96-443C-A76D-390B0C84C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cc"/>
                </a:solidFill>
                <a:latin typeface="Lucida Sans Unicode"/>
              </a:rPr>
              <a:t>Modelos de Actit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lke y Pess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66cc"/>
                </a:solidFill>
                <a:latin typeface="Lucida Sans Unicode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: Ejemplo de pelotas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nking de “conceptos” o productos “tip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ftware de entrevista, usando 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u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(Ejemplo de motores y pot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do hace ranking de esos per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ómo pregu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3.- Análisis conjunto adap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 es sobre perfiles más relev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objeto 0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6-10-06T01:03:29Z</dcterms:modified>
  <cp:revision>10</cp:revision>
  <dc:subject/>
  <dc:title>PREFERENCIAS</dc:title>
</cp:coreProperties>
</file>