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BFE1-D6A7-45C3-AD96-494D2301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AE58-77B3-4716-9DAD-A33F869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C6C1-D5A4-4935-9A76-68BBE459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9395-D73B-4675-BF27-AE358D10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7FD-F50C-4D01-8FAB-E6D6718D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1DB1-6A98-4C73-BB2B-AC7EA78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81A-5808-4D7A-B9F7-1C30BFB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B80-951E-4D71-980C-292D5CCD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CA8A-314A-4594-8209-080453A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5DC3-F03A-4C2F-A99B-DA1B9B48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A4B-D504-4BE1-8CE4-19354E83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5581-A54F-44B2-B76A-C0B2A2AB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0E5-3489-4554-A148-1986A7A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38A-9301-4DF1-9A7D-DD6B9F2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DDA-F53F-40A7-97F4-B56061D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A16-37C7-48B3-8B6E-0669E5AD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DE85-97A3-4961-AE4A-39916DBD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7D0A6-011D-425E-B616-A80A9840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3B8A3-A4EC-42B2-889A-A559420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03B94-037D-4D03-B970-A593FC9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A5D23-6D8B-4399-8ABA-C1090352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602E4-F070-4853-9F08-55DFC88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0E40-5E50-4AFF-A479-3D88C6F8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EB9D0-D1BA-4148-8DC2-ACE0E63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4D08E-4066-49FD-89A0-6B5E319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0DC83-E29D-4A12-8E1A-7191E7C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26DF-FC2C-4CC5-B447-F42BDBE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BED7C-02B9-4F2A-882F-14E4E3D1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05556-A295-4696-9388-A64CBA26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ABD4A-59BB-4B91-8E50-9DAB1A2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516A-FD05-496D-95B5-D4F60FE2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558B-1002-4BD1-8EE5-8152085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B42F-7ADC-4ECB-8622-0490AB45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28FB-48E9-415E-A024-59B715B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8A9E-B252-4895-9776-3A8D779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59E0-3F0A-4129-8D07-CCDA93D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FC9D-BAF7-431E-BB11-2ED7C43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F3E8-EAFE-480E-90BE-174A551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17BF-BD8B-4A66-AB76-24455E5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8759-914C-452A-9ABF-EBDDFB15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55D1-CB51-4519-87C4-E5D0EC6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CDDD-8641-4273-83B8-2AED86C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1466-E2EA-4EAE-B5E5-99BD020B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6C3E-7752-4033-98CD-EF13E0A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14B3-9CF9-4AB6-9EF1-415B891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9684-B67F-4A45-975C-3E3C5BD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8965-A371-4390-84E7-F8CFD57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E3D3-3F39-4C87-A302-935BACF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D5EE-568E-48BB-9689-30929334D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377-28BC-4725-BA9A-26EBB3DC4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E6EA-1DB3-45CB-AB20-DFF3C69FD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3901-8DC9-498E-A8FA-B5EDE7971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cc"/>
                </a:solidFill>
                <a:latin typeface="Lucida Sans Unicode"/>
              </a:rPr>
              <a:t>Modelos de Actit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lke y Pess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66cc"/>
                </a:solidFill>
                <a:latin typeface="Lucida Sans Unicode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: Ejemplo de pelotas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nking de “conceptos” o productos “tip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ftware de entrevista, usando 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u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(Ejemplo de motores y pot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do hace ranking de esos per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ómo pregu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3.- Análisis conjunto adap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 es sobre perfiles más rele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objeto 0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6-10-06T01:03:29Z</dcterms:modified>
  <cp:revision>10</cp:revision>
  <dc:subject/>
  <dc:title>PREFERENCIAS</dc:title>
</cp:coreProperties>
</file>