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708-3554-4819-88AF-FE1CE3CF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2DF-BB3B-44FB-A59B-7C497C9F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738-4C71-48F0-B855-ECE3A257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5DB-6C62-47A2-B319-B3E33740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0C0-5BD7-4DAC-A5E7-7EA4F641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E65-8263-4D85-A1C8-5200E0C1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394-8C35-4BE7-A6A4-A7601D22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E6C-A331-4998-AF2A-A5451FED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A66-5031-4CDD-BF9B-19E54E15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CE0-D06D-4A9F-895D-B4C772AF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5A9-9161-4B0C-A4A1-0ED759B8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138-16CE-43ED-AA74-DC609F9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D2D3-F4BC-4D26-AEEA-CA15E66AD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22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RT: Software para la realización de análisis conju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ve guía para no inici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686040" cy="2067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5880" y="1981080"/>
            <a:ext cx="1440000" cy="609840"/>
          </a:xfrm>
          <a:prstGeom prst="borderCallout1">
            <a:avLst>
              <a:gd name="adj1" fmla="val 18750"/>
              <a:gd name="adj2" fmla="val -8333"/>
              <a:gd name="adj3" fmla="val 303907"/>
              <a:gd name="adj4" fmla="val -11587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gir Opción C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429000" y="2895480"/>
          <a:ext cx="251460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895480"/>
                    <a:ext cx="25146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1295280" y="4951440"/>
            <a:ext cx="1828800" cy="915840"/>
          </a:xfrm>
          <a:prstGeom prst="borderCallout1">
            <a:avLst>
              <a:gd name="adj1" fmla="val 18750"/>
              <a:gd name="adj2" fmla="val -8333"/>
              <a:gd name="adj3" fmla="val -178162"/>
              <a:gd name="adj4" fmla="val 13854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definir atributos y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6248520" y="1447920"/>
            <a:ext cx="1439640" cy="609480"/>
          </a:xfrm>
          <a:prstGeom prst="borderCallout1">
            <a:avLst>
              <a:gd name="adj1" fmla="val 18750"/>
              <a:gd name="adj2" fmla="val -8333"/>
              <a:gd name="adj3" fmla="val 266925"/>
              <a:gd name="adj4" fmla="val -8820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seño de Cuest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5" action="ppaction://hlinksldjump"/>
          </p:cNvPr>
          <p:cNvSpPr/>
          <p:nvPr/>
        </p:nvSpPr>
        <p:spPr>
          <a:xfrm>
            <a:off x="6629400" y="502920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-282550"/>
              <a:gd name="adj4" fmla="val -7089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r el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6" action="ppaction://hlinksldjump"/>
          </p:cNvPr>
          <p:cNvSpPr/>
          <p:nvPr/>
        </p:nvSpPr>
        <p:spPr>
          <a:xfrm>
            <a:off x="1219320" y="1676520"/>
            <a:ext cx="1439640" cy="609480"/>
          </a:xfrm>
          <a:prstGeom prst="borderCallout1">
            <a:avLst>
              <a:gd name="adj1" fmla="val 18750"/>
              <a:gd name="adj2" fmla="val -8333"/>
              <a:gd name="adj3" fmla="val 216148"/>
              <a:gd name="adj4" fmla="val 21675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ámetros C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6205680" cy="4330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atributos y niv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86000"/>
            <a:ext cx="182880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17620"/>
              <a:gd name="adj5" fmla="val 195601"/>
              <a:gd name="adj6" fmla="val 17004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06728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34064"/>
              <a:gd name="adj5" fmla="val 326657"/>
              <a:gd name="adj6" fmla="val 16399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3848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64703"/>
              <a:gd name="adj5" fmla="val 447263"/>
              <a:gd name="adj6" fmla="val 3984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Ni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1628640"/>
            <a:ext cx="21445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03550"/>
              <a:gd name="adj5" fmla="val 303319"/>
              <a:gd name="adj6" fmla="val 18956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205680" cy="4330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atributos y niv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5962680" cy="4305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ámetros 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114800"/>
            <a:ext cx="1807920" cy="91692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174189"/>
              <a:gd name="adj5" fmla="val -107805"/>
              <a:gd name="adj6" fmla="val 24449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ero Compa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421240"/>
            <a:ext cx="1807920" cy="1465560"/>
          </a:xfrm>
          <a:prstGeom prst="borderCallout2">
            <a:avLst>
              <a:gd name="adj1" fmla="val 18750"/>
              <a:gd name="adj2" fmla="val -8333"/>
              <a:gd name="adj3" fmla="val 9398"/>
              <a:gd name="adj4" fmla="val 147583"/>
              <a:gd name="adj5" fmla="val 8569"/>
              <a:gd name="adj6" fmla="val 19112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ulo y generación de comparaciones en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ámetros 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9800" cy="4172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387680"/>
            <a:ext cx="1808280" cy="1739880"/>
          </a:xfrm>
          <a:prstGeom prst="borderCallout2">
            <a:avLst>
              <a:gd name="adj1" fmla="val 18750"/>
              <a:gd name="adj2" fmla="val -8333"/>
              <a:gd name="adj3" fmla="val 7666"/>
              <a:gd name="adj4" fmla="val 144777"/>
              <a:gd name="adj5" fmla="val -61314"/>
              <a:gd name="adj6" fmla="val 1854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ado Calculo y generación de comparaciones en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5771880" cy="4105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10280" y="17524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2407"/>
              <a:gd name="adj5" fmla="val 162092"/>
              <a:gd name="adj6" fmla="val -80768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2160" y="160020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4967"/>
              <a:gd name="adj5" fmla="val 322393"/>
              <a:gd name="adj6" fmla="val -12597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do de preg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8954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1263"/>
              <a:gd name="adj5" fmla="val 39078"/>
              <a:gd name="adj6" fmla="val -784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ción de preg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489600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3546"/>
              <a:gd name="adj5" fmla="val 190523"/>
              <a:gd name="adj6" fmla="val -8303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5257800" cy="307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1704960"/>
            <a:ext cx="373392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usando formas predefin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57800" cy="307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1704960"/>
            <a:ext cx="37339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410250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manual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3943440" cy="2485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1981080"/>
            <a:ext cx="373356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Tipo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: Interfa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MRT: Interfaz general que provee el proveedor de Software (Sawtooth). Sus funcionalidades s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atributos y nive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cuestio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opilación de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lamada a los proceso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772240" cy="358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1905120"/>
            <a:ext cx="37339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410250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ción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772240" cy="4105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1704960"/>
            <a:ext cx="373392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evo listado de preguntas con el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2681280"/>
            <a:ext cx="2743200" cy="1495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713120"/>
            <a:ext cx="3733920" cy="1465560"/>
          </a:xfrm>
          <a:prstGeom prst="borderCallout2">
            <a:avLst>
              <a:gd name="adj1" fmla="val 18750"/>
              <a:gd name="adj2" fmla="val -8333"/>
              <a:gd name="adj3" fmla="val 7666"/>
              <a:gd name="adj4" fmla="val -16453"/>
              <a:gd name="adj5" fmla="val -77430"/>
              <a:gd name="adj6" fmla="val -3094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poder procesar los datos, estos deben ser guardados. No guarden hasta que estén conformes con el diseño del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pilando información distribuid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743200" y="3048120"/>
          <a:ext cx="3067200" cy="149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8120"/>
                    <a:ext cx="3067200" cy="14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421320" y="2033640"/>
            <a:ext cx="1808280" cy="916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6805"/>
              <a:gd name="adj5" fmla="val 170444"/>
              <a:gd name="adj6" fmla="val -1114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cer Discos de Recop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2743200"/>
            <a:ext cx="18082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9861"/>
              <a:gd name="adj5" fmla="val 165884"/>
              <a:gd name="adj6" fmla="val -769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umular datos desde dis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4038480"/>
            <a:ext cx="18082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0560"/>
              <a:gd name="adj5" fmla="val 14324"/>
              <a:gd name="adj6" fmla="val -78138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cer encuesta I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800600"/>
            <a:ext cx="1828800" cy="1143000"/>
          </a:xfrm>
          <a:prstGeom prst="borderCallout2">
            <a:avLst>
              <a:gd name="adj1" fmla="val 18750"/>
              <a:gd name="adj2" fmla="val -8333"/>
              <a:gd name="adj3" fmla="val 10000"/>
              <a:gd name="adj4" fmla="val -50953"/>
              <a:gd name="adj5" fmla="val -32638"/>
              <a:gd name="adj6" fmla="val -9965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umular encuesta desde archivos de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r enc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229200" cy="4676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r discos recopi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14800" y="2576520"/>
            <a:ext cx="2714400" cy="17049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mular datos desde dis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43200" y="2124000"/>
            <a:ext cx="5457600" cy="2610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r encuesta im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076640" cy="2685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mular datos de encuesta im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ndo funciones de ut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: Méto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733920" y="3124080"/>
          <a:ext cx="15573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124080"/>
                    <a:ext cx="1557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ndo funciones de ut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8520" y="250200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7777"/>
              <a:gd name="adj5" fmla="val 269259"/>
              <a:gd name="adj6" fmla="val -13379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4848120"/>
            <a:ext cx="1808280" cy="1739880"/>
          </a:xfrm>
          <a:prstGeom prst="borderCallout2">
            <a:avLst>
              <a:gd name="adj1" fmla="val 18750"/>
              <a:gd name="adj2" fmla="val -8333"/>
              <a:gd name="adj3" fmla="val 6476"/>
              <a:gd name="adj4" fmla="val -49958"/>
              <a:gd name="adj5" fmla="val -1611"/>
              <a:gd name="adj6" fmla="val -9761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ción de mercado y visualización de las funciones de utilidad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6048360" cy="5257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010280" y="259092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82439"/>
              <a:gd name="adj5" fmla="val -225472"/>
              <a:gd name="adj6" fmla="val -1636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604836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162920" y="2438280"/>
            <a:ext cx="180792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4444"/>
              <a:gd name="adj5" fmla="val 176648"/>
              <a:gd name="adj6" fmla="val -12693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7220160" cy="5305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029200" y="31240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8305"/>
              <a:gd name="adj5" fmla="val -281518"/>
              <a:gd name="adj6" fmla="val -13493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ualiza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61920" y="776160"/>
            <a:ext cx="7220160" cy="5305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715000" y="236232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7777"/>
              <a:gd name="adj5" fmla="val 269259"/>
              <a:gd name="adj6" fmla="val -13379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tilidades pa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 tradicional. Las comparaciones se hacen en una escala gradual de preferencia. Al entrevistado se le pide que diga el grado de preferencia entre dos per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entrevistado se le pide que elija cual es el perfil que prefiere forzando que se quede solo con un perfil por compa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alibraciones de las preferencias se hacen usando LOGIT (alternativamente, como veremos en clases podemos calibrar con un P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entrevistado se le que vaya haciendo comparaciones parciales. Las comparaciones que deben hacerse se calculan dinámicamente en base a los requerimientos de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DII no tiene licencias para la aplicación de este métod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ve guía de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828880" y="3341520"/>
          <a:ext cx="3267000" cy="12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8880" y="3341520"/>
                    <a:ext cx="3267000" cy="12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71880" y="4865760"/>
            <a:ext cx="1803600" cy="368280"/>
          </a:xfrm>
          <a:prstGeom prst="borderCallout1">
            <a:avLst>
              <a:gd name="adj1" fmla="val 18750"/>
              <a:gd name="adj2" fmla="val -8333"/>
              <a:gd name="adj3" fmla="val -255467"/>
              <a:gd name="adj4" fmla="val -47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ile→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9680" y="2932200"/>
            <a:ext cx="4572000" cy="3011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95680" y="224640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491407"/>
              <a:gd name="adj4" fmla="val -6824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gir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8T10:35:03Z</dcterms:created>
  <dc:creator>Marcel Goic F.</dc:creator>
  <dc:description/>
  <dc:language>en-US</dc:language>
  <cp:lastModifiedBy>Marcel Goic F.</cp:lastModifiedBy>
  <dcterms:modified xsi:type="dcterms:W3CDTF">2004-05-18T14:06:06Z</dcterms:modified>
  <cp:revision>6</cp:revision>
  <dc:subject/>
  <dc:title>SMRT: Software para la realización de análisis conjunto</dc:title>
</cp:coreProperties>
</file>