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CBE7-1643-48AA-A332-FA09965D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FE4-43F7-4F84-B698-4DAFF387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5B3-9789-404B-BB37-247E2196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C0A-8DF7-4DA9-ACFE-E2D6C372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0FE-9FF0-436C-8BD0-861F5BA5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BD8-C7EB-496D-9AD6-418E0769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537-FAE7-403D-B63E-63BF6BBC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824-2A74-4C91-8502-3C91A7EC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E42-A615-4CBE-B7BA-34CDA018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1E8-65FF-47C8-B07D-F50A4529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D534-5BB9-426D-85A4-7E86CD0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C35-41E1-4870-9552-75E0D50C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1BC6-15C3-4712-B811-7DF5EC8C9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12.xml"/><Relationship Id="rId4" Type="http://schemas.openxmlformats.org/officeDocument/2006/relationships/slide" Target="slide14.xml"/><Relationship Id="rId5" Type="http://schemas.openxmlformats.org/officeDocument/2006/relationships/slide" Target="slide2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RT: Software para la realización de análisis conju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para no inici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686040" cy="2067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5880" y="1981080"/>
            <a:ext cx="1440000" cy="609840"/>
          </a:xfrm>
          <a:prstGeom prst="borderCallout1">
            <a:avLst>
              <a:gd name="adj1" fmla="val 18750"/>
              <a:gd name="adj2" fmla="val -8333"/>
              <a:gd name="adj3" fmla="val 303907"/>
              <a:gd name="adj4" fmla="val -115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Opción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429000" y="2895480"/>
          <a:ext cx="251460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95480"/>
                    <a:ext cx="25146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1295280" y="4951440"/>
            <a:ext cx="1828800" cy="915840"/>
          </a:xfrm>
          <a:prstGeom prst="borderCallout1">
            <a:avLst>
              <a:gd name="adj1" fmla="val 18750"/>
              <a:gd name="adj2" fmla="val -8333"/>
              <a:gd name="adj3" fmla="val -178162"/>
              <a:gd name="adj4" fmla="val 1385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definir atributos y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" action="ppaction://hlinksldjump"/>
          </p:cNvPr>
          <p:cNvSpPr/>
          <p:nvPr/>
        </p:nvSpPr>
        <p:spPr>
          <a:xfrm>
            <a:off x="6248520" y="14479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66925"/>
              <a:gd name="adj4" fmla="val -8820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iseño de Cuest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5" action="ppaction://hlinksldjump"/>
          </p:cNvPr>
          <p:cNvSpPr/>
          <p:nvPr/>
        </p:nvSpPr>
        <p:spPr>
          <a:xfrm>
            <a:off x="6629400" y="50292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-282550"/>
              <a:gd name="adj4" fmla="val -7089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rer 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1219320" y="1676520"/>
            <a:ext cx="1439640" cy="609480"/>
          </a:xfrm>
          <a:prstGeom prst="borderCallout1">
            <a:avLst>
              <a:gd name="adj1" fmla="val 18750"/>
              <a:gd name="adj2" fmla="val -8333"/>
              <a:gd name="adj3" fmla="val 216148"/>
              <a:gd name="adj4" fmla="val 21675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ámetros C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286000"/>
            <a:ext cx="182880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17620"/>
              <a:gd name="adj5" fmla="val 195601"/>
              <a:gd name="adj6" fmla="val 17004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0672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34064"/>
              <a:gd name="adj5" fmla="val 326657"/>
              <a:gd name="adj6" fmla="val 1639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3848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64703"/>
              <a:gd name="adj5" fmla="val 447263"/>
              <a:gd name="adj6" fmla="val 398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Ni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1628640"/>
            <a:ext cx="21445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103550"/>
              <a:gd name="adj5" fmla="val 303319"/>
              <a:gd name="adj6" fmla="val 18956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205680" cy="4330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atributos y niv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5962680" cy="4305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114800"/>
            <a:ext cx="1807920" cy="91692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174189"/>
              <a:gd name="adj5" fmla="val -107805"/>
              <a:gd name="adj6" fmla="val 24449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ero Compa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421240"/>
            <a:ext cx="1807920" cy="1465560"/>
          </a:xfrm>
          <a:prstGeom prst="borderCallout2">
            <a:avLst>
              <a:gd name="adj1" fmla="val 18750"/>
              <a:gd name="adj2" fmla="val -8333"/>
              <a:gd name="adj3" fmla="val 9398"/>
              <a:gd name="adj4" fmla="val 147583"/>
              <a:gd name="adj5" fmla="val 8569"/>
              <a:gd name="adj6" fmla="val 19112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ámetros 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9800" cy="4172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38768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144777"/>
              <a:gd name="adj5" fmla="val -61314"/>
              <a:gd name="adj6" fmla="val 1854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ado Calculo y generación de comparaciones en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5771880" cy="4105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010280" y="1752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2407"/>
              <a:gd name="adj5" fmla="val 162092"/>
              <a:gd name="adj6" fmla="val -8076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2160" y="16002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967"/>
              <a:gd name="adj5" fmla="val 322393"/>
              <a:gd name="adj6" fmla="val -12597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do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8954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1263"/>
              <a:gd name="adj5" fmla="val 39078"/>
              <a:gd name="adj6" fmla="val -78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ción de preg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4896000"/>
            <a:ext cx="1808280" cy="36828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43546"/>
              <a:gd name="adj5" fmla="val 190523"/>
              <a:gd name="adj6" fmla="val -8303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usando formas predefin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5780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170496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manual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3276720"/>
            <a:ext cx="3943440" cy="2485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1981080"/>
            <a:ext cx="373356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gar pregunta Tipo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Interfa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MRT: Interfaz general que provee el proveedor de Software (Sawtooth). Sus funcionalidades s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atributos y niv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finición de cuestion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lamada a los proceso de cálcu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5772240" cy="3581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1905120"/>
            <a:ext cx="3733920" cy="36828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410250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ición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772240" cy="4105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1704960"/>
            <a:ext cx="3733920" cy="642600"/>
          </a:xfrm>
          <a:prstGeom prst="borderCallout2">
            <a:avLst>
              <a:gd name="adj1" fmla="val 18750"/>
              <a:gd name="adj2" fmla="val -8333"/>
              <a:gd name="adj3" fmla="val 29148"/>
              <a:gd name="adj4" fmla="val -20916"/>
              <a:gd name="adj5" fmla="val 399884"/>
              <a:gd name="adj6" fmla="val -39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evo listado de preguntas con el “Texto Explicativ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2681280"/>
            <a:ext cx="2743200" cy="1495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r el cuestio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713120"/>
            <a:ext cx="3733920" cy="1465560"/>
          </a:xfrm>
          <a:prstGeom prst="borderCallout2">
            <a:avLst>
              <a:gd name="adj1" fmla="val 18750"/>
              <a:gd name="adj2" fmla="val -8333"/>
              <a:gd name="adj3" fmla="val 7666"/>
              <a:gd name="adj4" fmla="val -16453"/>
              <a:gd name="adj5" fmla="val -77430"/>
              <a:gd name="adj6" fmla="val -3094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 poder procesar los datos, estos deben ser guardados. No guarden hasta que estén conformes con el diseño del cuest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pilando información distribuidam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743200" y="3048120"/>
          <a:ext cx="3067200" cy="149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048120"/>
                    <a:ext cx="3067200" cy="14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421320" y="2033640"/>
            <a:ext cx="1808280" cy="916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6805"/>
              <a:gd name="adj5" fmla="val 170444"/>
              <a:gd name="adj6" fmla="val -11148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Discos de Recopi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2743200"/>
            <a:ext cx="18082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861"/>
              <a:gd name="adj5" fmla="val 165884"/>
              <a:gd name="adj6" fmla="val -7690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datos desde dis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4038480"/>
            <a:ext cx="18082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40560"/>
              <a:gd name="adj5" fmla="val 14324"/>
              <a:gd name="adj6" fmla="val -78138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cer encuesta 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4800600"/>
            <a:ext cx="1828800" cy="1143000"/>
          </a:xfrm>
          <a:prstGeom prst="borderCallout2">
            <a:avLst>
              <a:gd name="adj1" fmla="val 18750"/>
              <a:gd name="adj2" fmla="val -8333"/>
              <a:gd name="adj3" fmla="val 10000"/>
              <a:gd name="adj4" fmla="val -50953"/>
              <a:gd name="adj5" fmla="val -32638"/>
              <a:gd name="adj6" fmla="val -9965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umular encuesta desde archivos de tex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r enc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229200" cy="4676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discos recopi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14800" y="2576520"/>
            <a:ext cx="2714400" cy="17049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sde dis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43200" y="2124000"/>
            <a:ext cx="5457600" cy="2610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cer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4076640" cy="26859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mular datos de encuesta imp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liminar: Méto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733920" y="3124080"/>
          <a:ext cx="15573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3124080"/>
                    <a:ext cx="1557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ndo funciones de uti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78520" y="250200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4848120"/>
            <a:ext cx="1808280" cy="1739880"/>
          </a:xfrm>
          <a:prstGeom prst="borderCallout2">
            <a:avLst>
              <a:gd name="adj1" fmla="val 18750"/>
              <a:gd name="adj2" fmla="val -8333"/>
              <a:gd name="adj3" fmla="val 6476"/>
              <a:gd name="adj4" fmla="val -49958"/>
              <a:gd name="adj5" fmla="val -1611"/>
              <a:gd name="adj6" fmla="val -9761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ción de mercado y visualización de las funciones de utilidad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010280" y="25909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82439"/>
              <a:gd name="adj5" fmla="val -225472"/>
              <a:gd name="adj6" fmla="val -1636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6048360" cy="5257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62920" y="2438280"/>
            <a:ext cx="180792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4444"/>
              <a:gd name="adj5" fmla="val 176648"/>
              <a:gd name="adj6" fmla="val -12693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ibración del mod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29200" y="312408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8305"/>
              <a:gd name="adj5" fmla="val -281518"/>
              <a:gd name="adj6" fmla="val -13493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iza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61920" y="776160"/>
            <a:ext cx="7220160" cy="5305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15000" y="2362320"/>
            <a:ext cx="1808280" cy="642600"/>
          </a:xfrm>
          <a:prstGeom prst="borderCallout2">
            <a:avLst>
              <a:gd name="adj1" fmla="val 18750"/>
              <a:gd name="adj2" fmla="val -8333"/>
              <a:gd name="adj3" fmla="val 17143"/>
              <a:gd name="adj4" fmla="val -67777"/>
              <a:gd name="adj5" fmla="val 269259"/>
              <a:gd name="adj6" fmla="val -13379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tilidades pa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todo tradicional. Las comparaciones se hacen en una escala gradual de preferencia. Al entrevistado se le pide que diga el grado de preferencia entre dos perf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pide que elija cual es el perfil que prefiere forzando que se quede solo con un perfil por compa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calibraciones de las preferencias se hacen usando LOGIT (alternativamente, como veremos en clases podemos calibrar con un P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entrevistado se le que vaya haciendo comparaciones parciales. Las comparaciones que deben hacerse se calculan dinámicamente en base a los requerimientos de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DII no tiene licencias para la aplicación de este métod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ve guía de procedi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828880" y="3341520"/>
          <a:ext cx="3267000" cy="12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8880" y="3341520"/>
                    <a:ext cx="3267000" cy="12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71880" y="4865760"/>
            <a:ext cx="1803600" cy="368280"/>
          </a:xfrm>
          <a:prstGeom prst="borderCallout1">
            <a:avLst>
              <a:gd name="adj1" fmla="val 18750"/>
              <a:gd name="adj2" fmla="val -8333"/>
              <a:gd name="adj3" fmla="val -255467"/>
              <a:gd name="adj4" fmla="val -4787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ile→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09680" y="2932200"/>
            <a:ext cx="4572000" cy="3011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5680" y="2246400"/>
            <a:ext cx="1440000" cy="609480"/>
          </a:xfrm>
          <a:prstGeom prst="borderCallout1">
            <a:avLst>
              <a:gd name="adj1" fmla="val 18750"/>
              <a:gd name="adj2" fmla="val -8333"/>
              <a:gd name="adj3" fmla="val 491407"/>
              <a:gd name="adj4" fmla="val -682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gir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r E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8T10:35:03Z</dcterms:created>
  <dc:creator>Marcel Goic F.</dc:creator>
  <dc:description/>
  <dc:language>en-US</dc:language>
  <cp:lastModifiedBy>Marcel Goic F.</cp:lastModifiedBy>
  <dcterms:modified xsi:type="dcterms:W3CDTF">2004-05-18T14:06:06Z</dcterms:modified>
  <cp:revision>6</cp:revision>
  <dc:subject/>
  <dc:title>SMRT: Software para la realización de análisis conjunto</dc:title>
</cp:coreProperties>
</file>