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B07D-731D-44C6-BBB7-3013BBBF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FD94-72CB-47CB-90B0-37F28AB8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9618-707B-4C56-AEDB-22A7B7BB6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3B46-3E99-46F2-9430-4E965005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7792-2FF7-4AC2-93AE-4E22AEB0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403E-5628-403E-808A-57D9AF14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57DA-BF83-49FE-B8D6-47CEE6DD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B861-7A36-4B09-853D-950B5FB9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D222-5218-4C08-A6CF-C28C9DDD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087F-CD0D-4145-BF6E-40060677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0A5A-CA69-471A-8E93-A00527D0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F114-5FEA-482E-8DB2-F21FC94E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7A82-F8F3-4462-AA6C-2D7289DB9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" Target="slide12.xml"/><Relationship Id="rId4" Type="http://schemas.openxmlformats.org/officeDocument/2006/relationships/slide" Target="slide14.xml"/><Relationship Id="rId5" Type="http://schemas.openxmlformats.org/officeDocument/2006/relationships/slide" Target="slide22.xml"/><Relationship Id="rId6" Type="http://schemas.openxmlformats.org/officeDocument/2006/relationships/slide" Target="slide14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RT: Software para la realización de análisis conju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ve guía para no inici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8120" y="3124080"/>
            <a:ext cx="3686040" cy="2067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095880" y="1981080"/>
            <a:ext cx="1440000" cy="609840"/>
          </a:xfrm>
          <a:prstGeom prst="borderCallout1">
            <a:avLst>
              <a:gd name="adj1" fmla="val 18750"/>
              <a:gd name="adj2" fmla="val -8333"/>
              <a:gd name="adj3" fmla="val 303907"/>
              <a:gd name="adj4" fmla="val -115875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legir Opción C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r 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429000" y="2895480"/>
          <a:ext cx="2514600" cy="6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895480"/>
                    <a:ext cx="251460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>
            <a:hlinkClick r:id="rId3" action="ppaction://hlinksldjump"/>
          </p:cNvPr>
          <p:cNvSpPr/>
          <p:nvPr/>
        </p:nvSpPr>
        <p:spPr>
          <a:xfrm>
            <a:off x="1295280" y="4951440"/>
            <a:ext cx="1828800" cy="915840"/>
          </a:xfrm>
          <a:prstGeom prst="borderCallout1">
            <a:avLst>
              <a:gd name="adj1" fmla="val 18750"/>
              <a:gd name="adj2" fmla="val -8333"/>
              <a:gd name="adj3" fmla="val -178162"/>
              <a:gd name="adj4" fmla="val 13854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 definir atributos y nive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4" action="ppaction://hlinksldjump"/>
          </p:cNvPr>
          <p:cNvSpPr/>
          <p:nvPr/>
        </p:nvSpPr>
        <p:spPr>
          <a:xfrm>
            <a:off x="6248520" y="1447920"/>
            <a:ext cx="1439640" cy="609480"/>
          </a:xfrm>
          <a:prstGeom prst="borderCallout1">
            <a:avLst>
              <a:gd name="adj1" fmla="val 18750"/>
              <a:gd name="adj2" fmla="val -8333"/>
              <a:gd name="adj3" fmla="val 266925"/>
              <a:gd name="adj4" fmla="val -88203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iseño de Cuest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5" action="ppaction://hlinksldjump"/>
          </p:cNvPr>
          <p:cNvSpPr/>
          <p:nvPr/>
        </p:nvSpPr>
        <p:spPr>
          <a:xfrm>
            <a:off x="6629400" y="5029200"/>
            <a:ext cx="1440000" cy="609480"/>
          </a:xfrm>
          <a:prstGeom prst="borderCallout1">
            <a:avLst>
              <a:gd name="adj1" fmla="val 18750"/>
              <a:gd name="adj2" fmla="val -8333"/>
              <a:gd name="adj3" fmla="val -282550"/>
              <a:gd name="adj4" fmla="val -70893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rer el cuest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6" action="ppaction://hlinksldjump"/>
          </p:cNvPr>
          <p:cNvSpPr/>
          <p:nvPr/>
        </p:nvSpPr>
        <p:spPr>
          <a:xfrm>
            <a:off x="1219320" y="1676520"/>
            <a:ext cx="1439640" cy="609480"/>
          </a:xfrm>
          <a:prstGeom prst="borderCallout1">
            <a:avLst>
              <a:gd name="adj1" fmla="val 18750"/>
              <a:gd name="adj2" fmla="val -8333"/>
              <a:gd name="adj3" fmla="val 216148"/>
              <a:gd name="adj4" fmla="val 216759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ámetros C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6205680" cy="4330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atributos y nive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286000"/>
            <a:ext cx="1828800" cy="36828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117620"/>
              <a:gd name="adj5" fmla="val 195601"/>
              <a:gd name="adj6" fmla="val 17004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a Atrib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067280"/>
            <a:ext cx="1808280" cy="36828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134064"/>
              <a:gd name="adj5" fmla="val 326657"/>
              <a:gd name="adj6" fmla="val 16399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a Nive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138480"/>
            <a:ext cx="1808280" cy="36828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164703"/>
              <a:gd name="adj5" fmla="val 447263"/>
              <a:gd name="adj6" fmla="val 39840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regar Ni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1628640"/>
            <a:ext cx="2144520" cy="36828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103550"/>
              <a:gd name="adj5" fmla="val 303319"/>
              <a:gd name="adj6" fmla="val 18956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regar Atrib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6205680" cy="4330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atributos y nive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5962680" cy="4305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ámetros C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4114800"/>
            <a:ext cx="1807920" cy="91692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174189"/>
              <a:gd name="adj5" fmla="val -107805"/>
              <a:gd name="adj6" fmla="val 24449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mero Compar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5421240"/>
            <a:ext cx="1807920" cy="1465560"/>
          </a:xfrm>
          <a:prstGeom prst="borderCallout2">
            <a:avLst>
              <a:gd name="adj1" fmla="val 18750"/>
              <a:gd name="adj2" fmla="val -8333"/>
              <a:gd name="adj3" fmla="val 9398"/>
              <a:gd name="adj4" fmla="val 147583"/>
              <a:gd name="adj5" fmla="val 8569"/>
              <a:gd name="adj6" fmla="val 19112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culo y generación de comparaciones en cuest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ámetros C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9800" cy="4172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4387680"/>
            <a:ext cx="1808280" cy="1739880"/>
          </a:xfrm>
          <a:prstGeom prst="borderCallout2">
            <a:avLst>
              <a:gd name="adj1" fmla="val 18750"/>
              <a:gd name="adj2" fmla="val -8333"/>
              <a:gd name="adj3" fmla="val 7666"/>
              <a:gd name="adj4" fmla="val 144777"/>
              <a:gd name="adj5" fmla="val -61314"/>
              <a:gd name="adj6" fmla="val 18540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ultado Calculo y generación de comparaciones en cuest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el cuest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5771880" cy="4105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010280" y="1752480"/>
            <a:ext cx="180828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42407"/>
              <a:gd name="adj5" fmla="val 162092"/>
              <a:gd name="adj6" fmla="val -80768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regar pregu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32160" y="1600200"/>
            <a:ext cx="180828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64967"/>
              <a:gd name="adj5" fmla="val 322393"/>
              <a:gd name="adj6" fmla="val -125972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ado de pregu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0280" y="2895480"/>
            <a:ext cx="180828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41263"/>
              <a:gd name="adj5" fmla="val 39078"/>
              <a:gd name="adj6" fmla="val -7848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ición de pregu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10280" y="4896000"/>
            <a:ext cx="1808280" cy="36828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43546"/>
              <a:gd name="adj5" fmla="val 190523"/>
              <a:gd name="adj6" fmla="val -8303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rr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828800" y="2895480"/>
            <a:ext cx="5257800" cy="3076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el cuest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1704960"/>
            <a:ext cx="3733920" cy="64260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-20916"/>
              <a:gd name="adj5" fmla="val 399884"/>
              <a:gd name="adj6" fmla="val -3987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regar pregunta usando formas predefin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05120" y="2895480"/>
            <a:ext cx="5257800" cy="3076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el cuest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1704960"/>
            <a:ext cx="3733920" cy="36828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-20916"/>
              <a:gd name="adj5" fmla="val 410250"/>
              <a:gd name="adj6" fmla="val -3987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regar pregunta manual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81080" y="3276720"/>
            <a:ext cx="3943440" cy="2485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el cuest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91120" y="1981080"/>
            <a:ext cx="3733560" cy="64260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-20916"/>
              <a:gd name="adj5" fmla="val 399884"/>
              <a:gd name="adj6" fmla="val -39875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regar pregunta Tipo “Texto Explicativ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liminar: Interfa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MRT: Interfaz general que provee el proveedor de Software (Sawtooth). Sus funcionalidades s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finición de atributos y nive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finición de cuestion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copilación de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lamada a los proceso de cálcu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00200" y="2590920"/>
            <a:ext cx="5772240" cy="3581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el cuest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1905120"/>
            <a:ext cx="3733920" cy="36828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-20916"/>
              <a:gd name="adj5" fmla="val 410250"/>
              <a:gd name="adj6" fmla="val -3987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finición “Texto Explicativ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el cuest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52480" y="2514600"/>
            <a:ext cx="5772240" cy="4105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038480" y="1704960"/>
            <a:ext cx="3733920" cy="64260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-20916"/>
              <a:gd name="adj5" fmla="val 399884"/>
              <a:gd name="adj6" fmla="val -3987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evo listado de preguntas con el “Texto Explicativ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00400" y="2681280"/>
            <a:ext cx="2743200" cy="14954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r el cuest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4713120"/>
            <a:ext cx="3733920" cy="1465560"/>
          </a:xfrm>
          <a:prstGeom prst="borderCallout2">
            <a:avLst>
              <a:gd name="adj1" fmla="val 18750"/>
              <a:gd name="adj2" fmla="val -8333"/>
              <a:gd name="adj3" fmla="val 7666"/>
              <a:gd name="adj4" fmla="val -16453"/>
              <a:gd name="adj5" fmla="val -77430"/>
              <a:gd name="adj6" fmla="val -30944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 poder procesar los datos, estos deben ser guardados. No guarden hasta que estén conformes con el diseño del cuest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pilando información distribuidam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2743200" y="3048120"/>
          <a:ext cx="3067200" cy="149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048120"/>
                    <a:ext cx="3067200" cy="14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6421320" y="2033640"/>
            <a:ext cx="1808280" cy="9169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56805"/>
              <a:gd name="adj5" fmla="val 170444"/>
              <a:gd name="adj6" fmla="val -11148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cer Discos de Recopi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2743200"/>
            <a:ext cx="180828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9861"/>
              <a:gd name="adj5" fmla="val 165884"/>
              <a:gd name="adj6" fmla="val -7690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umular datos desde dis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4038480"/>
            <a:ext cx="180828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40560"/>
              <a:gd name="adj5" fmla="val 14324"/>
              <a:gd name="adj6" fmla="val -78138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cer encuesta Imp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4800600"/>
            <a:ext cx="1828800" cy="1143000"/>
          </a:xfrm>
          <a:prstGeom prst="borderCallout2">
            <a:avLst>
              <a:gd name="adj1" fmla="val 18750"/>
              <a:gd name="adj2" fmla="val -8333"/>
              <a:gd name="adj3" fmla="val 10000"/>
              <a:gd name="adj4" fmla="val -50953"/>
              <a:gd name="adj5" fmla="val -32638"/>
              <a:gd name="adj6" fmla="val -99652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umular encuesta desde archivos de tex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r encues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3229200" cy="4676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cer discos recopi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14800" y="2576520"/>
            <a:ext cx="2714400" cy="17049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umular datos desde dis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843200" y="2124000"/>
            <a:ext cx="5457600" cy="2610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cer encuesta impre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14600" y="2590920"/>
            <a:ext cx="4076640" cy="26859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umular datos de encuesta impre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culando funciones de uti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liminar: Méto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herramienta provee 3 métodos para la realización de análisis conjun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joint Value Analysis (CV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hoice Base Conjoint (CBC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daptative Conjoint Analysis (A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3733920" y="3124080"/>
          <a:ext cx="155736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3124080"/>
                    <a:ext cx="15573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culando funciones de uti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78520" y="2502000"/>
            <a:ext cx="180828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67777"/>
              <a:gd name="adj5" fmla="val 269259"/>
              <a:gd name="adj6" fmla="val -133796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ibración del 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53080" y="4848120"/>
            <a:ext cx="1808280" cy="1739880"/>
          </a:xfrm>
          <a:prstGeom prst="borderCallout2">
            <a:avLst>
              <a:gd name="adj1" fmla="val 18750"/>
              <a:gd name="adj2" fmla="val -8333"/>
              <a:gd name="adj3" fmla="val 6476"/>
              <a:gd name="adj4" fmla="val -49958"/>
              <a:gd name="adj5" fmla="val -1611"/>
              <a:gd name="adj6" fmla="val -9761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ulación de mercado y visualización de las funciones de utilidad pa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6048360" cy="5257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010280" y="2590920"/>
            <a:ext cx="180828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82439"/>
              <a:gd name="adj5" fmla="val -225472"/>
              <a:gd name="adj6" fmla="val -163634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ibración del 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6048360" cy="5257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162920" y="2438280"/>
            <a:ext cx="180792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64444"/>
              <a:gd name="adj5" fmla="val 176648"/>
              <a:gd name="adj6" fmla="val -126935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ibración del 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7220160" cy="5305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029200" y="3124080"/>
            <a:ext cx="180828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68305"/>
              <a:gd name="adj5" fmla="val -281518"/>
              <a:gd name="adj6" fmla="val -13493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isualización ut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61920" y="776160"/>
            <a:ext cx="7220160" cy="53056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715000" y="2362320"/>
            <a:ext cx="180828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67777"/>
              <a:gd name="adj5" fmla="val 269259"/>
              <a:gd name="adj6" fmla="val -133796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tilidades par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V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étodo tradicional. Las comparaciones se hacen en una escala gradual de preferencia. Al entrevistado se le pide que diga el grado de preferencia entre dos perf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calibraciones de las preferencias se hacen en base a regres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B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entrevistado se le pide que elija cual es el perfil que prefiere forzando que se quede solo con un perfil por compa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calibraciones de las preferencias se hacen usando LOGIT (alternativamente, como veremos en clases podemos calibrar con un P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entrevistado se le que vaya haciendo comparaciones parciales. Las comparaciones que deben hacerse se calculan dinámicamente en base a los requerimientos de inform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DII no tiene licencias para la aplicación de este método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ve guía de procedi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828880" y="3341520"/>
          <a:ext cx="3267000" cy="122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8880" y="3341520"/>
                    <a:ext cx="3267000" cy="12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971880" y="4865760"/>
            <a:ext cx="1803600" cy="368280"/>
          </a:xfrm>
          <a:prstGeom prst="borderCallout1">
            <a:avLst>
              <a:gd name="adj1" fmla="val 18750"/>
              <a:gd name="adj2" fmla="val -8333"/>
              <a:gd name="adj3" fmla="val -255467"/>
              <a:gd name="adj4" fmla="val -4787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File→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r 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09680" y="2932200"/>
            <a:ext cx="4572000" cy="3011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495680" y="2246400"/>
            <a:ext cx="1440000" cy="609480"/>
          </a:xfrm>
          <a:prstGeom prst="borderCallout1">
            <a:avLst>
              <a:gd name="adj1" fmla="val 18750"/>
              <a:gd name="adj2" fmla="val -8333"/>
              <a:gd name="adj3" fmla="val 491407"/>
              <a:gd name="adj4" fmla="val -68245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legir No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r 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8T10:35:03Z</dcterms:created>
  <dc:creator>Marcel Goic F.</dc:creator>
  <dc:description/>
  <dc:language>en-US</dc:language>
  <cp:lastModifiedBy>Marcel Goic F.</cp:lastModifiedBy>
  <dcterms:modified xsi:type="dcterms:W3CDTF">2004-05-18T14:06:06Z</dcterms:modified>
  <cp:revision>6</cp:revision>
  <dc:subject/>
  <dc:title>SMRT: Software para la realización de análisis conjunto</dc:title>
</cp:coreProperties>
</file>