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D1B8CD-3B50-4411-ADBB-D3B144639214}"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D4BE6-5351-430B-8763-0B21C4130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0252207-C1B6-4650-99B5-8EF653510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0917183-519D-4570-A147-AF7DBD909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2BC2604-43B4-41DD-93C5-7FC07206A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59D83-CF53-42EC-A78E-C9C89D5BBE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C100F89-8349-4BAE-B826-F8609FEE9C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EED128D-591E-40FE-9BD1-53ED26AFC2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460CE38-B500-4CCD-B5F3-9C3D2E192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A0D46CC-19D8-446B-85CE-B1EA6CBC0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8C2E26F5-D24A-4448-B707-5C27CB1FA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5605469-2C1A-4E63-87C5-9888EA7E0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12ABCC4-2F1C-4EF1-AA76-22566C2E5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9C08337-BFA1-4224-9AA3-BF8D47AB6A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EDA1C0F-8231-4421-B240-37F4405443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116BDAB-DAC4-4914-B371-3350AD4DD2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F5B29B7-3E39-4841-BEA7-889799B113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9267159-78B9-4A0F-9B3D-AA647F4EA8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FAEB9BD-4908-4FF1-A452-59A861FB5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B453C45-4DD2-4B23-BB47-4B4EE92A0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0DDA329-3555-4B03-B8E3-024FE96F0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761678D-BD7B-4EF7-80F6-6EB7F512FC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BCA0709-255C-4BAD-A890-F5E4FFE696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A1779A3-32D7-402F-9585-61ECF011E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DE95EE6-A255-414C-B246-DC5260EABD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380-ABA5-4AF5-B172-3EB8D1B55C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EEBF-DAA6-4429-A42B-F994EFFF821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6086C5C2-0DE1-4AB4-95DC-291159F22F2A}"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3955143-1E34-403A-8ED0-3314C24FB46C}"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BA402C55-5B1E-4CF1-9C2E-2613AC5AF168}"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494BCCF-6968-4321-A163-B25727E240FD}"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EDEFDEA-E911-4B01-B4C0-7F2988E432F8}"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21DC80A-4F31-40A4-ACE2-A46D4AADED16}"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9ABDFBB1-4659-452C-8BA0-357C4C784279}"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59166521-4FC9-48F2-938D-61A36651AF72}"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A05856D4-AD91-4A76-9C0F-2C4EE931FA50}"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57C7566C-DB22-4F33-9C69-EF2ABA037D72}"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FBC4230-354F-4C2C-B2F4-14A5F81C5758}"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FE38DF5-E311-481A-966D-9C88B74A9DA9}"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0C9E0B0-5F09-4D34-AE2B-E7AA570739CA}"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9473B912-3160-435E-93D8-8457482EAFEC}"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C67154EC-03F4-44DF-9762-5E2BA3386780}"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AF5B8FC-E6D8-48BF-9044-1149632DE73C}"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60472220-925D-4599-B4C1-F08D08DD6952}"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72F783E9-18AD-465C-A22E-5979CCCBCD08}"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098C4F-C9EC-4F3D-BF01-041EF7233E52}"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3804B6BA-BA8E-4EAA-B214-3AD382678EA9}"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832C86-FD26-4BA1-8298-BFF966748039}"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E2076CDA-D4CB-4499-A791-EFDE4370D75C}"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6D3A935-7DE1-4113-91E3-83A8C03B715B}"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8A56247-6783-4565-916D-A08625F14961}"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CFA0FA96-7E9E-4783-BF20-FF9EB54CED25}"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2E02980B-3FDB-4B7C-83D9-BC5B78FF7F6D}"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7C276999-13FE-43E9-BE3B-867BEDFE7EDC}"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73950A15-221A-46AF-AB6B-7BFEF91D39C0}"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01575FE-118E-44EE-81D9-AECF1B9FCBDE}"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82A791A-2F2A-4E22-87B9-EC72B8E670F2}"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A641A49-51C4-4F86-85A8-DCA53B13D3BF}"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D88D126A-7C76-4E41-A279-16E442F5FE92}"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684D739-6170-4E3D-9831-61482B822877}"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46CF68A-6D93-4DEE-9EC1-DD6D24DCCBAC}"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6767A48-7066-44E8-8866-F884EF7D79D7}"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4D5D48E-C0A3-4520-92CF-7B8388DDFEB2}"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26B0655-2CA7-4F89-95B2-0AD2BABF1B5B}"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C0B817A-35FE-4FFD-AE7A-C4DA414C140C}"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2802901-F5D5-4C98-84E5-F1FFE4A22E86}"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DE6C3824-72DD-409E-95E8-BA35A76DB02C}"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A48FDF7C-F815-4A62-A339-C5472478761F}"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89F52E1B-8929-4724-BBCC-B17392809630}"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09C59A96-6747-4F7E-A7C2-E667CFA731A6}"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A7C8B46-47D1-4C20-BAF4-6C65E26D42C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0F072C4F-3F97-4D1A-88E2-ACE0D54357C5}"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9354E95-38A2-45C1-A090-AF00F3DE3F22}"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C57D562-F41D-4D80-9858-4AAF2F03B155}"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B9FCD61-D476-4B58-8901-4E9CD600C012}"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milio</cp:lastModifiedBy>
  <dcterms:modified xsi:type="dcterms:W3CDTF">2006-08-28T06:03:36Z</dcterms:modified>
  <cp:revision>943</cp:revision>
  <dc:subject/>
  <dc:title>Propuesta Modelo Evaluación Impacto Programa Capacitación</dc:title>
</cp:coreProperties>
</file>