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7121DA47-8796-4CDA-AE1A-B8B062209150}"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769162-C169-4FE6-BAAC-E96283DF2B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790D987D-570B-4149-960F-1204FC51E9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E83A738A-7FB1-40A7-BD58-85CBD93641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F0B8958F-8451-4883-B4C5-63C9596BEA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A838215-B691-4BB4-A117-A6C14821B40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F82A10D9-1D18-427B-90EF-EB7CC90719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29B71613-758D-4860-ADA7-691F12D43F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D29502D4-0879-4225-9154-8FADBB67C0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C3F4D622-0951-4360-A97C-F30E053CCD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4037B3BC-D03C-4E01-BF01-32D043FF4C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1DD42C69-F8AB-461B-9203-B1237FAFA1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614AFBCE-985C-4FD9-AB82-44A84F010F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95E6A30B-8E8C-4286-AEFA-C39AEAA468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D03B83CC-2C67-462E-A8FD-455A2AF708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02FAB3B5-75C3-45F4-8E39-1B456452582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BAC9D7AB-33A4-4098-A526-01457FBD39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BA2717E-4D4A-4902-9947-0949C7F0609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EB03808B-823C-4D33-A321-9901F4FA1D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0E0CE4EE-426A-4B7B-98BA-B0EF753DC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4836AAE-24A1-47BB-9E32-796ACB9E42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86C54DC5-059B-4F38-B826-46FB531AB1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AD928414-8CB3-4042-A8F7-71E2B5A43A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2A3FD8BD-6BE4-4999-AFE9-9AAF44EF648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48C45DD8-8009-420B-BC1E-007D6D592E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8CE74F-AD9A-433D-ABDB-28B89DCA27D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70402-15DF-4850-BF6E-5C827FE7697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C77E8935-17B1-48D1-B29E-C7D2C8B03F48}"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16870C1-A153-40D5-B5AE-AA0C16426B0F}"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9954B50E-E65D-44E0-9D3F-15C2A2B91885}"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159C001-B44F-4D23-9300-625B213AF54E}"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BED9FD41-758F-4447-B7D8-73840ABEC765}"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F88FCB79-64C7-4659-B2C5-A23BA95BDE76}"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535A8063-D677-40BA-A1EE-F39AC756AC18}"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2E8EE6F9-DD33-47A7-9F5C-3C3F8ABD4BFD}"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E03CF2E5-A391-4561-9409-A4CC2D8858BB}"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894927F2-928E-47C5-A8D3-A0D5111FCE49}"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9F5DFF5-BB06-4079-BC6E-317F39AC1D29}"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C7DC4E21-16DF-4F61-B142-270A56700D69}"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66715183-A23E-4B8D-8873-CD3B4436D118}"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C1ECBB04-1C05-4D91-9DB1-393283E55E5E}"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D4335CCA-835B-4CA6-9AFF-770FA8B0824E}"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DED7D28-BF18-4A24-9D0D-BB4F8B8EBE58}"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71BC79FE-2B06-45B7-A7D0-894CE2826B36}"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73FC770A-877C-4FEC-976A-FF06BE38450C}"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EEC5CEB8-B635-4777-A7B0-0A81701A654C}"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A646E6CF-2C89-4AF3-909C-9638B1CA6731}"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F961D0A-3D00-4D41-994F-E4214C8D8CE5}"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EB758ED1-2874-43B7-B49A-BB98FF198809}"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7DB322E-9502-4BC1-840A-E97E72B6DB68}"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174A7EA-829A-4072-AA67-E7B5BFF6CEFC}"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0BE14F9A-BAA2-4658-93E7-F45C7D59CB5C}"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865D42B2-1C5C-422D-B7F8-F41BC04C549A}"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7B405229-B7E2-4B99-932F-E55C0FE65866}"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ADD1901A-B818-4387-82A8-72D71B72BD75}"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D5FB0B36-2960-4910-8868-DD9BF356DAFB}"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C284FFA4-BB84-44A8-BDB2-98138635ED16}"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30317F2-6C17-4753-B020-11AC6E4F1E79}"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65E6E4D7-98AD-40E3-AFA7-355C29C4BB6C}"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7FF97898-6D01-4AB7-B447-9437AFB53224}"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DF5AFC4-8BB4-48DC-B849-410DE16081B6}"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0F90E97-FFF0-4304-8D35-841592152888}"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0A4A4B4-6E55-4E8B-8AA4-6B0A6CBC6816}"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4A0482EC-4430-4D7A-839D-C500E42F18D1}"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0DEF62E-EF63-4CAA-802C-AB93E0775C8A}"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7BB55A1-689C-4D32-87AD-C3D90A918678}"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3982BE49-28AB-4D1F-B379-74B526A6282F}"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4AC5FC4D-1AB3-4E9E-8716-E498F03CFDC1}"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20628560-8007-4DD4-A986-1EE30003BEFF}"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3F18ADE4-38CF-4FFD-8C07-22D48507D771}"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75A03B16-A924-4EA3-A496-4DCD5F6999BA}"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B397EE7E-E5A3-4D3E-B9CF-2CD860CAD39B}"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ECEE700-8ACB-4B12-A07A-8F05B0FDA1C7}"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BE23566-F752-4678-A7C3-A668D3225D52}"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7CEBDA5-147E-4AD8-8D8E-9AB2CCF6FD16}"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milio</cp:lastModifiedBy>
  <dcterms:modified xsi:type="dcterms:W3CDTF">2006-08-28T06:03:36Z</dcterms:modified>
  <cp:revision>943</cp:revision>
  <dc:subject/>
  <dc:title>Propuesta Modelo Evaluación Impacto Programa Capacitación</dc:title>
</cp:coreProperties>
</file>