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4015-BE08-4B24-9E16-CCB37D928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603B-22D5-4A6A-A17F-41E99A2B8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4918-B1F9-45F6-BAE2-26AE09344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216ED-90D6-4554-B54C-768F0C99E4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29E15-5313-4A87-B806-D1BB9677D0C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5E47-528B-4640-9271-3FD07C374FF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EDB96-2BB1-4988-A3A8-E5E2A7F94D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CD28D-A591-4473-B598-C72EFF476B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7CEC1-D3E2-4AEF-894D-4B316710D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89603-7B0C-4F3D-A48E-E16B1DDCEE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F9D2-D4FE-404C-B146-92B78B9952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D8FAA-3978-4506-B55F-981CB80EB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ABA4D-876C-46BF-BE49-5347C62880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6B6A1-DF8D-4931-8906-BA7A72D36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3F379-505A-41E5-9DBB-C62CF99676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A9BF-0202-47CC-B606-3F12E85B98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3B87C-2253-46E6-8C3A-77E702F465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E0CC1-FDFA-44CE-99EF-D6B97CE5F8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BDB5-1418-4242-A3CD-FF2462562B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61B5-B2F2-48AC-A97D-1DBCED717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12EF7-F580-4F2F-AD58-839CFB7E8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9E956-7C8A-49BF-987B-97F7F8F73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6F80-3C65-4105-8AC6-2A907CB4E4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426E-C84D-4709-9537-0B88F62417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DF04-4C9F-4D98-B1FF-D1622564EE5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696080" y="6418440"/>
            <a:ext cx="1447920" cy="439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ldNum" idx="2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2CC8E-DD8B-46A3-885A-3C68660DF4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2286000" cy="69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Tahoma"/>
              </a:rPr>
              <a:t>Uso de modelos matemáticos en Marketing</a:t>
            </a:r>
            <a:endParaRPr b="1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IN58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geniería de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Nicolás Frit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Emilio Pol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Mauricio Ramírez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cc"/>
                </a:solidFill>
                <a:latin typeface="Tahoma"/>
              </a:rPr>
              <a:t>William You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1411200" y="6568920"/>
            <a:ext cx="64008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Basado en material preparado por M.Goic y M.Bos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71DA-3E5B-4E1B-BC05-D8FAB339F082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Importancia y beneficio del uso de modelos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 premisa básica de hacer ingeniería de marketing es que el proceso de construcción de modelos mejora las decis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jorar la consistencia de las decis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xplorar mas escenarios / op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valuar el impacto relativo de las variab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acilitar los procesos de decisión grup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0560" indent="-5227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actualizan los modelos mentales subjetiv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8D883-19C2-45D1-A3D6-34ED3176A57B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55640" y="1989000"/>
            <a:ext cx="7773480" cy="3821040"/>
            <a:chOff x="755640" y="1989000"/>
            <a:chExt cx="7773480" cy="382104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755640" y="1989000"/>
              <a:ext cx="7632720" cy="320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4364640" y="5229360"/>
              <a:ext cx="416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Correlación entre respuesta y pronóstic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ahoma"/>
                </a:rPr>
                <a:t>Marketing Engineering (p14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34715-B862-4C53-BFFB-AF3826C58233}" type="slidenum">
              <a:t>11</a:t>
            </a:fld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ríticas al uso de modelos en marketing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791820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unque pueden generar beneficios significativos, muchos administradores son reticentes a su aplic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 veces los modelos mentales son suficientemente buenos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permiten adaptar a nuevas sit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os modelos son incompleto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Es preferible a no tener nad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Administradores no ven el costo de oportunidad de sus decision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No se cuantifica la perdida de utilidad de cada decisión tom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Modelos enfatizan el análisis por sobre la ac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Tendencia a integrar al analista y el tomador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Temor de mandos medios de perder importancia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Los modelos no reemplazan, mas bien potenci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80640" indent="-528120" algn="just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0000"/>
                </a:solidFill>
                <a:latin typeface="Tahoma"/>
              </a:rPr>
              <a:t>La dificultad en la implantación no justifica el costo.</a:t>
            </a:r>
            <a:r>
              <a:rPr b="0" lang="es-ES_tradnl" sz="1800" spc="-1" strike="noStrike">
                <a:solidFill>
                  <a:srgbClr val="000099"/>
                </a:solidFill>
                <a:latin typeface="Tahoma"/>
              </a:rPr>
              <a:t> Avances tecnológicos ha disminuido costos y aumentado complejidad de las decisione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29A9E-B028-4AFB-A03F-19AA57BC632A}" type="slidenum">
              <a:t>12</a:t>
            </a:fld>
          </a:p>
        </p:txBody>
      </p:sp>
    </p:spTree>
  </p:cSld>
  <p:transition>
    <p:split dir="in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modelos no son perfectos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22480" y="241128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128600" y="2406600"/>
            <a:ext cx="3224160" cy="2665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5194440" y="2133720"/>
            <a:ext cx="3127320" cy="3279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4360" y="5805360"/>
            <a:ext cx="7702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empre es mejor tener algo que no tener nada (a menos que cueste demasiado car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82800" y="1700280"/>
            <a:ext cx="39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gunos modelos son bueno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92240" y="1700280"/>
            <a:ext cx="213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no tanto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5191200" y="2131920"/>
            <a:ext cx="3127320" cy="3279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16B2-4FFC-4AD4-8136-94FA478629A8}" type="slidenum">
              <a:t>13</a:t>
            </a:fld>
          </a:p>
        </p:txBody>
      </p:sp>
    </p:spTree>
  </p:cSld>
  <p:transition>
    <p:split dir="in" orient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Para utilizar modelos en marketing se debe ser conciente qu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función comercial, por definición debe hacerse cargo de la interacción co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rson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las que por su naturaleza única y cambiante dificultan mucho la estructuración de los fenómenos en que intervien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modelos en marketing deb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r consistentes con el comportamiento esperable de los consumido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ener base empírica en los mercados releva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C6928-7C2F-48F5-A51F-DF41A7304A6B}" type="slidenum">
              <a:t>14</a:t>
            </a:fld>
          </a:p>
        </p:txBody>
      </p:sp>
    </p:spTree>
  </p:cSld>
  <p:transition>
    <p:split dir="in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1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773000"/>
            <a:ext cx="791856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spuesta de ventas a un instrumento individual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general, buscamos respuestas de venta ante acciones individuales, pero la venta depende de muchos factores simultáneam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del marketing mix en las decision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decisiones son multivariadas y las relaciones suelen ser altamente no line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ectos de la competenci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entas no solo dependen de mis decisiones sino que también de las acciones de la competencia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acto desfasad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respuestas de las acciones de marketing puede distribuirse en el tiemp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1A832-1CBE-45BC-9A9C-345F31B473B0}" type="slidenum">
              <a:t>15</a:t>
            </a:fld>
          </a:p>
        </p:txBody>
      </p:sp>
    </p:spTree>
  </p:cSld>
  <p:transition>
    <p:split dir="in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territori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aplicación de actividades de marketing pueden tener un efecto muy distinto para cada reg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Product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interacción de distintos productos (complementarios/sustitutos) dificulta la toma de decis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últiples met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jetivos contrapuestos: “Maximas ventas y minimo costo” o “Maxima rotación vs minimo quiebre de stock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acción funcio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chas veces, las decisiones de marketing no pueden ser separadas de las funciones operacionales y financie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Dificultades del uso de modelos en marketing (2)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9B39-25FC-4C6E-BCF8-BCD89A3CCFB7}" type="slidenum">
              <a:t>16</a:t>
            </a:fld>
          </a:p>
        </p:txBody>
      </p:sp>
    </p:spTree>
  </p:cSld>
  <p:transition>
    <p:split dir="in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Tahoma"/>
              </a:rPr>
              <a:t>Clasificación de modelos de marketing</a:t>
            </a:r>
            <a:endParaRPr b="1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odologí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pósi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81172-4464-448E-9B0A-9D8D88BD6DCD}" type="slidenum">
              <a:t>17</a:t>
            </a:fld>
          </a:p>
        </p:txBody>
      </p:sp>
    </p:spTree>
  </p:cSld>
  <p:transition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metodología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erbal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describen con palabr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ecen de cuantific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ncill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Gráf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explicitan las rel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uían el análisi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rven de puente entre modelos verbales y matemátic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temático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tipo y magnitud de las relaciones se definen formalmente por medio de ecu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434360" y="2133720"/>
            <a:ext cx="666720" cy="3527280"/>
            <a:chOff x="7434360" y="2133720"/>
            <a:chExt cx="666720" cy="3527280"/>
          </a:xfrm>
        </p:grpSpPr>
        <p:sp>
          <p:nvSpPr>
            <p:cNvPr id="147" name=""/>
            <p:cNvSpPr/>
            <p:nvPr/>
          </p:nvSpPr>
          <p:spPr>
            <a:xfrm flipV="1">
              <a:off x="810108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34360" y="3635280"/>
              <a:ext cx="180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16200000">
              <a:off x="7198560" y="3782520"/>
              <a:ext cx="127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Simplicid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8388360" y="2133720"/>
            <a:ext cx="651960" cy="3527280"/>
            <a:chOff x="8388360" y="2133720"/>
            <a:chExt cx="651960" cy="3527280"/>
          </a:xfrm>
        </p:grpSpPr>
        <p:sp>
          <p:nvSpPr>
            <p:cNvPr id="151" name=""/>
            <p:cNvSpPr/>
            <p:nvPr/>
          </p:nvSpPr>
          <p:spPr>
            <a:xfrm>
              <a:off x="8388360" y="2133720"/>
              <a:ext cx="0" cy="352728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7704720" y="3535920"/>
              <a:ext cx="2090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99"/>
                  </a:solidFill>
                  <a:latin typeface="Tahoma"/>
                </a:rPr>
                <a:t>Capacidad de análi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900000" y="6021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99"/>
                </a:solidFill>
                <a:latin typeface="Tahoma"/>
              </a:rPr>
              <a:t>Los 3 tipos son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7882F-1D58-4EFC-A239-57A10CF3F1B6}" type="slidenum">
              <a:t>18</a:t>
            </a:fld>
          </a:p>
        </p:txBody>
      </p:sp>
    </p:spTree>
  </p:cSld>
  <p:transition>
    <p:split dir="in" orient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64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Verb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s ventas de un nuevo producto parten tan lentamente como los “innovadores” de la población adoptan el product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s innovadores influencian a los “imitadores” llevando a acelerar el crecimiento de las venta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mo más personas en la población compran el producto, las ventas totales continúan incrementándose pero la tasa de crecimiento de las ventas es menor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0180-A2B0-46BB-A636-1819376750FB}" type="slidenum">
              <a:t>19</a:t>
            </a:fld>
          </a:p>
        </p:txBody>
      </p:sp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99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gunas preguntas que el marketing cuantitativo nos ayuda a resolv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precio debería fijar a los distintos productos de una línea para maximizar las venta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aumento mi gasto publicitario en un 20%, ¿como impactará en la participación de mercado de la marc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Qué características debiera tener el nuevo producto que lancemos al mercado el próximo semest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Cuántos vendedores debiéramos asignar a cada una de las marcas que comercializa la compañía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¿Cuánto espacio le asigno en la góndola de las Galletas a cada SKU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75FA-E9D2-4445-9F58-11D1736ADEEB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1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023840" y="2546280"/>
            <a:ext cx="8001000" cy="4098600"/>
            <a:chOff x="1023840" y="2546280"/>
            <a:chExt cx="8001000" cy="4098600"/>
          </a:xfrm>
        </p:grpSpPr>
        <p:sp>
          <p:nvSpPr>
            <p:cNvPr id="159" name=""/>
            <p:cNvSpPr/>
            <p:nvPr/>
          </p:nvSpPr>
          <p:spPr>
            <a:xfrm>
              <a:off x="2968560" y="2546280"/>
              <a:ext cx="373392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amaño Población Fij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38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281640" y="3770280"/>
              <a:ext cx="2743200" cy="36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28920" y="3483000"/>
              <a:ext cx="304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3333cc"/>
                  </a:solidFill>
                  <a:latin typeface="Tahoma"/>
                </a:rPr>
                <a:t>Influe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238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nnov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281640" y="4832280"/>
              <a:ext cx="274320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Tiempo de compras de imita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68560" y="6002280"/>
              <a:ext cx="3733920" cy="64260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3333cc"/>
                  </a:solidFill>
                  <a:latin typeface="Tahoma"/>
                </a:rPr>
                <a:t>Patrón del Crecimiento de Ventas de un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6" name=""/>
            <p:cNvCxnSpPr>
              <a:stCxn id="163" idx="2"/>
              <a:endCxn id="165" idx="1"/>
            </p:cNvCxnSpPr>
            <p:nvPr/>
          </p:nvCxnSpPr>
          <p:spPr>
            <a:xfrm flipH="1" rot="16200000">
              <a:off x="2262960" y="5643360"/>
              <a:ext cx="824400" cy="56124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4" idx="2"/>
              <a:endCxn id="165" idx="3"/>
            </p:cNvCxnSpPr>
            <p:nvPr/>
          </p:nvCxnSpPr>
          <p:spPr>
            <a:xfrm rot="5400000">
              <a:off x="6771600" y="5454720"/>
              <a:ext cx="824400" cy="93888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0" idx="2"/>
              <a:endCxn id="163" idx="0"/>
            </p:cNvCxnSpPr>
            <p:nvPr/>
          </p:nvCxnSpPr>
          <p:spPr>
            <a:xfrm>
              <a:off x="2395080" y="4175280"/>
              <a:ext cx="1080" cy="645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1" idx="2"/>
              <a:endCxn id="164" idx="0"/>
            </p:cNvCxnSpPr>
            <p:nvPr/>
          </p:nvCxnSpPr>
          <p:spPr>
            <a:xfrm flipV="1" rot="10800000">
              <a:off x="7652520" y="4174920"/>
              <a:ext cx="1080" cy="645120"/>
            </a:xfrm>
            <a:prstGeom prst="bentConnector2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59" idx="2"/>
              <a:endCxn id="160" idx="0"/>
            </p:cNvCxnSpPr>
            <p:nvPr/>
          </p:nvCxnSpPr>
          <p:spPr>
            <a:xfrm flipH="1">
              <a:off x="2395080" y="2951280"/>
              <a:ext cx="244080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9" idx="2"/>
              <a:endCxn id="161" idx="0"/>
            </p:cNvCxnSpPr>
            <p:nvPr/>
          </p:nvCxnSpPr>
          <p:spPr>
            <a:xfrm>
              <a:off x="4835160" y="2951280"/>
              <a:ext cx="2818440" cy="80712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0" idx="3"/>
              <a:endCxn id="161" idx="1"/>
            </p:cNvCxnSpPr>
            <p:nvPr/>
          </p:nvCxnSpPr>
          <p:spPr>
            <a:xfrm>
              <a:off x="3780000" y="3966840"/>
              <a:ext cx="2489400" cy="1080"/>
            </a:xfrm>
            <a:prstGeom prst="straightConnector1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32825-961C-424A-9CF4-05AA485D6A3C}" type="slidenum">
              <a:t>20</a:t>
            </a:fld>
          </a:p>
        </p:txBody>
      </p:sp>
    </p:spTree>
  </p:cSld>
  <p:transition>
    <p:split dir="in" orient="horz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Gráfico(2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322360" y="3151080"/>
            <a:ext cx="4645080" cy="2965680"/>
          </a:xfrm>
          <a:custGeom>
            <a:avLst/>
            <a:gdLst/>
            <a:ahLst/>
            <a:rect l="l" t="t" r="r" b="b"/>
            <a:pathLst>
              <a:path w="3560" h="2291">
                <a:moveTo>
                  <a:pt x="0" y="2291"/>
                </a:moveTo>
                <a:cubicBezTo>
                  <a:pt x="76" y="2282"/>
                  <a:pt x="256" y="2291"/>
                  <a:pt x="456" y="2235"/>
                </a:cubicBezTo>
                <a:cubicBezTo>
                  <a:pt x="656" y="2179"/>
                  <a:pt x="1004" y="2090"/>
                  <a:pt x="1200" y="1955"/>
                </a:cubicBezTo>
                <a:cubicBezTo>
                  <a:pt x="1396" y="1820"/>
                  <a:pt x="1499" y="1620"/>
                  <a:pt x="1632" y="1427"/>
                </a:cubicBezTo>
                <a:cubicBezTo>
                  <a:pt x="1765" y="1234"/>
                  <a:pt x="1808" y="1011"/>
                  <a:pt x="2000" y="795"/>
                </a:cubicBezTo>
                <a:cubicBezTo>
                  <a:pt x="2192" y="579"/>
                  <a:pt x="2524" y="262"/>
                  <a:pt x="2784" y="131"/>
                </a:cubicBezTo>
                <a:cubicBezTo>
                  <a:pt x="3044" y="0"/>
                  <a:pt x="3398" y="36"/>
                  <a:pt x="3560" y="11"/>
                </a:cubicBezTo>
              </a:path>
            </a:pathLst>
          </a:custGeom>
          <a:noFill/>
          <a:ln w="316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476360" y="2637000"/>
            <a:ext cx="5616720" cy="4033800"/>
            <a:chOff x="1476360" y="2637000"/>
            <a:chExt cx="5616720" cy="4033800"/>
          </a:xfrm>
        </p:grpSpPr>
        <p:sp>
          <p:nvSpPr>
            <p:cNvPr id="177" name=""/>
            <p:cNvSpPr/>
            <p:nvPr/>
          </p:nvSpPr>
          <p:spPr>
            <a:xfrm flipV="1">
              <a:off x="2320920" y="2637000"/>
              <a:ext cx="0" cy="354168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00400" y="6178680"/>
              <a:ext cx="45734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0000" y="3068640"/>
              <a:ext cx="4680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11400" y="6302520"/>
              <a:ext cx="306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iem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6200000">
              <a:off x="105480" y="4151880"/>
              <a:ext cx="33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Ventas Acumuladas nuevo produc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276720" y="2637000"/>
              <a:ext cx="38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99"/>
                  </a:solidFill>
                  <a:latin typeface="Verdana"/>
                </a:rPr>
                <a:t>Tamaño de la población fij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3F199-5FDA-43EB-B45A-EDFDE1EED7AC}" type="slidenum">
              <a:t>21</a:t>
            </a:fld>
          </a:p>
        </p:txBody>
      </p:sp>
    </p:spTree>
  </p:cSld>
  <p:transition>
    <p:split dir="in" orient="horz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jemplo: modelos de penetración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ahoma"/>
              </a:rPr>
              <a:t>Matemát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771640" y="3068640"/>
          <a:ext cx="295128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068640"/>
                    <a:ext cx="29512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332000" y="4292640"/>
          <a:ext cx="67690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292640"/>
                    <a:ext cx="67690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47C99-82D0-427A-A0AE-DAFC59FA2F32}" type="slidenum">
              <a:t>22</a:t>
            </a:fld>
          </a:p>
        </p:txBody>
      </p:sp>
    </p:spTree>
  </p:cSld>
  <p:transition>
    <p:split dir="in" orient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Según propósito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02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scriptivos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cuantificar la demanda o algún elemento asoci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variables independientes suelen ser las actividades del marketing mix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ípicamente comprenden una etapa de definición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ructura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y otra d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alibración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de Decisió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buscan sugerencias a los valores que debe tomar las variables asociadas a las acciones de market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odelos Teóric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can el efecto de postular un conjunto de supuestos sobre algún fenómeno. Ayudan a entender fenómenos y generan hipótesis que pueden apoyar modelos mas operacion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odelos de Pronóstico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objetivo es pronosticar el valor que tomará una variable en el futur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E4973-56A7-4060-A64C-98D2CC60CBE0}" type="slidenum">
              <a:t>23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arketing necesita de los modelos matemáticos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9000"/>
            <a:ext cx="806292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batalla por los mercados de consumo masivo ha crecido en intensidad en las últimas déc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etidores cada vez más dinámicos y agresiv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sumidores cada vez más exigentes y complej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s con crecimientos planos o ciclos de vida extremadamente cort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 hace cada vez más necesario contar con modelos y herramientas sofisticadas que apoyen las decisiones comercial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arketing debe avanzar desde lo intuitivo a lo científic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EE10-765C-4227-8633-CA12A39B9525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Los efectos de las decisiones de marketing son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15920"/>
            <a:ext cx="77738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zagados (no inmediat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line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ltidimensi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ocást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fíciles de medi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modelamiento de las variables de marketing es complejo, pero sumamente necesari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62CC9-3671-47D6-8D01-46D68B9FE0CC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Tendencias que favorecen el modelamiento en marketing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064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desarrollo de soportes tecnológicos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ayor preocupación de las empresas por el desarrollo de sus bases de da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ursos computaciona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os gestores comerciales más preparad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onocimientos cuantitativ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receptivos a apoyar sus decisiones con elementos científic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La teoría de marketing más evolucionad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literatura, sistematización del conocimiento, base teórica más sólid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s casos de éxito en base a la aplicación de modelos más robusto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beneficio de los modelos ha comenzado a ser reportad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ayores ingresos (ej.:descubrimiento de nuevos nichos de merc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Menores costos (ej.: pronóstico de fuga de cliente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9A6CD-DC72-4892-AB76-38405D9B72E0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38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Ciencias que han apoyado la construcción de estos modelos… 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ortamiento del consumidor (psicología, sociología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 (micro-economía, teoría de juego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nagement (estrategia, administració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dística / Econometrí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ED4BA-7F13-4999-94AB-03BA750E213F}" type="slidenum">
              <a:t>6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99"/>
                </a:solidFill>
                <a:latin typeface="Tahoma"/>
              </a:rPr>
              <a:t>El modelador debe ser capaz de…</a:t>
            </a:r>
            <a:endParaRPr b="0" lang="en-US" sz="36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918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agnosticar si corresponde la aplicación de un modelo formal y evaluar la conveniencia de su ejecu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ructurar el problema detectando: objetivos, variables endógenas/exógenas y la forma (ecuaciones) en que se relaciona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poner un mecanismo eficiente de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tablecer un conjunto de requerimientos, restricciones y alcances para la resolución del problem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lementar (llevar a la práctica) las soluciones propuestas (a través de la teoría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E23A-5033-4CA2-BEF8-4993C72ED3F4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Qué es un modelo..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Un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odel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 una representación simplificada de la realidad, la cual es mas fácil de tratar y de explorar que la realidad misma, para un propósito especif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sca proporcionar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herramienta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analíticas para poder plasmar la teoría en modelos capaces de resolver problemáticas comple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E06AF-13D4-4C22-B642-00EF28BAC845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Tahoma"/>
              </a:rPr>
              <a:t>Esquemáticamente</a:t>
            </a:r>
            <a:endParaRPr b="0" lang="en-US" sz="40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712960" y="3429000"/>
            <a:ext cx="2160720" cy="79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871880" y="3357720"/>
            <a:ext cx="3968280" cy="1008720"/>
            <a:chOff x="4871880" y="3357720"/>
            <a:chExt cx="3968280" cy="1008720"/>
          </a:xfrm>
        </p:grpSpPr>
        <p:grpSp>
          <p:nvGrpSpPr>
            <p:cNvPr id="100" name=""/>
            <p:cNvGrpSpPr/>
            <p:nvPr/>
          </p:nvGrpSpPr>
          <p:grpSpPr>
            <a:xfrm>
              <a:off x="4871880" y="3645000"/>
              <a:ext cx="2455560" cy="398880"/>
              <a:chOff x="4871880" y="3645000"/>
              <a:chExt cx="2455560" cy="398880"/>
            </a:xfrm>
          </p:grpSpPr>
          <p:sp>
            <p:nvSpPr>
              <p:cNvPr id="101" name=""/>
              <p:cNvSpPr/>
              <p:nvPr/>
            </p:nvSpPr>
            <p:spPr>
              <a:xfrm>
                <a:off x="487188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77560" y="3645000"/>
                <a:ext cx="1649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Inform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7414560" y="3357720"/>
              <a:ext cx="14256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Análisi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Decis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Teor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315600" y="2060640"/>
            <a:ext cx="3410640" cy="1368000"/>
            <a:chOff x="3315600" y="2060640"/>
            <a:chExt cx="3410640" cy="1368000"/>
          </a:xfrm>
        </p:grpSpPr>
        <p:grpSp>
          <p:nvGrpSpPr>
            <p:cNvPr id="105" name=""/>
            <p:cNvGrpSpPr/>
            <p:nvPr/>
          </p:nvGrpSpPr>
          <p:grpSpPr>
            <a:xfrm>
              <a:off x="3315600" y="2455920"/>
              <a:ext cx="933480" cy="972720"/>
              <a:chOff x="3315600" y="2455920"/>
              <a:chExt cx="933480" cy="97272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3780000" y="285228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315600" y="2455920"/>
                <a:ext cx="93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eorí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4262760" y="2060640"/>
              <a:ext cx="2463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Comportamiento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conomí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rategi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993960" y="3616200"/>
            <a:ext cx="2197080" cy="1774080"/>
            <a:chOff x="993960" y="3616200"/>
            <a:chExt cx="2197080" cy="1774080"/>
          </a:xfrm>
        </p:grpSpPr>
        <p:grpSp>
          <p:nvGrpSpPr>
            <p:cNvPr id="110" name=""/>
            <p:cNvGrpSpPr/>
            <p:nvPr/>
          </p:nvGrpSpPr>
          <p:grpSpPr>
            <a:xfrm>
              <a:off x="999000" y="3616200"/>
              <a:ext cx="1701360" cy="398880"/>
              <a:chOff x="999000" y="3616200"/>
              <a:chExt cx="1701360" cy="398880"/>
            </a:xfrm>
          </p:grpSpPr>
          <p:sp>
            <p:nvSpPr>
              <p:cNvPr id="111" name=""/>
              <p:cNvSpPr/>
              <p:nvPr/>
            </p:nvSpPr>
            <p:spPr>
              <a:xfrm>
                <a:off x="1892160" y="3832200"/>
                <a:ext cx="808200" cy="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99000" y="3616200"/>
                <a:ext cx="87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Dato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993960" y="4076640"/>
              <a:ext cx="21970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Primario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Encuesta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Secundari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(Bases de datos)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74840" y="4220640"/>
            <a:ext cx="3598200" cy="1296720"/>
            <a:chOff x="3174840" y="4220640"/>
            <a:chExt cx="3598200" cy="1296720"/>
          </a:xfrm>
        </p:grpSpPr>
        <p:grpSp>
          <p:nvGrpSpPr>
            <p:cNvPr id="115" name=""/>
            <p:cNvGrpSpPr/>
            <p:nvPr/>
          </p:nvGrpSpPr>
          <p:grpSpPr>
            <a:xfrm>
              <a:off x="3174840" y="4220640"/>
              <a:ext cx="1197360" cy="939240"/>
              <a:chOff x="3174840" y="4220640"/>
              <a:chExt cx="1197360" cy="939240"/>
            </a:xfrm>
          </p:grpSpPr>
          <p:sp>
            <p:nvSpPr>
              <p:cNvPr id="116" name=""/>
              <p:cNvSpPr/>
              <p:nvPr/>
            </p:nvSpPr>
            <p:spPr>
              <a:xfrm flipV="1">
                <a:off x="3778200" y="4220640"/>
                <a:ext cx="0" cy="5763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74840" y="4761000"/>
                <a:ext cx="1197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000" spc="-1" strike="noStrike">
                    <a:solidFill>
                      <a:srgbClr val="000000"/>
                    </a:solidFill>
                    <a:latin typeface="Tahoma"/>
                  </a:rPr>
                  <a:t>Técnic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353840" y="4508640"/>
              <a:ext cx="24192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Estadístic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Optimizació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333cc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 </a:t>
              </a:r>
              <a:r>
                <a:rPr b="0" lang="es-ES_tradnl" sz="2000" spc="-1" strike="noStrike">
                  <a:solidFill>
                    <a:srgbClr val="3333cc"/>
                  </a:solidFill>
                  <a:latin typeface="Tahoma"/>
                </a:rPr>
                <a:t>Minería de dat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59280" y="4653000"/>
            <a:ext cx="1439640" cy="6490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C6CF-9F1A-4157-8E8D-3D74062639DE}" type="slidenum">
              <a:t>9</a:t>
            </a:fld>
          </a:p>
        </p:txBody>
      </p:sp>
    </p:spTree>
  </p:cSld>
  <p:transition>
    <p:split dir="in" orient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9T17:31:15Z</dcterms:created>
  <dc:creator>Marcel Goic F.</dc:creator>
  <dc:description/>
  <dc:language>en-US</dc:language>
  <cp:lastModifiedBy>Casa</cp:lastModifiedBy>
  <dcterms:modified xsi:type="dcterms:W3CDTF">2006-07-28T04:26:23Z</dcterms:modified>
  <cp:revision>276</cp:revision>
  <dc:subject/>
  <dc:title>Propuesta Modelo Evaluación Impacto Programa Capacitación</dc:title>
</cp:coreProperties>
</file>