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67B84-491A-4732-A6D0-3A10F6F1F1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0EE90-B37F-4790-850C-25D06A536B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F6F3A-7849-428E-9775-19E13A9990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FC4FF-663D-42BA-818B-03883620CF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29E33-C21E-4500-B211-1EE2C9B0A0A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3F88C-223E-4846-AEAE-8B09D1749CA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08932-FA18-4667-BA71-BD4F47346E2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3C077-C368-4735-A4DB-B77BCCBA211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E5566-CDDF-4398-BCD7-F0B5F9F6C62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4C523-D0B2-4652-9BD0-1DFCBA24FA3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F542A-D07E-42E4-BF78-0D2E399A1F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B9E8E-BDAF-4D06-B7DA-0AA3CFECE5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67772-06D3-4498-AA33-FDA55411DB4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04AD7-E867-4E43-8810-2E048FB86BE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56C1A-4AF4-46D6-A82D-2166F37895C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66436-F41A-4FF4-B1F3-FE55C0DAB3F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77332-7F1C-464B-9C7D-9F3C6B49B8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05364-6EFD-4720-B6C6-567D38B05D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0B6E9-2B5F-4A19-9953-5E0DD9B4C8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A2E3E-93C6-4A92-B433-0CC95CBD82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4DA67-7256-4EDB-B36B-84FB94775F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1109C-5B2E-43A8-A0B8-A6334FE5A0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AF34F-F47D-428B-B8FF-5A5E00C323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FA73E-2D44-4979-9195-4E23FABE7C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5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13E4A-7C6A-4556-BBB4-F9778425974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696080" y="6418440"/>
            <a:ext cx="1447920" cy="439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ldNum" idx="2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14975-34F2-47AC-A3B5-EEB5DAA6640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2286000" cy="6955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ahoma"/>
              </a:rPr>
              <a:t>Uso de modelos matemáticos en Marketing</a:t>
            </a:r>
            <a:endParaRPr b="1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IN58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ngeniería de Marke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Tahoma"/>
              </a:rPr>
              <a:t>Nicolás Friti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Tahoma"/>
              </a:rPr>
              <a:t>Emilio Poli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Tahoma"/>
              </a:rPr>
              <a:t>Mauricio Ramírez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Tahoma"/>
              </a:rPr>
              <a:t>William You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1411200" y="6568920"/>
            <a:ext cx="640080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ahoma"/>
              </a:rPr>
              <a:t>Basado en material preparado por M.Goic y M.Bos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30021-1474-4BDC-A0D8-39B220A3F41A}" type="slidenum">
              <a:t>1</a:t>
            </a:fld>
          </a:p>
        </p:txBody>
      </p:sp>
    </p:spTree>
  </p:cSld>
  <p:transition>
    <p:split dir="in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99"/>
                </a:solidFill>
                <a:latin typeface="Tahoma"/>
              </a:rPr>
              <a:t>Importancia y beneficio del uso de modelos 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 premisa básica de hacer ingeniería de marketing es que el proceso de construcción de modelos mejora las decision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70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0560" indent="-5227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ejorar la consistencia de las decisi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0560" indent="-5227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xplorar mas escenarios / opci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0560" indent="-5227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valuar el impacto relativo de las variab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0560" indent="-5227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acilitar los procesos de decisión grup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0560" indent="-5227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actualizan los modelos mentales subjetiv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1014D-B96B-46E2-8709-26B8ED892DA3}" type="slidenum">
              <a:t>10</a:t>
            </a:fld>
          </a:p>
        </p:txBody>
      </p:sp>
    </p:spTree>
  </p:cSld>
  <p:transition>
    <p:split dir="in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99"/>
                </a:solidFill>
                <a:latin typeface="Tahoma"/>
              </a:rPr>
              <a:t>Antecedentes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55640" y="1989000"/>
            <a:ext cx="7773480" cy="3821040"/>
            <a:chOff x="755640" y="1989000"/>
            <a:chExt cx="7773480" cy="3821040"/>
          </a:xfrm>
        </p:grpSpPr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755640" y="1989000"/>
              <a:ext cx="7632720" cy="320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4364640" y="5229360"/>
              <a:ext cx="416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ahoma"/>
                </a:rPr>
                <a:t>Correlación entre respuesta y pronóstic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ahoma"/>
                </a:rPr>
                <a:t>Marketing Engineering (p14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D3A1D-436E-45C4-9381-E0454C583726}" type="slidenum">
              <a:t>11</a:t>
            </a:fld>
          </a:p>
        </p:txBody>
      </p:sp>
    </p:spTree>
  </p:cSld>
  <p:transition>
    <p:split dir="in" orient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99"/>
                </a:solidFill>
                <a:latin typeface="Tahoma"/>
              </a:rPr>
              <a:t>Críticas al uso de modelos en marketing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0920" y="1699920"/>
            <a:ext cx="79182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unque pueden generar beneficios significativos, muchos administradores son reticentes a su aplicació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806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80640" indent="-528120" algn="just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0000"/>
                </a:solidFill>
                <a:latin typeface="Tahoma"/>
              </a:rPr>
              <a:t>A veces los modelos mentales son suficientemente buenos. </a:t>
            </a:r>
            <a:r>
              <a:rPr b="0" lang="es-ES_tradnl" sz="1800" spc="-1" strike="noStrike">
                <a:solidFill>
                  <a:srgbClr val="000099"/>
                </a:solidFill>
                <a:latin typeface="Tahoma"/>
              </a:rPr>
              <a:t>No se permiten adaptar a nuevas situacion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80640" indent="-528120" algn="just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0000"/>
                </a:solidFill>
                <a:latin typeface="Tahoma"/>
              </a:rPr>
              <a:t>Los modelos son incompletos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s-ES_tradnl" sz="1800" spc="-1" strike="noStrike">
                <a:solidFill>
                  <a:srgbClr val="000099"/>
                </a:solidFill>
                <a:latin typeface="Tahoma"/>
              </a:rPr>
              <a:t>Es preferible a no tener nada.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80640" indent="-528120" algn="just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0000"/>
                </a:solidFill>
                <a:latin typeface="Tahoma"/>
              </a:rPr>
              <a:t>Administradores no ven el costo de oportunidad de sus decisiones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s-ES_tradnl" sz="1800" spc="-1" strike="noStrike">
                <a:solidFill>
                  <a:srgbClr val="000099"/>
                </a:solidFill>
                <a:latin typeface="Tahoma"/>
              </a:rPr>
              <a:t>No se cuantifica la perdida de utilidad de cada decisión tomad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80640" indent="-528120" algn="just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0000"/>
                </a:solidFill>
                <a:latin typeface="Tahoma"/>
              </a:rPr>
              <a:t>Modelos enfatizan el análisis por sobre la acción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s-ES_tradnl" sz="1800" spc="-1" strike="noStrike">
                <a:solidFill>
                  <a:srgbClr val="000099"/>
                </a:solidFill>
                <a:latin typeface="Tahoma"/>
              </a:rPr>
              <a:t>Tendencia a integrar al analista y el tomador de decision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80640" indent="-528120" algn="just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0000"/>
                </a:solidFill>
                <a:latin typeface="Tahoma"/>
              </a:rPr>
              <a:t>Temor de mandos medios de perder importancia.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000099"/>
                </a:solidFill>
                <a:latin typeface="Tahoma"/>
              </a:rPr>
              <a:t>Los modelos no reemplazan, mas bien potencia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80640" indent="-528120" algn="just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0000"/>
                </a:solidFill>
                <a:latin typeface="Tahoma"/>
              </a:rPr>
              <a:t>La dificultad en la implantación no justifica el costo.</a:t>
            </a:r>
            <a:r>
              <a:rPr b="0" lang="es-ES_tradnl" sz="1800" spc="-1" strike="noStrike">
                <a:solidFill>
                  <a:srgbClr val="000099"/>
                </a:solidFill>
                <a:latin typeface="Tahoma"/>
              </a:rPr>
              <a:t> Avances tecnológicos ha disminuido costos y aumentado complejidad de las decisiones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88CE4-8501-42D2-84BB-B53D0FDB0C8C}" type="slidenum">
              <a:t>12</a:t>
            </a:fld>
          </a:p>
        </p:txBody>
      </p:sp>
    </p:spTree>
  </p:cSld>
  <p:transition>
    <p:split dir="in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99"/>
                </a:solidFill>
                <a:latin typeface="Tahoma"/>
              </a:rPr>
              <a:t>Los modelos no son perfectos…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22480" y="2411280"/>
            <a:ext cx="3224160" cy="26654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128600" y="2406600"/>
            <a:ext cx="3224160" cy="26654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5194440" y="2133720"/>
            <a:ext cx="3127320" cy="32796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84360" y="5805360"/>
            <a:ext cx="7702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536040" indent="-536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iempre es mejor tener algo que no tener nada (a menos que cueste demasiado caro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82800" y="1700280"/>
            <a:ext cx="390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lgunos modelos son bueno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92240" y="1700280"/>
            <a:ext cx="213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tros no tanto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5191200" y="2131920"/>
            <a:ext cx="3127320" cy="3279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F26FB-090C-47F4-B4F4-1818FC8309D9}" type="slidenum">
              <a:t>13</a:t>
            </a:fld>
          </a:p>
        </p:txBody>
      </p:sp>
    </p:spTree>
  </p:cSld>
  <p:transition>
    <p:split dir="in" orient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99"/>
                </a:solidFill>
                <a:latin typeface="Tahoma"/>
              </a:rPr>
              <a:t>Para utilizar modelos en marketing se debe ser conciente que…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función comercial, por definición debe hacerse cargo de la interacción con 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ersonas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las que por su naturaleza única y cambiante dificultan mucho la estructuración de los fenómenos en que intervien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os modelos en marketing debe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r consistentes con el comportamiento esperable de los consumido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ener base empírica en los mercados releva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8160D-A7E1-4F1C-971A-DAD238316C39}" type="slidenum">
              <a:t>14</a:t>
            </a:fld>
          </a:p>
        </p:txBody>
      </p:sp>
    </p:spTree>
  </p:cSld>
  <p:transition>
    <p:split dir="in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99"/>
                </a:solidFill>
                <a:latin typeface="Tahoma"/>
              </a:rPr>
              <a:t>Dificultades del uso de modelos en marketing (1)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91856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spuesta de ventas a un instrumento individual de marketing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general, buscamos respuestas de venta ante acciones individuales, pero la venta depende de muchos factores simultáneament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teracción del marketing mix en las decisione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Las decisiones son multivariadas y las relaciones suelen ser altamente no lineal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fectos de la competencia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Las ventas no solo dependen de mis decisiones sino que también de las acciones de la competencia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mpacto desfasado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Las respuestas de las acciones de marketing puede distribuirse en el tiemp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2770E-DAAE-427A-855B-1FC048091FAE}" type="slidenum">
              <a:t>15</a:t>
            </a:fld>
          </a:p>
        </p:txBody>
      </p:sp>
    </p:spTree>
  </p:cSld>
  <p:transition>
    <p:split dir="in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últiples territorio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La aplicación de actividades de marketing pueden tener un efecto muy distinto para cada regió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últiples Producto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La interacción de distintos productos (complementarios/sustitutos) dificulta la toma de decision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últiples meta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bjetivos contrapuestos: “Maximas ventas y minimo costo” o “Maxima rotación vs minimo quiebre de stock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teracción funcion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uchas veces, las decisiones de marketing no pueden ser separadas de las funciones operacionales y financier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99"/>
                </a:solidFill>
                <a:latin typeface="Tahoma"/>
              </a:rPr>
              <a:t>Dificultades del uso de modelos en marketing (2)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827AA-9716-4BAA-B1BC-4AC7587D1D4C}" type="slidenum">
              <a:t>16</a:t>
            </a:fld>
          </a:p>
        </p:txBody>
      </p:sp>
    </p:spTree>
  </p:cSld>
  <p:transition>
    <p:split dir="in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9"/>
                </a:solidFill>
                <a:latin typeface="Tahoma"/>
              </a:rPr>
              <a:t>Clasificación de modelos de marketing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Metodologí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opósi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9620A-D3FE-4A87-B181-B8BD4C9D6E53}" type="slidenum">
              <a:t>17</a:t>
            </a:fld>
          </a:p>
        </p:txBody>
      </p:sp>
    </p:spTree>
  </p:cSld>
  <p:transition>
    <p:split dir="in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99"/>
                </a:solidFill>
                <a:latin typeface="Tahoma"/>
              </a:rPr>
              <a:t>Según metodologí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12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Verbales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e describen con palabr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recen de cuantificació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encill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Gráfic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e explicitan las relacion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Guían el análisi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irven de puente entre modelos verbales y matemátic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atemátic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l tipo y magnitud de las relaciones se definen formalmente por medio de ecuacion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7434360" y="2133720"/>
            <a:ext cx="666720" cy="3527280"/>
            <a:chOff x="7434360" y="2133720"/>
            <a:chExt cx="666720" cy="3527280"/>
          </a:xfrm>
        </p:grpSpPr>
        <p:sp>
          <p:nvSpPr>
            <p:cNvPr id="147" name=""/>
            <p:cNvSpPr/>
            <p:nvPr/>
          </p:nvSpPr>
          <p:spPr>
            <a:xfrm flipV="1">
              <a:off x="8101080" y="2133720"/>
              <a:ext cx="0" cy="352728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434360" y="3635280"/>
              <a:ext cx="1807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16200000">
              <a:off x="7198560" y="3782520"/>
              <a:ext cx="127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99"/>
                  </a:solidFill>
                  <a:latin typeface="Tahoma"/>
                </a:rPr>
                <a:t>Simplicid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8388360" y="2133720"/>
            <a:ext cx="651960" cy="3527280"/>
            <a:chOff x="8388360" y="2133720"/>
            <a:chExt cx="651960" cy="3527280"/>
          </a:xfrm>
        </p:grpSpPr>
        <p:sp>
          <p:nvSpPr>
            <p:cNvPr id="151" name=""/>
            <p:cNvSpPr/>
            <p:nvPr/>
          </p:nvSpPr>
          <p:spPr>
            <a:xfrm>
              <a:off x="8388360" y="2133720"/>
              <a:ext cx="0" cy="352728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16200000">
              <a:off x="7704720" y="3535920"/>
              <a:ext cx="2090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99"/>
                  </a:solidFill>
                  <a:latin typeface="Tahoma"/>
                </a:rPr>
                <a:t>Capacidad de anális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900000" y="6021360"/>
            <a:ext cx="61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Tahoma"/>
              </a:rPr>
              <a:t>Los 3 tipos son complement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17DE1-CF1D-400C-A27F-7350889F8671}" type="slidenum">
              <a:t>18</a:t>
            </a:fld>
          </a:p>
        </p:txBody>
      </p:sp>
    </p:spTree>
  </p:cSld>
  <p:transition>
    <p:split dir="in" orient="horz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3640" y="6091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99"/>
                </a:solidFill>
                <a:latin typeface="Tahoma"/>
              </a:rPr>
              <a:t>Ejemplo: modelos de penetración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Verbal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Las ventas de un nuevo producto parten tan lentamente como los “innovadores” de la población adoptan el producto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Los innovadores influencian a los “imitadores” llevando a acelerar el crecimiento de las ventas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Como más personas en la población compran el producto, las ventas totales continúan incrementándose pero la tasa de crecimiento de las ventas es menor.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DE0DF-402B-4269-912D-2403EF8D0FE3}" type="slidenum">
              <a:t>19</a:t>
            </a:fld>
          </a:p>
        </p:txBody>
      </p:sp>
    </p:spTree>
  </p:cSld>
  <p:transition>
    <p:split dir="in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99"/>
                </a:solidFill>
                <a:latin typeface="Tahoma"/>
              </a:rPr>
              <a:t>Motivación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lgunas preguntas que el marketing cuantitativo nos ayuda a resolve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Qué precio debería fijar a los distintos productos de una línea para maximizar las venta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i aumento mi gasto publicitario en un 20%, ¿como impactará en la participación de mercado de la marca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Qué características debiera tener el nuevo producto que lancemos al mercado el próximo semestr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Cuántos vendedores debiéramos asignar a cada una de las marcas que comercializa la compañía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¿Cuánto espacio le asigno en la góndola de las Galletas a cada SKU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22CBF-A15D-40CC-92B4-99C0B03D1024}" type="slidenum">
              <a:t>2</a:t>
            </a:fld>
          </a:p>
        </p:txBody>
      </p:sp>
    </p:spTree>
  </p:cSld>
  <p:transition>
    <p:split dir="in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99"/>
                </a:solidFill>
                <a:latin typeface="Tahoma"/>
              </a:rPr>
              <a:t>Ejemplo: modelos de penetración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Gráfico(1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023840" y="2546280"/>
            <a:ext cx="8001000" cy="4098600"/>
            <a:chOff x="1023840" y="2546280"/>
            <a:chExt cx="8001000" cy="4098600"/>
          </a:xfrm>
        </p:grpSpPr>
        <p:sp>
          <p:nvSpPr>
            <p:cNvPr id="159" name=""/>
            <p:cNvSpPr/>
            <p:nvPr/>
          </p:nvSpPr>
          <p:spPr>
            <a:xfrm>
              <a:off x="2968560" y="2546280"/>
              <a:ext cx="3733920" cy="3682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Tahoma"/>
                </a:rPr>
                <a:t>Tamaño Población Fi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023840" y="3770280"/>
              <a:ext cx="2743200" cy="3682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Tahoma"/>
                </a:rPr>
                <a:t>Innova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281640" y="3770280"/>
              <a:ext cx="2743200" cy="3682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Tahoma"/>
                </a:rPr>
                <a:t>Imita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328920" y="3483000"/>
              <a:ext cx="304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3333cc"/>
                  </a:solidFill>
                  <a:latin typeface="Tahoma"/>
                </a:rPr>
                <a:t>Influenc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023840" y="4832280"/>
              <a:ext cx="2743200" cy="6426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Tahoma"/>
                </a:rPr>
                <a:t>Tiempo de compras de innova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281640" y="4832280"/>
              <a:ext cx="2743200" cy="6426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Tahoma"/>
                </a:rPr>
                <a:t>Tiempo de compras de imita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968560" y="6002280"/>
              <a:ext cx="3733920" cy="6426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Tahoma"/>
                </a:rPr>
                <a:t>Patrón del Crecimiento de Ventas de un Nuevo Produ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6" name=""/>
            <p:cNvCxnSpPr>
              <a:stCxn id="163" idx="2"/>
              <a:endCxn id="165" idx="1"/>
            </p:cNvCxnSpPr>
            <p:nvPr/>
          </p:nvCxnSpPr>
          <p:spPr>
            <a:xfrm flipH="1" rot="16200000">
              <a:off x="2262960" y="5643360"/>
              <a:ext cx="824400" cy="561240"/>
            </a:xfrm>
            <a:prstGeom prst="bentConnector2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64" idx="2"/>
              <a:endCxn id="165" idx="3"/>
            </p:cNvCxnSpPr>
            <p:nvPr/>
          </p:nvCxnSpPr>
          <p:spPr>
            <a:xfrm rot="5400000">
              <a:off x="6771600" y="5454720"/>
              <a:ext cx="824400" cy="938880"/>
            </a:xfrm>
            <a:prstGeom prst="bentConnector2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60" idx="2"/>
              <a:endCxn id="163" idx="0"/>
            </p:cNvCxnSpPr>
            <p:nvPr/>
          </p:nvCxnSpPr>
          <p:spPr>
            <a:xfrm>
              <a:off x="2395080" y="4175280"/>
              <a:ext cx="1080" cy="645120"/>
            </a:xfrm>
            <a:prstGeom prst="straightConnector1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1" idx="2"/>
              <a:endCxn id="164" idx="0"/>
            </p:cNvCxnSpPr>
            <p:nvPr/>
          </p:nvCxnSpPr>
          <p:spPr>
            <a:xfrm flipV="1" rot="10800000">
              <a:off x="7652520" y="4174920"/>
              <a:ext cx="1080" cy="645120"/>
            </a:xfrm>
            <a:prstGeom prst="bentConnector2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59" idx="2"/>
              <a:endCxn id="160" idx="0"/>
            </p:cNvCxnSpPr>
            <p:nvPr/>
          </p:nvCxnSpPr>
          <p:spPr>
            <a:xfrm flipH="1">
              <a:off x="2395080" y="2951280"/>
              <a:ext cx="2440800" cy="807120"/>
            </a:xfrm>
            <a:prstGeom prst="straightConnector1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9" idx="2"/>
              <a:endCxn id="161" idx="0"/>
            </p:cNvCxnSpPr>
            <p:nvPr/>
          </p:nvCxnSpPr>
          <p:spPr>
            <a:xfrm>
              <a:off x="4835160" y="2951280"/>
              <a:ext cx="2818440" cy="807120"/>
            </a:xfrm>
            <a:prstGeom prst="straightConnector1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0" idx="3"/>
              <a:endCxn id="161" idx="1"/>
            </p:cNvCxnSpPr>
            <p:nvPr/>
          </p:nvCxnSpPr>
          <p:spPr>
            <a:xfrm>
              <a:off x="3780000" y="3966840"/>
              <a:ext cx="2489400" cy="1080"/>
            </a:xfrm>
            <a:prstGeom prst="straightConnector1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BC7A2-C5AE-4BEE-AEBA-78EE47A739AD}" type="slidenum">
              <a:t>20</a:t>
            </a:fld>
          </a:p>
        </p:txBody>
      </p:sp>
    </p:spTree>
  </p:cSld>
  <p:transition>
    <p:split dir="in" orient="horz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99"/>
                </a:solidFill>
                <a:latin typeface="Tahoma"/>
              </a:rPr>
              <a:t>Ejemplo: modelos de penetración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Gráfico(2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322360" y="3151080"/>
            <a:ext cx="4645080" cy="2965680"/>
          </a:xfrm>
          <a:custGeom>
            <a:avLst/>
            <a:gdLst/>
            <a:ahLst/>
            <a:rect l="l" t="t" r="r" b="b"/>
            <a:pathLst>
              <a:path w="3560" h="2291">
                <a:moveTo>
                  <a:pt x="0" y="2291"/>
                </a:moveTo>
                <a:cubicBezTo>
                  <a:pt x="76" y="2282"/>
                  <a:pt x="256" y="2291"/>
                  <a:pt x="456" y="2235"/>
                </a:cubicBezTo>
                <a:cubicBezTo>
                  <a:pt x="656" y="2179"/>
                  <a:pt x="1004" y="2090"/>
                  <a:pt x="1200" y="1955"/>
                </a:cubicBezTo>
                <a:cubicBezTo>
                  <a:pt x="1396" y="1820"/>
                  <a:pt x="1499" y="1620"/>
                  <a:pt x="1632" y="1427"/>
                </a:cubicBezTo>
                <a:cubicBezTo>
                  <a:pt x="1765" y="1234"/>
                  <a:pt x="1808" y="1011"/>
                  <a:pt x="2000" y="795"/>
                </a:cubicBezTo>
                <a:cubicBezTo>
                  <a:pt x="2192" y="579"/>
                  <a:pt x="2524" y="262"/>
                  <a:pt x="2784" y="131"/>
                </a:cubicBezTo>
                <a:cubicBezTo>
                  <a:pt x="3044" y="0"/>
                  <a:pt x="3398" y="36"/>
                  <a:pt x="3560" y="11"/>
                </a:cubicBezTo>
              </a:path>
            </a:pathLst>
          </a:custGeom>
          <a:noFill/>
          <a:ln w="316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476360" y="2637000"/>
            <a:ext cx="5616720" cy="4033800"/>
            <a:chOff x="1476360" y="2637000"/>
            <a:chExt cx="5616720" cy="4033800"/>
          </a:xfrm>
        </p:grpSpPr>
        <p:sp>
          <p:nvSpPr>
            <p:cNvPr id="177" name=""/>
            <p:cNvSpPr/>
            <p:nvPr/>
          </p:nvSpPr>
          <p:spPr>
            <a:xfrm flipV="1">
              <a:off x="2320920" y="2637000"/>
              <a:ext cx="0" cy="35416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300400" y="6178680"/>
              <a:ext cx="45734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40000" y="3068640"/>
              <a:ext cx="46800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011400" y="6302520"/>
              <a:ext cx="306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99"/>
                  </a:solidFill>
                  <a:latin typeface="Verdana"/>
                </a:rPr>
                <a:t>Tiemp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16200000">
              <a:off x="105480" y="4151880"/>
              <a:ext cx="338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99"/>
                  </a:solidFill>
                  <a:latin typeface="Verdana"/>
                </a:rPr>
                <a:t>Ventas Acumuladas nuevo produ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276720" y="2637000"/>
              <a:ext cx="381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99"/>
                  </a:solidFill>
                  <a:latin typeface="Verdana"/>
                </a:rPr>
                <a:t>Tamaño de la población fij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D8BF2-90FB-47B8-A9BE-7270219A84B0}" type="slidenum">
              <a:t>21</a:t>
            </a:fld>
          </a:p>
        </p:txBody>
      </p:sp>
    </p:spTree>
  </p:cSld>
  <p:transition>
    <p:split dir="in" orient="horz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99"/>
                </a:solidFill>
                <a:latin typeface="Tahoma"/>
              </a:rPr>
              <a:t>Ejemplo: modelos de penetración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Matemáti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2771640" y="3068640"/>
          <a:ext cx="2951280" cy="8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068640"/>
                    <a:ext cx="295128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1332000" y="4292640"/>
          <a:ext cx="67690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2000" y="4292640"/>
                    <a:ext cx="67690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B821E-DEE2-4DD6-BFA5-C3F67B671240}" type="slidenum">
              <a:t>22</a:t>
            </a:fld>
          </a:p>
        </p:txBody>
      </p:sp>
    </p:spTree>
  </p:cSld>
  <p:transition>
    <p:split dir="in" orient="horz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99"/>
                </a:solidFill>
                <a:latin typeface="Tahoma"/>
              </a:rPr>
              <a:t>Según propósito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025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odelos Descriptivos: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uscan cuantificar la demanda o algún elemento asociad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Las variables independientes suelen ser las actividades del marketing mix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ípicamente comprenden una etapa de definición de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estructura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y otra de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alibración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odelos de Decisión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e buscan sugerencias a los valores que debe tomar las variables asociadas a las acciones de marketing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odelos Teórico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uscan el efecto de postular un conjunto de supuestos sobre algún fenómeno. Ayudan a entender fenómenos y generan hipótesis que pueden apoyar modelos mas operacional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Modelos de Pronóstico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Su objetivo es pronosticar el valor que tomará una variable en el futur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BF91A-C7BB-41CB-B3EF-13302533B239}" type="slidenum">
              <a:t>23</a:t>
            </a:fld>
          </a:p>
        </p:txBody>
      </p:sp>
    </p:spTree>
  </p:cSld>
  <p:transition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99"/>
                </a:solidFill>
                <a:latin typeface="Tahoma"/>
              </a:rPr>
              <a:t>El marketing necesita de los modelos matemáticos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989000"/>
            <a:ext cx="806292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La batalla por los mercados de consumo masivo ha crecido en intensidad en las últimas décad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mpetidores cada vez más dinámicos y agresiv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nsumidores cada vez más exigentes y complej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arcas con crecimientos planos o ciclos de vida extremadamente cort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e hace cada vez más necesario contar con modelos y herramientas sofisticadas que apoyen las decisiones comercial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l marketing debe avanzar desde lo intuitivo a lo científic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B1D80-85C9-4A77-B4E0-402DF25F2B9D}" type="slidenum">
              <a:t>3</a:t>
            </a:fld>
          </a:p>
        </p:txBody>
      </p:sp>
    </p:spTree>
  </p:cSld>
  <p:transition>
    <p:split dir="in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99"/>
                </a:solidFill>
                <a:latin typeface="Tahoma"/>
              </a:rPr>
              <a:t>Los efectos de las decisiones de marketing son…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15920"/>
            <a:ext cx="777384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zagados (no inmediato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o linea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ultidimensiona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stocástic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fíciles de medi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l modelamiento de las variables de marketing es complejo, pero sumamente necesari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E869A-855B-4ED9-B1A4-34A920BDE697}" type="slidenum">
              <a:t>4</a:t>
            </a:fld>
          </a:p>
        </p:txBody>
      </p:sp>
    </p:spTree>
  </p:cSld>
  <p:transition>
    <p:split dir="in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38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99"/>
                </a:solidFill>
                <a:latin typeface="Tahoma"/>
              </a:rPr>
              <a:t>Tendencias que favorecen el modelamiento en marketing 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4000" y="1773360"/>
            <a:ext cx="806436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El desarrollo de soportes tecnológicos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Mayor preocupación de las empresas por el desarrollo de sus bases de dat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Más recursos computaciona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Los gestores comerciales más preparad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Más conocimientos cuantitativ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Más receptivos a apoyar sus decisiones con elementos científic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La teoría de marketing más evolucionad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Más literatura, sistematización del conocimiento, base teórica más sólida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Más casos de éxito en base a la aplicación de modelos más robust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El beneficio de los modelos ha comenzado a ser reportad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Mayores ingresos (ej.:descubrimiento de nuevos nichos de mercado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Menores costos (ej.: pronóstico de fuga de clientes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30AAF-907F-496F-83D8-0651B602A47E}" type="slidenum">
              <a:t>5</a:t>
            </a:fld>
          </a:p>
        </p:txBody>
      </p:sp>
    </p:spTree>
  </p:cSld>
  <p:transition>
    <p:split dir="in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38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99"/>
                </a:solidFill>
                <a:latin typeface="Tahoma"/>
              </a:rPr>
              <a:t>Ciencias que han apoyado la construcción de estos modelos… 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mportamiento del consumidor (psicología, sociologí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conomía (micro-economía, teoría de juego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anagement (estrategia, administració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stadística / Econometrí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B626D-5C4E-40A0-9D8D-91610E2A5D8A}" type="slidenum">
              <a:t>6</a:t>
            </a:fld>
          </a:p>
        </p:txBody>
      </p:sp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99"/>
                </a:solidFill>
                <a:latin typeface="Tahoma"/>
              </a:rPr>
              <a:t>El modelador debe ser capaz de…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9185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agnosticar si corresponde la aplicación de un modelo formal y evaluar la conveniencia de su ejecució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structurar el problema detectando: objetivos, variables endógenas/exógenas y la forma (ecuaciones) en que se relaciona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poner un mecanismo eficiente de resolución del problem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stablecer un conjunto de requerimientos, restricciones y alcances para la resolución del problem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mplementar (llevar a la práctica) las soluciones propuestas (a través de la teoría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BDEB0-D8AE-4CD3-8E88-3B35E8A9AE1F}" type="slidenum">
              <a:t>7</a:t>
            </a:fld>
          </a:p>
        </p:txBody>
      </p:sp>
    </p:spTree>
  </p:cSld>
  <p:transition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99"/>
                </a:solidFill>
                <a:latin typeface="Tahoma"/>
              </a:rPr>
              <a:t>Qué es un modelo..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 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odelo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 una representación simplificada de la realidad, la cual es mas fácil de tratar y de explorar que la realidad misma, para un propósito especific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usca proporcionar 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herramientas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analíticas para poder plasmar la teoría en modelos capaces de resolver problemáticas complej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B9913-3C7D-4C56-9615-A04DBAACB4F2}" type="slidenum">
              <a:t>8</a:t>
            </a:fld>
          </a:p>
        </p:txBody>
      </p:sp>
    </p:spTree>
  </p:cSld>
  <p:transition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99"/>
                </a:solidFill>
                <a:latin typeface="Tahoma"/>
              </a:rPr>
              <a:t>Esquemáticament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2712960" y="3429000"/>
            <a:ext cx="2160720" cy="792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871880" y="3357720"/>
            <a:ext cx="3968280" cy="1008720"/>
            <a:chOff x="4871880" y="3357720"/>
            <a:chExt cx="3968280" cy="1008720"/>
          </a:xfrm>
        </p:grpSpPr>
        <p:grpSp>
          <p:nvGrpSpPr>
            <p:cNvPr id="100" name=""/>
            <p:cNvGrpSpPr/>
            <p:nvPr/>
          </p:nvGrpSpPr>
          <p:grpSpPr>
            <a:xfrm>
              <a:off x="4871880" y="3645000"/>
              <a:ext cx="2455560" cy="398880"/>
              <a:chOff x="4871880" y="3645000"/>
              <a:chExt cx="2455560" cy="398880"/>
            </a:xfrm>
          </p:grpSpPr>
          <p:sp>
            <p:nvSpPr>
              <p:cNvPr id="101" name=""/>
              <p:cNvSpPr/>
              <p:nvPr/>
            </p:nvSpPr>
            <p:spPr>
              <a:xfrm>
                <a:off x="4871880" y="3832200"/>
                <a:ext cx="80820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677560" y="3645000"/>
                <a:ext cx="1649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Tahoma"/>
                  </a:rPr>
                  <a:t>Informació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7414560" y="3357720"/>
              <a:ext cx="14256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ahoma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ahoma"/>
                </a:rPr>
                <a:t>Análisi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ahoma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ahoma"/>
                </a:rPr>
                <a:t>Decisión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ahoma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ahoma"/>
                </a:rPr>
                <a:t>Teoría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3315600" y="2060640"/>
            <a:ext cx="3410640" cy="1368000"/>
            <a:chOff x="3315600" y="2060640"/>
            <a:chExt cx="3410640" cy="1368000"/>
          </a:xfrm>
        </p:grpSpPr>
        <p:grpSp>
          <p:nvGrpSpPr>
            <p:cNvPr id="105" name=""/>
            <p:cNvGrpSpPr/>
            <p:nvPr/>
          </p:nvGrpSpPr>
          <p:grpSpPr>
            <a:xfrm>
              <a:off x="3315600" y="2455920"/>
              <a:ext cx="933480" cy="972720"/>
              <a:chOff x="3315600" y="2455920"/>
              <a:chExt cx="933480" cy="972720"/>
            </a:xfrm>
          </p:grpSpPr>
          <p:sp>
            <p:nvSpPr>
              <p:cNvPr id="106" name=""/>
              <p:cNvSpPr/>
              <p:nvPr/>
            </p:nvSpPr>
            <p:spPr>
              <a:xfrm flipV="1">
                <a:off x="3780000" y="2852280"/>
                <a:ext cx="0" cy="5763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315600" y="2455920"/>
                <a:ext cx="933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Tahoma"/>
                  </a:rPr>
                  <a:t>Teorí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4262760" y="2060640"/>
              <a:ext cx="24634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ahoma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ahoma"/>
                </a:rPr>
                <a:t>Comportamiento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ahoma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ahoma"/>
                </a:rPr>
                <a:t>Economía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ahoma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ahoma"/>
                </a:rPr>
                <a:t>Estrategia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993960" y="3616200"/>
            <a:ext cx="2197080" cy="1774080"/>
            <a:chOff x="993960" y="3616200"/>
            <a:chExt cx="2197080" cy="1774080"/>
          </a:xfrm>
        </p:grpSpPr>
        <p:grpSp>
          <p:nvGrpSpPr>
            <p:cNvPr id="110" name=""/>
            <p:cNvGrpSpPr/>
            <p:nvPr/>
          </p:nvGrpSpPr>
          <p:grpSpPr>
            <a:xfrm>
              <a:off x="999000" y="3616200"/>
              <a:ext cx="1701360" cy="398880"/>
              <a:chOff x="999000" y="3616200"/>
              <a:chExt cx="1701360" cy="398880"/>
            </a:xfrm>
          </p:grpSpPr>
          <p:sp>
            <p:nvSpPr>
              <p:cNvPr id="111" name=""/>
              <p:cNvSpPr/>
              <p:nvPr/>
            </p:nvSpPr>
            <p:spPr>
              <a:xfrm>
                <a:off x="1892160" y="3832200"/>
                <a:ext cx="80820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99000" y="3616200"/>
                <a:ext cx="877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Tahoma"/>
                  </a:rPr>
                  <a:t>Dato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993960" y="4076640"/>
              <a:ext cx="21970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ahoma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ahoma"/>
                </a:rPr>
                <a:t>Primario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ahoma"/>
                </a:rPr>
                <a:t>(Encuestas)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ahoma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ahoma"/>
                </a:rPr>
                <a:t>Secundari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ahoma"/>
                </a:rPr>
                <a:t>(Bases de datos)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174840" y="4220640"/>
            <a:ext cx="3598200" cy="1296720"/>
            <a:chOff x="3174840" y="4220640"/>
            <a:chExt cx="3598200" cy="1296720"/>
          </a:xfrm>
        </p:grpSpPr>
        <p:grpSp>
          <p:nvGrpSpPr>
            <p:cNvPr id="115" name=""/>
            <p:cNvGrpSpPr/>
            <p:nvPr/>
          </p:nvGrpSpPr>
          <p:grpSpPr>
            <a:xfrm>
              <a:off x="3174840" y="4220640"/>
              <a:ext cx="1197360" cy="939240"/>
              <a:chOff x="3174840" y="4220640"/>
              <a:chExt cx="1197360" cy="939240"/>
            </a:xfrm>
          </p:grpSpPr>
          <p:sp>
            <p:nvSpPr>
              <p:cNvPr id="116" name=""/>
              <p:cNvSpPr/>
              <p:nvPr/>
            </p:nvSpPr>
            <p:spPr>
              <a:xfrm flipV="1">
                <a:off x="3778200" y="4220640"/>
                <a:ext cx="0" cy="5763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174840" y="4761000"/>
                <a:ext cx="1197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Tahoma"/>
                  </a:rPr>
                  <a:t>Técnica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4353840" y="4508640"/>
              <a:ext cx="24192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ahoma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ahoma"/>
                </a:rPr>
                <a:t>Estadística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ahoma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ahoma"/>
                </a:rPr>
                <a:t>Optimización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ahoma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ahoma"/>
                </a:rPr>
                <a:t>Minería de dato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059280" y="4653000"/>
            <a:ext cx="1439640" cy="649080"/>
          </a:xfrm>
          <a:prstGeom prst="ellipse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6F7FF-61BB-4CFC-8A8D-4F613D5E167E}" type="slidenum">
              <a:t>9</a:t>
            </a:fld>
          </a:p>
        </p:txBody>
      </p:sp>
    </p:spTree>
  </p:cSld>
  <p:transition>
    <p:split dir="in" orient="horz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9T17:31:15Z</dcterms:created>
  <dc:creator>Marcel Goic F.</dc:creator>
  <dc:description/>
  <dc:language>en-US</dc:language>
  <cp:lastModifiedBy>Casa</cp:lastModifiedBy>
  <dcterms:modified xsi:type="dcterms:W3CDTF">2006-07-28T04:26:23Z</dcterms:modified>
  <cp:revision>276</cp:revision>
  <dc:subject/>
  <dc:title>Propuesta Modelo Evaluación Impacto Programa Capacitación</dc:title>
</cp:coreProperties>
</file>