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2264-8ED4-4904-B665-503AA2498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8613-5EAE-4DF0-BB4C-39D4B0C7C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4A25-154B-4050-B917-2BE412FEC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4332-AC26-4667-9783-C52D9B94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8102-BA0F-4405-9C28-FC0D150CA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4361-7428-4A84-9AE0-A5DBF36816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E4A1-800D-4358-AE8D-E3ABD79F8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8D1A-28FA-46AB-AA7F-802718756A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CB70-5ACD-412D-83EF-DCB1F93A3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2C69-5F14-4319-976B-B1AB9E3D9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12E7-C705-4174-9EBE-18675FA61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279B-D810-4355-B57C-E3E2FFFF2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04F2-49C1-4DD4-BF20-38449FF34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799F-8DE3-43BC-9170-DF7541C9F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4E8B-5146-4843-BF79-097463FC1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52B5-ECAF-4DE7-ABCD-2BFCC3FB9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A9B5-8275-4082-99DB-0D4C8BD66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37CC-79F0-4B17-BCFF-B1A5948CA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9180-06D7-4811-9207-7452A2B44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C711-12D0-401B-A946-A55473F7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22DA-D980-41CC-A758-D082E36A1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06FF-C935-4A85-96BF-B0D73E93E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DAAC-7CD0-45DE-8102-D55000C76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F400-4934-48EF-8333-98A9931B4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4372-FA30-46AD-80DB-9341E294D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6418440"/>
            <a:ext cx="1447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0AE8-E304-4744-8BA3-6EE054678A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286000" cy="69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so de modelos matemáticos en Market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58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geniería de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Nicolás Frit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Emilio Pol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Mauricio Ramír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William Yo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11200" y="6568920"/>
            <a:ext cx="6400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Basado en material preparado por M.Goic y M.Bo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7689-F9D5-44B2-BEA7-7C8F69063A7A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Importancia y beneficio del uso de modelos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emisa básica de hacer ingeniería de marketing es que el proceso de construcción de modelos mejora las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ar la consistencia d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plorar mas escenarios / op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r el impacto relativo de la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r los procesos de decisión grup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tualizan los modelos mentales su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CF29-B958-478A-BD82-52578573B308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087E-D335-43DD-9CBC-519ED1F9E6AD}" type="slidenum">
              <a:t>11</a:t>
            </a:fld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ríticas al uso de modelos en marketin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182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nque pueden generar beneficios significativos, muchos administradores son reticentes a su aplic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 veces los modelos mentales son suficientemente buenos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permiten adaptar a nuevas sit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os modelos son incomple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Es preferible a no tener nad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dministradores no ven el costo de oportunidad de sus decis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cuantifica la perdida de utilidad de cada decisión tom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Modelos enfatizan el análisis por sobre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Tendencia a integrar al analista y el tomador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Temor de mandos medios de perder importanci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Los modelos no reemplazan, mas bien potenci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a dificultad en la implantación no justifica el costo.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 Avances tecnológicos ha disminuido costos y aumentado complejidad de las decision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72E7-1515-485C-A278-1AA129012390}" type="slidenum">
              <a:t>12</a:t>
            </a:fld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modelos no son perfectos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22480" y="241128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28600" y="240660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94440" y="2133720"/>
            <a:ext cx="3127320" cy="327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0536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empre es mejor tener algo que no tener nada (a menos que cueste demasiado ca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17002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gunos modelos son buen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92240" y="1700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no tan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1200" y="2131920"/>
            <a:ext cx="3127320" cy="32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6CC1-57D5-47D0-8BC8-C1C507125D50}" type="slidenum">
              <a:t>13</a:t>
            </a:fld>
          </a:p>
        </p:txBody>
      </p:sp>
    </p:spTree>
  </p:cSld>
  <p:transition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Para utilizar modelos en marketing se debe ser conciente qu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función comercial, por definición debe hacerse cargo de la interacción co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rson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as que por su naturaleza única y cambiante dificultan mucho la estructuración de los fenómenos en que intervien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modelos en marketing deb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consistentes con el comportamiento esperable de l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er base empírica en los mercado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9768-CB8C-4944-ACF4-CFB695C5385E}" type="slidenum">
              <a:t>14</a:t>
            </a:fld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puesta de ventas a un instrumento individual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del marketing mix en las decis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decisiones son multivariadas y las relaciones suelen ser altamente no line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de la competenc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entas no solo dependen de mis decisiones sino que también de las acciones de la competenci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 desfasa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respuestas de las acciones de marketing puede distribuirse en el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E115-C3DE-4301-8A4B-7CA15A3273DA}" type="slidenum">
              <a:t>15</a:t>
            </a:fld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territo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met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fun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7949-FB45-44A5-BAC3-A2964533F788}" type="slidenum">
              <a:t>16</a:t>
            </a:fld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ahoma"/>
              </a:rPr>
              <a:t>Clasificación de modelos de marketing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ós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DE3B-9912-4627-B35F-2657AD5B79E0}" type="slidenum">
              <a:t>17</a:t>
            </a:fld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metodologí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erbal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scriben con palab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ecen de cuant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ncil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ráf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explicitan las rel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uían el análi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n de puente entre modelos verbales y matemá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te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tipo y magnitud de las relaciones se definen formalmente por medio de ec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14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34360" y="363528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198560" y="37825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Simpli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8360" y="2133720"/>
            <a:ext cx="651960" cy="3527280"/>
            <a:chOff x="8388360" y="2133720"/>
            <a:chExt cx="651960" cy="3527280"/>
          </a:xfrm>
        </p:grpSpPr>
        <p:sp>
          <p:nvSpPr>
            <p:cNvPr id="15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7704720" y="3535920"/>
              <a:ext cx="209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Capacidad de aná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0000" y="602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664B-744C-4541-95D5-A4B95A91AEC2}" type="slidenum">
              <a:t>18</a:t>
            </a:fld>
          </a:p>
        </p:txBody>
      </p:sp>
    </p:spTree>
  </p:cSld>
  <p:transition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Verb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F033-CB0B-4383-903D-E12C53FFBCCA}" type="slidenum">
              <a:t>19</a:t>
            </a:fld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as preguntas que el marketing cuantitativo nos ayuda a resol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precio debería fijar a los distintos productos de una línea para maximizar las vent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mi gasto publicitario en un 20%, ¿como impactará en la participación de mercado de la mar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características debiera tener el nuevo producto que lancemos al mercado el próximo semest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ndedores debiéramos asignar a cada una de las marcas que comercializa la compañ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Cuánto espacio le asigno en la góndola de las Galletas a cada SKU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A8DC-121F-401A-AD03-AF70197DAED3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3840" y="2546280"/>
            <a:ext cx="8001000" cy="4098600"/>
            <a:chOff x="1023840" y="2546280"/>
            <a:chExt cx="8001000" cy="4098600"/>
          </a:xfrm>
        </p:grpSpPr>
        <p:sp>
          <p:nvSpPr>
            <p:cNvPr id="159" name=""/>
            <p:cNvSpPr/>
            <p:nvPr/>
          </p:nvSpPr>
          <p:spPr>
            <a:xfrm>
              <a:off x="2968560" y="254628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38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16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8920" y="34830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Tahom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38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816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68560" y="600228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3" idx="2"/>
              <a:endCxn id="165" idx="1"/>
            </p:cNvCxnSpPr>
            <p:nvPr/>
          </p:nvCxnSpPr>
          <p:spPr>
            <a:xfrm flipH="1" rot="16200000">
              <a:off x="2262960" y="564336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4" idx="2"/>
              <a:endCxn id="165" idx="3"/>
            </p:cNvCxnSpPr>
            <p:nvPr/>
          </p:nvCxnSpPr>
          <p:spPr>
            <a:xfrm rot="5400000">
              <a:off x="6771600" y="545472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2"/>
              <a:endCxn id="163" idx="0"/>
            </p:cNvCxnSpPr>
            <p:nvPr/>
          </p:nvCxnSpPr>
          <p:spPr>
            <a:xfrm>
              <a:off x="2395080" y="417528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1" idx="2"/>
              <a:endCxn id="164" idx="0"/>
            </p:cNvCxnSpPr>
            <p:nvPr/>
          </p:nvCxnSpPr>
          <p:spPr>
            <a:xfrm flipV="1" rot="10800000">
              <a:off x="7652520" y="417492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2"/>
              <a:endCxn id="160" idx="0"/>
            </p:cNvCxnSpPr>
            <p:nvPr/>
          </p:nvCxnSpPr>
          <p:spPr>
            <a:xfrm flipH="1">
              <a:off x="2395080" y="295128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9" idx="2"/>
              <a:endCxn id="161" idx="0"/>
            </p:cNvCxnSpPr>
            <p:nvPr/>
          </p:nvCxnSpPr>
          <p:spPr>
            <a:xfrm>
              <a:off x="4835160" y="295128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0" idx="3"/>
              <a:endCxn id="161" idx="1"/>
            </p:cNvCxnSpPr>
            <p:nvPr/>
          </p:nvCxnSpPr>
          <p:spPr>
            <a:xfrm>
              <a:off x="3780000" y="396684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B0FD-1BAF-4CF2-A005-5C2711979357}" type="slidenum">
              <a:t>20</a:t>
            </a:fld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22360" y="315108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76360" y="2637000"/>
            <a:ext cx="5616720" cy="4033800"/>
            <a:chOff x="1476360" y="2637000"/>
            <a:chExt cx="5616720" cy="4033800"/>
          </a:xfrm>
        </p:grpSpPr>
        <p:sp>
          <p:nvSpPr>
            <p:cNvPr id="177" name=""/>
            <p:cNvSpPr/>
            <p:nvPr/>
          </p:nvSpPr>
          <p:spPr>
            <a:xfrm flipV="1">
              <a:off x="2320920" y="263700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0400" y="617868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306864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1400" y="63025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05480" y="415188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2637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A5B5-8730-45EE-9992-F2BC9452EE13}" type="slidenum">
              <a:t>21</a:t>
            </a:fld>
          </a:p>
        </p:txBody>
      </p:sp>
    </p:spTree>
  </p:cSld>
  <p:transition>
    <p:split dir="in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atemá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8475-CAEB-458E-A8E1-1F4CEBD3826E}" type="slidenum">
              <a:t>22</a:t>
            </a:fld>
          </a:p>
        </p:txBody>
      </p:sp>
    </p:spTree>
  </p:cSld>
  <p:transition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propósit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scriptivos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cuantificar la demanda o algún elemento asoci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ariables independientes suelen ser las actividades del marketing m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comprenden una etapa de definición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ructur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otra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br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 Decisió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buscan sugerencias a los valores que debe tomar las variables asociadas a las acciones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Teóric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s de Pronóstico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objetivo es pronosticar el valor que tomará una variable en el futu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3E4D-1B27-4A14-BC91-181D9D3AF49A}" type="slidenum">
              <a:t>23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arketing necesita de los modelos matemáticos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0629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etidores cada vez más dinámicos y agresiv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sumidores cada vez más exigentes y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cada vez más necesario contar con modelos y herramientas sofisticadas que apoyen las decisiones comer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arketing debe avanzar desde lo intuitivo a lo científ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606E-F725-46D9-9706-F04026F824EA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efectos de las decisiones de marketing son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38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zagados (no inmediat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line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ltidimens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ocá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fíciles de me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0394-3F1D-4257-93D6-838495F78B0D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Tendencias que favorecen el modelamiento en marketing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desarrollo de soportes tecnológic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yor preocupación de las empresas por el desarrollo de sus bases de d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ursos computaci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gestores comerciales más prepar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onocimientos cuantita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eptivos a apoyar sus decisiones con elementos científ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teoría de marketing más evolucio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literatura, sistematización del conocimiento, base teórica más sóli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asos de éxito en base a la aplicación de modelos más robu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beneficio de los modelos ha comenzado a ser report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yores ingresos (ej.:descubrimiento de nuevos nichos de merc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enores costos (ej.: pronóstico de fuga de client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92D-2543-496D-87BE-8B0606081FC9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iencias que han apoyado la construcción de estos modelos…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ortamiento del consumidor (psicología, sociologí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 (micro-economía, teoría de jueg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nagement (estrategia, administració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dística / Econometrí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79ED-F3A8-4E33-8D6A-205F37814817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odelador debe ser capaz d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918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poner un mecanismo eficiente de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597B-290A-4A3C-ABB7-A935AF4FA9F8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Qué es un modelo.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odel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 proporciona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6614-3CDF-4DC7-A958-B1363A6804EC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squemáticamen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712960" y="342900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71880" y="3357720"/>
            <a:ext cx="3968280" cy="1008720"/>
            <a:chOff x="4871880" y="3357720"/>
            <a:chExt cx="3968280" cy="1008720"/>
          </a:xfrm>
        </p:grpSpPr>
        <p:grpSp>
          <p:nvGrpSpPr>
            <p:cNvPr id="100" name=""/>
            <p:cNvGrpSpPr/>
            <p:nvPr/>
          </p:nvGrpSpPr>
          <p:grpSpPr>
            <a:xfrm>
              <a:off x="4871880" y="3645000"/>
              <a:ext cx="2455560" cy="398880"/>
              <a:chOff x="4871880" y="3645000"/>
              <a:chExt cx="2455560" cy="398880"/>
            </a:xfrm>
          </p:grpSpPr>
          <p:sp>
            <p:nvSpPr>
              <p:cNvPr id="101" name=""/>
              <p:cNvSpPr/>
              <p:nvPr/>
            </p:nvSpPr>
            <p:spPr>
              <a:xfrm>
                <a:off x="487188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77560" y="3645000"/>
                <a:ext cx="164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Inform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414560" y="3357720"/>
              <a:ext cx="142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Anális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Decis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Teor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15600" y="2060640"/>
            <a:ext cx="3410640" cy="1368000"/>
            <a:chOff x="3315600" y="2060640"/>
            <a:chExt cx="3410640" cy="1368000"/>
          </a:xfrm>
        </p:grpSpPr>
        <p:grpSp>
          <p:nvGrpSpPr>
            <p:cNvPr id="105" name=""/>
            <p:cNvGrpSpPr/>
            <p:nvPr/>
          </p:nvGrpSpPr>
          <p:grpSpPr>
            <a:xfrm>
              <a:off x="3315600" y="2455920"/>
              <a:ext cx="933480" cy="972720"/>
              <a:chOff x="3315600" y="2455920"/>
              <a:chExt cx="933480" cy="9727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3780000" y="285228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15600" y="2455920"/>
                <a:ext cx="9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eor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262760" y="2060640"/>
              <a:ext cx="24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Comportamient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conom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rategi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3960" y="3616200"/>
            <a:ext cx="2197080" cy="1774080"/>
            <a:chOff x="993960" y="3616200"/>
            <a:chExt cx="2197080" cy="1774080"/>
          </a:xfrm>
        </p:grpSpPr>
        <p:grpSp>
          <p:nvGrpSpPr>
            <p:cNvPr id="110" name=""/>
            <p:cNvGrpSpPr/>
            <p:nvPr/>
          </p:nvGrpSpPr>
          <p:grpSpPr>
            <a:xfrm>
              <a:off x="999000" y="3616200"/>
              <a:ext cx="1701360" cy="398880"/>
              <a:chOff x="999000" y="3616200"/>
              <a:chExt cx="1701360" cy="39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9216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9000" y="361620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Da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93960" y="4076640"/>
              <a:ext cx="219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Prim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Encuest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Secund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Bases de dato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74840" y="4220640"/>
            <a:ext cx="3598200" cy="1296720"/>
            <a:chOff x="3174840" y="4220640"/>
            <a:chExt cx="3598200" cy="1296720"/>
          </a:xfrm>
        </p:grpSpPr>
        <p:grpSp>
          <p:nvGrpSpPr>
            <p:cNvPr id="115" name=""/>
            <p:cNvGrpSpPr/>
            <p:nvPr/>
          </p:nvGrpSpPr>
          <p:grpSpPr>
            <a:xfrm>
              <a:off x="3174840" y="4220640"/>
              <a:ext cx="1197360" cy="939240"/>
              <a:chOff x="3174840" y="4220640"/>
              <a:chExt cx="1197360" cy="9392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3778200" y="422064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4840" y="476100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écnic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53840" y="4508640"/>
              <a:ext cx="241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ad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Optimizac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Minería de da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59280" y="4653000"/>
            <a:ext cx="1439640" cy="6490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F7F7-647B-45F3-9B71-9C801A3A7966}" type="slidenum">
              <a:t>9</a:t>
            </a:fld>
          </a:p>
        </p:txBody>
      </p:sp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7:31:15Z</dcterms:created>
  <dc:creator>Marcel Goic F.</dc:creator>
  <dc:description/>
  <dc:language>en-US</dc:language>
  <cp:lastModifiedBy>Casa</cp:lastModifiedBy>
  <dcterms:modified xsi:type="dcterms:W3CDTF">2006-07-28T04:26:23Z</dcterms:modified>
  <cp:revision>276</cp:revision>
  <dc:subject/>
  <dc:title>Propuesta Modelo Evaluación Impacto Programa Capacitación</dc:title>
</cp:coreProperties>
</file>