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16E8-EDBC-4E01-8806-8185A90ED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7776-EEFD-4E3D-A38D-23187CDEE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F523-C277-40C0-AF66-8559DCB98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3686-BD86-44CD-A02E-321A3C408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D136-887E-4CFC-90C9-483A83CA6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43D4-6765-443B-9282-197F886B34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4305-0397-46DF-B45A-DBE2B6B24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739C-0896-4910-B323-15B9EAA89E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281B-8212-43F1-AE8E-FE3501134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3FE7-B653-43BA-B433-E86DA48456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6426-D602-4C57-9E0B-01A1ED813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431B-0BAF-4A47-8254-E0BA19E0D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5FE4-93A9-401F-A478-8BECC49A36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4297-226F-4E04-A911-AC050A9647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C66F-28B7-48B2-8DCA-9CAE4462C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E637-836F-4CC2-B7B1-4D9F33678A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A70B-ADCD-4286-B5D4-394E9DBA8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D839-856E-4B44-B702-891069712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A834-AB69-47FD-BA5C-ED496463D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7114-51E1-45E6-BB2F-65A4CD5CF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3391-F1D8-4C7A-B66A-AB5D8B2AD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B626-012E-48DA-BA58-98FC4CF1F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4426-F7DA-441F-BA2E-3B6156533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2601-9634-4927-946C-7A07B21FA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6DBC-49B8-418F-B266-E3CDAF33C4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6418440"/>
            <a:ext cx="1447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164-97B5-4F29-BDF3-79BB091D4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286000" cy="69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so de modelos matemáticos en Market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58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geniería de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Nicolás Frit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Emilio Pol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Mauricio Ramír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William Yo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11200" y="6568920"/>
            <a:ext cx="6400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Basado en material preparado por M.Goic y M.Bo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0A24-D4AD-45D6-AC4B-D110441F012D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Importancia y beneficio del uso de modelos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emisa básica de hacer ingeniería de marketing es que el proceso de construcción de modelos mejora las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ar la consistencia d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plorar mas escenarios / op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r el impacto relativo de la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r los procesos de decisión grup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tualizan los modelos mentales su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607B-ED83-4C68-AFCD-C06CC1452C7D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D83-ADB9-4DC4-8E38-C68C5DC0C07A}" type="slidenum">
              <a:t>11</a:t>
            </a:fld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ríticas al uso de modelos en marketin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182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nque pueden generar beneficios significativos, muchos administradores son reticentes a su aplic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 veces los modelos mentales son suficientemente buenos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permiten adaptar a nuevas sit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os modelos son incomple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Es preferible a no tener nad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dministradores no ven el costo de oportunidad de sus decis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cuantifica la perdida de utilidad de cada decisión tom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Modelos enfatizan el análisis por sobre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Tendencia a integrar al analista y el tomador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Temor de mandos medios de perder importanci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Los modelos no reemplazan, mas bien potenci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a dificultad en la implantación no justifica el costo.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 Avances tecnológicos ha disminuido costos y aumentado complejidad de las decision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444E-0432-4586-8C12-0FD1A00A5B73}" type="slidenum">
              <a:t>12</a:t>
            </a:fld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modelos no son perfectos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22480" y="241128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28600" y="240660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94440" y="2133720"/>
            <a:ext cx="3127320" cy="327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0536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empre es mejor tener algo que no tener nada (a menos que cueste demasiado ca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17002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gunos modelos son buen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92240" y="1700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no tan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1200" y="2131920"/>
            <a:ext cx="3127320" cy="32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D205-89E8-4EFE-8C3E-ECB21A1CE66E}" type="slidenum">
              <a:t>13</a:t>
            </a:fld>
          </a:p>
        </p:txBody>
      </p:sp>
    </p:spTree>
  </p:cSld>
  <p:transition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Para utilizar modelos en marketing se debe ser conciente qu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función comercial, por definición debe hacerse cargo de la interacción co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rson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as que por su naturaleza única y cambiante dificultan mucho la estructuración de los fenómenos en que intervien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modelos en marketing deb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consistentes con el comportamiento esperable de l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er base empírica en los mercado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01E1-45FA-4938-9820-93788D66C170}" type="slidenum">
              <a:t>14</a:t>
            </a:fld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puesta de ventas a un instrumento individual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del marketing mix en las decis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decisiones son multivariadas y las relaciones suelen ser altamente no line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de la competenc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entas no solo dependen de mis decisiones sino que también de las acciones de la competenci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 desfasa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respuestas de las acciones de marketing puede distribuirse en el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9376-41B8-4A4A-A26E-4DAFCB10BE3E}" type="slidenum">
              <a:t>15</a:t>
            </a:fld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territo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met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fun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57CE-452C-4370-AC45-84FE45956E55}" type="slidenum">
              <a:t>16</a:t>
            </a:fld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ahoma"/>
              </a:rPr>
              <a:t>Clasificación de modelos de marketing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ós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672D-E23F-4068-B22A-78B227A040B2}" type="slidenum">
              <a:t>17</a:t>
            </a:fld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metodologí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erbal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scriben con palab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ecen de cuant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ncil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ráf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explicitan las rel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uían el análi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n de puente entre modelos verbales y matemá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te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tipo y magnitud de las relaciones se definen formalmente por medio de ec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14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34360" y="363528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198560" y="37825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Simpli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8360" y="2133720"/>
            <a:ext cx="651960" cy="3527280"/>
            <a:chOff x="8388360" y="2133720"/>
            <a:chExt cx="651960" cy="3527280"/>
          </a:xfrm>
        </p:grpSpPr>
        <p:sp>
          <p:nvSpPr>
            <p:cNvPr id="15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7704720" y="3535920"/>
              <a:ext cx="209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Capacidad de aná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0000" y="602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F971-1FAD-48C0-BE4C-154506AA150E}" type="slidenum">
              <a:t>18</a:t>
            </a:fld>
          </a:p>
        </p:txBody>
      </p:sp>
    </p:spTree>
  </p:cSld>
  <p:transition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Verb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DB91-A28F-468B-B35D-59FA158F5F94}" type="slidenum">
              <a:t>19</a:t>
            </a:fld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as preguntas que el marketing cuantitativo nos ayuda a resol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precio debería fijar a los distintos productos de una línea para maximizar las vent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mi gasto publicitario en un 20%, ¿como impactará en la participación de mercado de la mar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características debiera tener el nuevo producto que lancemos al mercado el próximo semest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ndedores debiéramos asignar a cada una de las marcas que comercializa la compañ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Cuánto espacio le asigno en la góndola de las Galletas a cada SKU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D470-57FB-4D75-A341-D144E02B4C6F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3840" y="2546280"/>
            <a:ext cx="8001000" cy="4098600"/>
            <a:chOff x="1023840" y="2546280"/>
            <a:chExt cx="8001000" cy="4098600"/>
          </a:xfrm>
        </p:grpSpPr>
        <p:sp>
          <p:nvSpPr>
            <p:cNvPr id="159" name=""/>
            <p:cNvSpPr/>
            <p:nvPr/>
          </p:nvSpPr>
          <p:spPr>
            <a:xfrm>
              <a:off x="2968560" y="254628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38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16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8920" y="34830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Tahom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38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816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68560" y="600228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3" idx="2"/>
              <a:endCxn id="165" idx="1"/>
            </p:cNvCxnSpPr>
            <p:nvPr/>
          </p:nvCxnSpPr>
          <p:spPr>
            <a:xfrm flipH="1" rot="16200000">
              <a:off x="2262960" y="564336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4" idx="2"/>
              <a:endCxn id="165" idx="3"/>
            </p:cNvCxnSpPr>
            <p:nvPr/>
          </p:nvCxnSpPr>
          <p:spPr>
            <a:xfrm rot="5400000">
              <a:off x="6771600" y="545472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2"/>
              <a:endCxn id="163" idx="0"/>
            </p:cNvCxnSpPr>
            <p:nvPr/>
          </p:nvCxnSpPr>
          <p:spPr>
            <a:xfrm>
              <a:off x="2395080" y="417528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1" idx="2"/>
              <a:endCxn id="164" idx="0"/>
            </p:cNvCxnSpPr>
            <p:nvPr/>
          </p:nvCxnSpPr>
          <p:spPr>
            <a:xfrm flipV="1" rot="10800000">
              <a:off x="7652520" y="417492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2"/>
              <a:endCxn id="160" idx="0"/>
            </p:cNvCxnSpPr>
            <p:nvPr/>
          </p:nvCxnSpPr>
          <p:spPr>
            <a:xfrm flipH="1">
              <a:off x="2395080" y="295128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9" idx="2"/>
              <a:endCxn id="161" idx="0"/>
            </p:cNvCxnSpPr>
            <p:nvPr/>
          </p:nvCxnSpPr>
          <p:spPr>
            <a:xfrm>
              <a:off x="4835160" y="295128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0" idx="3"/>
              <a:endCxn id="161" idx="1"/>
            </p:cNvCxnSpPr>
            <p:nvPr/>
          </p:nvCxnSpPr>
          <p:spPr>
            <a:xfrm>
              <a:off x="3780000" y="396684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2DD4-420A-4027-A079-4899B5BEFB40}" type="slidenum">
              <a:t>20</a:t>
            </a:fld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22360" y="315108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76360" y="2637000"/>
            <a:ext cx="5616720" cy="4033800"/>
            <a:chOff x="1476360" y="2637000"/>
            <a:chExt cx="5616720" cy="4033800"/>
          </a:xfrm>
        </p:grpSpPr>
        <p:sp>
          <p:nvSpPr>
            <p:cNvPr id="177" name=""/>
            <p:cNvSpPr/>
            <p:nvPr/>
          </p:nvSpPr>
          <p:spPr>
            <a:xfrm flipV="1">
              <a:off x="2320920" y="263700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0400" y="617868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306864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1400" y="63025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05480" y="415188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2637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4FAA-19D5-43E9-8C48-1B650D3AF6D9}" type="slidenum">
              <a:t>21</a:t>
            </a:fld>
          </a:p>
        </p:txBody>
      </p:sp>
    </p:spTree>
  </p:cSld>
  <p:transition>
    <p:split dir="in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atemá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43E4-9775-42F3-8962-D08AD9669307}" type="slidenum">
              <a:t>22</a:t>
            </a:fld>
          </a:p>
        </p:txBody>
      </p:sp>
    </p:spTree>
  </p:cSld>
  <p:transition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propósit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scriptivos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cuantificar la demanda o algún elemento asoci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ariables independientes suelen ser las actividades del marketing m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comprenden una etapa de definición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ructur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otra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br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 Decisió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buscan sugerencias a los valores que debe tomar las variables asociadas a las acciones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Teóric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s de Pronóstico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objetivo es pronosticar el valor que tomará una variable en el futu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0401-83CE-4532-ADE8-67D3AC994F31}" type="slidenum">
              <a:t>23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arketing necesita de los modelos matemáticos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0629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etidores cada vez más dinámicos y agresiv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sumidores cada vez más exigentes y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cada vez más necesario contar con modelos y herramientas sofisticadas que apoyen las decisiones comer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arketing debe avanzar desde lo intuitivo a lo científ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EE1C-E104-4098-9679-8F449643EB01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efectos de las decisiones de marketing son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38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zagados (no inmediat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line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ltidimens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ocá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fíciles de me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BCB2-3D1D-43BD-BCC3-01CFD32EDAD3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Tendencias que favorecen el modelamiento en marketing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desarrollo de soportes tecnológic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yor preocupación de las empresas por el desarrollo de sus bases de d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ursos computaci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gestores comerciales más prepar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onocimientos cuantita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eptivos a apoyar sus decisiones con elementos científ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teoría de marketing más evolucio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literatura, sistematización del conocimiento, base teórica más sóli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asos de éxito en base a la aplicación de modelos más robu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beneficio de los modelos ha comenzado a ser report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yores ingresos (ej.:descubrimiento de nuevos nichos de merc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enores costos (ej.: pronóstico de fuga de client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5D3A-B4BA-400C-A35A-CD886F7E0603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iencias que han apoyado la construcción de estos modelos…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ortamiento del consumidor (psicología, sociologí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 (micro-economía, teoría de jueg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nagement (estrategia, administració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dística / Econometrí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EE71-AEED-4E22-B713-00C92090785E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odelador debe ser capaz d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918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poner un mecanismo eficiente de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59D5-B940-4EC6-A1F0-8C1CC3E8C066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Qué es un modelo.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odel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 proporciona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0B3C-3E6C-4910-85BC-EEA9DC79B643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squemáticamen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712960" y="342900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71880" y="3357720"/>
            <a:ext cx="3968280" cy="1008720"/>
            <a:chOff x="4871880" y="3357720"/>
            <a:chExt cx="3968280" cy="1008720"/>
          </a:xfrm>
        </p:grpSpPr>
        <p:grpSp>
          <p:nvGrpSpPr>
            <p:cNvPr id="100" name=""/>
            <p:cNvGrpSpPr/>
            <p:nvPr/>
          </p:nvGrpSpPr>
          <p:grpSpPr>
            <a:xfrm>
              <a:off x="4871880" y="3645000"/>
              <a:ext cx="2455560" cy="398880"/>
              <a:chOff x="4871880" y="3645000"/>
              <a:chExt cx="2455560" cy="398880"/>
            </a:xfrm>
          </p:grpSpPr>
          <p:sp>
            <p:nvSpPr>
              <p:cNvPr id="101" name=""/>
              <p:cNvSpPr/>
              <p:nvPr/>
            </p:nvSpPr>
            <p:spPr>
              <a:xfrm>
                <a:off x="487188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77560" y="3645000"/>
                <a:ext cx="164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Inform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414560" y="3357720"/>
              <a:ext cx="142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Anális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Decis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Teor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15600" y="2060640"/>
            <a:ext cx="3410640" cy="1368000"/>
            <a:chOff x="3315600" y="2060640"/>
            <a:chExt cx="3410640" cy="1368000"/>
          </a:xfrm>
        </p:grpSpPr>
        <p:grpSp>
          <p:nvGrpSpPr>
            <p:cNvPr id="105" name=""/>
            <p:cNvGrpSpPr/>
            <p:nvPr/>
          </p:nvGrpSpPr>
          <p:grpSpPr>
            <a:xfrm>
              <a:off x="3315600" y="2455920"/>
              <a:ext cx="933480" cy="972720"/>
              <a:chOff x="3315600" y="2455920"/>
              <a:chExt cx="933480" cy="9727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3780000" y="285228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15600" y="2455920"/>
                <a:ext cx="9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eor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262760" y="2060640"/>
              <a:ext cx="24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Comportamient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conom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rategi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3960" y="3616200"/>
            <a:ext cx="2197080" cy="1774080"/>
            <a:chOff x="993960" y="3616200"/>
            <a:chExt cx="2197080" cy="1774080"/>
          </a:xfrm>
        </p:grpSpPr>
        <p:grpSp>
          <p:nvGrpSpPr>
            <p:cNvPr id="110" name=""/>
            <p:cNvGrpSpPr/>
            <p:nvPr/>
          </p:nvGrpSpPr>
          <p:grpSpPr>
            <a:xfrm>
              <a:off x="999000" y="3616200"/>
              <a:ext cx="1701360" cy="398880"/>
              <a:chOff x="999000" y="3616200"/>
              <a:chExt cx="1701360" cy="39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9216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9000" y="361620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Da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93960" y="4076640"/>
              <a:ext cx="219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Prim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Encuest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Secund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Bases de dato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74840" y="4220640"/>
            <a:ext cx="3598200" cy="1296720"/>
            <a:chOff x="3174840" y="4220640"/>
            <a:chExt cx="3598200" cy="1296720"/>
          </a:xfrm>
        </p:grpSpPr>
        <p:grpSp>
          <p:nvGrpSpPr>
            <p:cNvPr id="115" name=""/>
            <p:cNvGrpSpPr/>
            <p:nvPr/>
          </p:nvGrpSpPr>
          <p:grpSpPr>
            <a:xfrm>
              <a:off x="3174840" y="4220640"/>
              <a:ext cx="1197360" cy="939240"/>
              <a:chOff x="3174840" y="4220640"/>
              <a:chExt cx="1197360" cy="9392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3778200" y="422064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4840" y="476100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écnic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53840" y="4508640"/>
              <a:ext cx="241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ad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Optimizac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Minería de da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59280" y="4653000"/>
            <a:ext cx="1439640" cy="6490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EDE8-4399-4CC5-B337-4386599FE4A0}" type="slidenum">
              <a:t>9</a:t>
            </a:fld>
          </a:p>
        </p:txBody>
      </p:sp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7:31:15Z</dcterms:created>
  <dc:creator>Marcel Goic F.</dc:creator>
  <dc:description/>
  <dc:language>en-US</dc:language>
  <cp:lastModifiedBy>Casa</cp:lastModifiedBy>
  <dcterms:modified xsi:type="dcterms:W3CDTF">2006-07-28T04:26:23Z</dcterms:modified>
  <cp:revision>276</cp:revision>
  <dc:subject/>
  <dc:title>Propuesta Modelo Evaluación Impacto Programa Capacitación</dc:title>
</cp:coreProperties>
</file>