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29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3.wmf" ContentType="image/x-wmf"/>
  <Override PartName="/ppt/media/image13.png" ContentType="image/png"/>
  <Override PartName="/ppt/media/image10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9.wmf" ContentType="image/x-wmf"/>
  <Override PartName="/ppt/media/image30.wmf" ContentType="image/x-wmf"/>
  <Override PartName="/ppt/media/image32.wmf" ContentType="image/x-wmf"/>
  <Override PartName="/ppt/media/image7.wmf" ContentType="image/x-wmf"/>
  <Override PartName="/ppt/media/image11.wmf" ContentType="image/x-wmf"/>
  <Override PartName="/ppt/media/image34.jpeg" ContentType="image/jpeg"/>
  <Override PartName="/ppt/media/image35.wmf" ContentType="image/x-wmf"/>
  <Override PartName="/ppt/media/image3.jpeg" ContentType="image/jpeg"/>
  <Override PartName="/ppt/media/image12.wmf" ContentType="image/x-wmf"/>
  <Override PartName="/ppt/media/image36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89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0240" y="667800"/>
            <a:ext cx="4457520" cy="33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A926-B282-4257-ADCF-0E29C143C49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6C06-794F-4881-A20A-8F32A842BC7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6CDD-7D85-4663-BF55-827ABF438B2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E52D-3FA5-4D98-80E2-F32E9EDC256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3A13-5713-4514-A6DC-BFECB1406AF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F22C-749B-41AF-87F6-1A4C41109AF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8B9B-6A32-4272-AB48-77628384F25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D7C5-EB93-41A6-A8A1-5C3DD23F9ED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1EC6-8B45-47A4-A283-2BE1141CC63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53CB-1C83-43A6-A3A3-E59B2858386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5806-AF16-4282-8E7E-F99D55C2BBD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114E-0ACE-49C3-8458-41455FBE51E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09FF-E023-4013-B8E0-8F0B0B447E4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E322-157A-477B-AA4B-CE4CF81F552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7F11-F481-49AE-B45C-247B0CB7703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7F9E-0A19-4EDB-A430-CE9B8E8CE2E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B281-ECD2-4FCD-A1D8-88988CC0460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37C0-5586-4D0E-ACBD-5948C3621C8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9CF9-CDC6-4657-B09F-C787CF19DD2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omportamiento del Consumido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or: Máximo Bosch 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mavera 200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58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5264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EUGEOT" descr=""/>
          <p:cNvPicPr/>
          <p:nvPr/>
        </p:nvPicPr>
        <p:blipFill>
          <a:blip r:embed="rId1"/>
          <a:stretch/>
        </p:blipFill>
        <p:spPr>
          <a:xfrm>
            <a:off x="228600" y="101520"/>
            <a:ext cx="853452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-2662200" y="323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04920" y="-304920"/>
            <a:ext cx="8331120" cy="45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l caso  de ISPEN se  determinó que los atributos se referían a los porcentajes de bonificación en 6 grandes grupos de beneficios médicos 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ntales que se ofrecían 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s 6 grupos de beneficios, o bien, los 6 atributos del plan fueron lo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482760" y="209520"/>
            <a:ext cx="8254800" cy="539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1.- Atención Médica Ambulator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cc00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Exámenes clínicos de laboratorio o radiológicos, realizados por un médico o bajo su responsabilida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Atención médica en consulta o domicilio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Transfusión de sangre y otros tratamientos especializados realizados por médicos</a:t>
            </a:r>
            <a:r>
              <a:rPr b="1" lang="en-US" sz="2000" spc="-1" strike="noStrike">
                <a:solidFill>
                  <a:srgbClr val="cc00ff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2.- Atención Quirúrgic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Hospitalizació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Pabelló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Intervenciones quirúrgicas y procedimientos médico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Atención de matronas, enfermeras y practicant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Ambulancia</a:t>
            </a:r>
            <a:r>
              <a:rPr b="1" lang="en-US" sz="2000" spc="-1" strike="noStrike">
                <a:solidFill>
                  <a:srgbClr val="cc00ff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3.- Atención Dent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Endodonci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Ortodonci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Paradonci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Laboratorio denta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Operatoria genera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4.- Medicamen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5.- Anteojos-Audifonos-Próte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6.- Trasl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efinición de los niveles por atributo para el caso ISPEN</a:t>
            </a:r>
            <a:endParaRPr b="1" lang="en-US" sz="28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0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centaje de bonificación actual meno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%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1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centaje de bonificación actua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2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centaje de bonificación actual má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%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0" y="37800"/>
            <a:ext cx="9042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ISEÑO EXPERIMENTO</a:t>
            </a:r>
            <a:br>
              <a:rPr sz="28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SEÑO DE PRODUCTOS HIPOTETICOS</a:t>
            </a:r>
            <a:endParaRPr b="1" lang="en-US" sz="24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762120" y="1295280"/>
          <a:ext cx="7315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315200" cy="4857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UTILIDAD INDIVIDUAL</a:t>
            </a:r>
            <a:br>
              <a:rPr sz="2800"/>
            </a:b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DIVIDUO 336</a:t>
            </a:r>
            <a:endParaRPr b="1" lang="en-US" sz="18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457200" y="990720"/>
          <a:ext cx="740736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40736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"/>
          <p:cNvSpPr/>
          <p:nvPr/>
        </p:nvSpPr>
        <p:spPr>
          <a:xfrm>
            <a:off x="182520" y="5811840"/>
            <a:ext cx="46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11480" y="5181480"/>
            <a:ext cx="395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iveles del Atrib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1     </a:t>
            </a:r>
            <a:r>
              <a:rPr b="1" lang="en-US" sz="1800" spc="-1" strike="noStrike">
                <a:solidFill>
                  <a:srgbClr val="00dfca"/>
                </a:solidFill>
                <a:latin typeface="Comic Sans MS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2     </a:t>
            </a:r>
            <a:r>
              <a:rPr b="1" lang="en-US" sz="1800" spc="-1" strike="noStrike">
                <a:solidFill>
                  <a:srgbClr val="7fff00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3    </a:t>
            </a: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4    </a:t>
            </a:r>
            <a:r>
              <a:rPr b="1" lang="en-US" sz="1800" spc="-1" strike="noStrike">
                <a:solidFill>
                  <a:srgbClr val="cf0e30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A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8276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ASO ISPE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752400" y="1905120"/>
            <a:ext cx="83916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ADOS DEL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 encontraron dos planes que deberían cumplir los requisitos de la ISAPRE y dar más “preferencia” a los usu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533520" y="304920"/>
            <a:ext cx="82296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EC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relación entre Preferencias y Decisión de Compra es afect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Situaci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Influencia del 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 quien com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isplay/Merchand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azón de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Reg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supues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916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EUGEOT-2" descr=""/>
          <p:cNvPicPr/>
          <p:nvPr/>
        </p:nvPicPr>
        <p:blipFill>
          <a:blip r:embed="rId1"/>
          <a:stretch/>
        </p:blipFill>
        <p:spPr>
          <a:xfrm>
            <a:off x="119160" y="1028880"/>
            <a:ext cx="890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836280"/>
            <a:ext cx="746892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Sin embargo tenemos muchas otras necesidades que también tratamos de resolver a través de nuestras compr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Aprender, Entretenernos, Socializ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Y aún más, querem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Destaca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Ser Apreciado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Tener Pode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0000" y="1341360"/>
            <a:ext cx="324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ecesidades Esté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ber y Ent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tor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tenecer y 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siológ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51577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cc"/>
                </a:solidFill>
                <a:latin typeface="Times New Roman"/>
              </a:rPr>
              <a:t>Prioridad para el     Individ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93080" y="765000"/>
            <a:ext cx="718920" cy="4392720"/>
          </a:xfrm>
          <a:prstGeom prst="upArrow">
            <a:avLst>
              <a:gd name="adj1" fmla="val 50000"/>
              <a:gd name="adj2" fmla="val 152754"/>
            </a:avLst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7640" y="515772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5050"/>
                </a:solidFill>
                <a:latin typeface="Times New Roman"/>
              </a:rPr>
              <a:t>Abstracción de la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333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4572000" y="765000"/>
            <a:ext cx="792000" cy="4321440"/>
          </a:xfrm>
          <a:prstGeom prst="downArrow">
            <a:avLst>
              <a:gd name="adj1" fmla="val 50000"/>
              <a:gd name="adj2" fmla="val 136409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56000" y="1282680"/>
            <a:ext cx="3887640" cy="4353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ecesidades Esté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ber y Ent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tor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tenecer y 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siológ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333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SLOW y la definición de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8000" y="2276640"/>
            <a:ext cx="1765440" cy="2852640"/>
          </a:xfrm>
          <a:custGeom>
            <a:avLst/>
            <a:gdLst/>
            <a:ahLst/>
            <a:rect l="l" t="t" r="r" b="b"/>
            <a:pathLst>
              <a:path w="1094" h="2030">
                <a:moveTo>
                  <a:pt x="69" y="1894"/>
                </a:moveTo>
                <a:cubicBezTo>
                  <a:pt x="109" y="1955"/>
                  <a:pt x="59" y="1894"/>
                  <a:pt x="137" y="1933"/>
                </a:cubicBezTo>
                <a:cubicBezTo>
                  <a:pt x="149" y="1939"/>
                  <a:pt x="155" y="1954"/>
                  <a:pt x="166" y="1962"/>
                </a:cubicBezTo>
                <a:cubicBezTo>
                  <a:pt x="205" y="1988"/>
                  <a:pt x="317" y="2004"/>
                  <a:pt x="362" y="2011"/>
                </a:cubicBezTo>
                <a:cubicBezTo>
                  <a:pt x="410" y="2019"/>
                  <a:pt x="508" y="2030"/>
                  <a:pt x="508" y="2030"/>
                </a:cubicBezTo>
                <a:cubicBezTo>
                  <a:pt x="578" y="2021"/>
                  <a:pt x="642" y="2000"/>
                  <a:pt x="703" y="1962"/>
                </a:cubicBezTo>
                <a:cubicBezTo>
                  <a:pt x="751" y="1932"/>
                  <a:pt x="776" y="1883"/>
                  <a:pt x="830" y="1864"/>
                </a:cubicBezTo>
                <a:cubicBezTo>
                  <a:pt x="863" y="1831"/>
                  <a:pt x="903" y="1791"/>
                  <a:pt x="947" y="1777"/>
                </a:cubicBezTo>
                <a:cubicBezTo>
                  <a:pt x="980" y="1713"/>
                  <a:pt x="977" y="1709"/>
                  <a:pt x="967" y="1630"/>
                </a:cubicBezTo>
                <a:cubicBezTo>
                  <a:pt x="985" y="1578"/>
                  <a:pt x="998" y="1526"/>
                  <a:pt x="1016" y="1474"/>
                </a:cubicBezTo>
                <a:cubicBezTo>
                  <a:pt x="1020" y="1463"/>
                  <a:pt x="1030" y="1455"/>
                  <a:pt x="1035" y="1445"/>
                </a:cubicBezTo>
                <a:cubicBezTo>
                  <a:pt x="1051" y="1413"/>
                  <a:pt x="1056" y="1372"/>
                  <a:pt x="1064" y="1337"/>
                </a:cubicBezTo>
                <a:cubicBezTo>
                  <a:pt x="1061" y="1314"/>
                  <a:pt x="1055" y="1292"/>
                  <a:pt x="1055" y="1269"/>
                </a:cubicBezTo>
                <a:cubicBezTo>
                  <a:pt x="1055" y="1184"/>
                  <a:pt x="1077" y="1270"/>
                  <a:pt x="1055" y="1201"/>
                </a:cubicBezTo>
                <a:cubicBezTo>
                  <a:pt x="1068" y="1075"/>
                  <a:pt x="1085" y="955"/>
                  <a:pt x="1094" y="830"/>
                </a:cubicBezTo>
                <a:cubicBezTo>
                  <a:pt x="1087" y="781"/>
                  <a:pt x="1084" y="719"/>
                  <a:pt x="1064" y="673"/>
                </a:cubicBezTo>
                <a:cubicBezTo>
                  <a:pt x="1044" y="627"/>
                  <a:pt x="1013" y="585"/>
                  <a:pt x="996" y="537"/>
                </a:cubicBezTo>
                <a:cubicBezTo>
                  <a:pt x="983" y="450"/>
                  <a:pt x="990" y="415"/>
                  <a:pt x="947" y="351"/>
                </a:cubicBezTo>
                <a:cubicBezTo>
                  <a:pt x="935" y="299"/>
                  <a:pt x="927" y="288"/>
                  <a:pt x="879" y="263"/>
                </a:cubicBezTo>
                <a:cubicBezTo>
                  <a:pt x="855" y="216"/>
                  <a:pt x="822" y="193"/>
                  <a:pt x="791" y="146"/>
                </a:cubicBezTo>
                <a:cubicBezTo>
                  <a:pt x="785" y="137"/>
                  <a:pt x="702" y="115"/>
                  <a:pt x="684" y="107"/>
                </a:cubicBezTo>
                <a:cubicBezTo>
                  <a:pt x="671" y="101"/>
                  <a:pt x="657" y="96"/>
                  <a:pt x="645" y="88"/>
                </a:cubicBezTo>
                <a:cubicBezTo>
                  <a:pt x="631" y="79"/>
                  <a:pt x="621" y="65"/>
                  <a:pt x="606" y="58"/>
                </a:cubicBezTo>
                <a:cubicBezTo>
                  <a:pt x="553" y="31"/>
                  <a:pt x="448" y="12"/>
                  <a:pt x="391" y="0"/>
                </a:cubicBezTo>
                <a:cubicBezTo>
                  <a:pt x="347" y="7"/>
                  <a:pt x="306" y="14"/>
                  <a:pt x="264" y="29"/>
                </a:cubicBezTo>
                <a:cubicBezTo>
                  <a:pt x="241" y="95"/>
                  <a:pt x="274" y="17"/>
                  <a:pt x="215" y="88"/>
                </a:cubicBezTo>
                <a:cubicBezTo>
                  <a:pt x="201" y="105"/>
                  <a:pt x="198" y="128"/>
                  <a:pt x="186" y="146"/>
                </a:cubicBezTo>
                <a:cubicBezTo>
                  <a:pt x="169" y="211"/>
                  <a:pt x="168" y="278"/>
                  <a:pt x="147" y="342"/>
                </a:cubicBezTo>
                <a:cubicBezTo>
                  <a:pt x="144" y="446"/>
                  <a:pt x="142" y="550"/>
                  <a:pt x="137" y="654"/>
                </a:cubicBezTo>
                <a:cubicBezTo>
                  <a:pt x="130" y="782"/>
                  <a:pt x="79" y="915"/>
                  <a:pt x="39" y="1035"/>
                </a:cubicBezTo>
                <a:cubicBezTo>
                  <a:pt x="31" y="1104"/>
                  <a:pt x="14" y="1163"/>
                  <a:pt x="0" y="1230"/>
                </a:cubicBezTo>
                <a:cubicBezTo>
                  <a:pt x="2" y="1264"/>
                  <a:pt x="30" y="1424"/>
                  <a:pt x="10" y="1484"/>
                </a:cubicBezTo>
                <a:cubicBezTo>
                  <a:pt x="62" y="1560"/>
                  <a:pt x="49" y="1757"/>
                  <a:pt x="49" y="1757"/>
                </a:cubicBezTo>
                <a:cubicBezTo>
                  <a:pt x="29" y="1814"/>
                  <a:pt x="35" y="1786"/>
                  <a:pt x="49" y="1884"/>
                </a:cubicBezTo>
                <a:cubicBezTo>
                  <a:pt x="51" y="1897"/>
                  <a:pt x="47" y="1917"/>
                  <a:pt x="59" y="1923"/>
                </a:cubicBezTo>
                <a:cubicBezTo>
                  <a:pt x="68" y="1928"/>
                  <a:pt x="66" y="1904"/>
                  <a:pt x="69" y="1894"/>
                </a:cubicBezTo>
                <a:close/>
              </a:path>
            </a:pathLst>
          </a:custGeom>
          <a:gradFill rotWithShape="0">
            <a:gsLst>
              <a:gs pos="0">
                <a:srgbClr val="ffff00">
                  <a:alpha val="24313"/>
                </a:srgbClr>
              </a:gs>
              <a:gs pos="100000">
                <a:srgbClr val="757500">
                  <a:alpha val="70196"/>
                </a:srgbClr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3357720"/>
            <a:ext cx="2736720" cy="1977840"/>
          </a:xfrm>
          <a:custGeom>
            <a:avLst/>
            <a:gdLst/>
            <a:ahLst/>
            <a:rect l="l" t="t" r="r" b="b"/>
            <a:pathLst>
              <a:path w="1386" h="1972">
                <a:moveTo>
                  <a:pt x="0" y="1836"/>
                </a:moveTo>
                <a:cubicBezTo>
                  <a:pt x="50" y="1819"/>
                  <a:pt x="49" y="1772"/>
                  <a:pt x="58" y="1719"/>
                </a:cubicBezTo>
                <a:cubicBezTo>
                  <a:pt x="66" y="1673"/>
                  <a:pt x="72" y="1617"/>
                  <a:pt x="87" y="1572"/>
                </a:cubicBezTo>
                <a:cubicBezTo>
                  <a:pt x="118" y="1477"/>
                  <a:pt x="98" y="1579"/>
                  <a:pt x="117" y="1504"/>
                </a:cubicBezTo>
                <a:cubicBezTo>
                  <a:pt x="117" y="1502"/>
                  <a:pt x="133" y="1423"/>
                  <a:pt x="136" y="1416"/>
                </a:cubicBezTo>
                <a:cubicBezTo>
                  <a:pt x="146" y="1392"/>
                  <a:pt x="164" y="1371"/>
                  <a:pt x="175" y="1348"/>
                </a:cubicBezTo>
                <a:cubicBezTo>
                  <a:pt x="182" y="1266"/>
                  <a:pt x="190" y="1225"/>
                  <a:pt x="205" y="1152"/>
                </a:cubicBezTo>
                <a:cubicBezTo>
                  <a:pt x="143" y="1063"/>
                  <a:pt x="221" y="1191"/>
                  <a:pt x="195" y="1084"/>
                </a:cubicBezTo>
                <a:cubicBezTo>
                  <a:pt x="191" y="1068"/>
                  <a:pt x="176" y="1058"/>
                  <a:pt x="166" y="1045"/>
                </a:cubicBezTo>
                <a:cubicBezTo>
                  <a:pt x="173" y="952"/>
                  <a:pt x="181" y="868"/>
                  <a:pt x="214" y="781"/>
                </a:cubicBezTo>
                <a:cubicBezTo>
                  <a:pt x="229" y="741"/>
                  <a:pt x="220" y="718"/>
                  <a:pt x="263" y="703"/>
                </a:cubicBezTo>
                <a:cubicBezTo>
                  <a:pt x="283" y="644"/>
                  <a:pt x="307" y="601"/>
                  <a:pt x="351" y="557"/>
                </a:cubicBezTo>
                <a:cubicBezTo>
                  <a:pt x="373" y="492"/>
                  <a:pt x="403" y="430"/>
                  <a:pt x="439" y="371"/>
                </a:cubicBezTo>
                <a:cubicBezTo>
                  <a:pt x="451" y="351"/>
                  <a:pt x="465" y="332"/>
                  <a:pt x="478" y="313"/>
                </a:cubicBezTo>
                <a:cubicBezTo>
                  <a:pt x="485" y="303"/>
                  <a:pt x="498" y="283"/>
                  <a:pt x="498" y="283"/>
                </a:cubicBezTo>
                <a:cubicBezTo>
                  <a:pt x="527" y="195"/>
                  <a:pt x="555" y="103"/>
                  <a:pt x="634" y="49"/>
                </a:cubicBezTo>
                <a:cubicBezTo>
                  <a:pt x="660" y="11"/>
                  <a:pt x="677" y="11"/>
                  <a:pt x="722" y="0"/>
                </a:cubicBezTo>
                <a:cubicBezTo>
                  <a:pt x="849" y="3"/>
                  <a:pt x="976" y="4"/>
                  <a:pt x="1103" y="10"/>
                </a:cubicBezTo>
                <a:cubicBezTo>
                  <a:pt x="1171" y="13"/>
                  <a:pt x="1249" y="42"/>
                  <a:pt x="1318" y="49"/>
                </a:cubicBezTo>
                <a:cubicBezTo>
                  <a:pt x="1328" y="56"/>
                  <a:pt x="1341" y="59"/>
                  <a:pt x="1347" y="69"/>
                </a:cubicBezTo>
                <a:cubicBezTo>
                  <a:pt x="1354" y="79"/>
                  <a:pt x="1376" y="157"/>
                  <a:pt x="1386" y="176"/>
                </a:cubicBezTo>
                <a:cubicBezTo>
                  <a:pt x="1376" y="318"/>
                  <a:pt x="1370" y="457"/>
                  <a:pt x="1288" y="576"/>
                </a:cubicBezTo>
                <a:cubicBezTo>
                  <a:pt x="1275" y="632"/>
                  <a:pt x="1261" y="672"/>
                  <a:pt x="1220" y="713"/>
                </a:cubicBezTo>
                <a:cubicBezTo>
                  <a:pt x="1213" y="734"/>
                  <a:pt x="1198" y="751"/>
                  <a:pt x="1191" y="772"/>
                </a:cubicBezTo>
                <a:cubicBezTo>
                  <a:pt x="1174" y="823"/>
                  <a:pt x="1190" y="820"/>
                  <a:pt x="1171" y="859"/>
                </a:cubicBezTo>
                <a:cubicBezTo>
                  <a:pt x="1143" y="915"/>
                  <a:pt x="1098" y="971"/>
                  <a:pt x="1054" y="1016"/>
                </a:cubicBezTo>
                <a:cubicBezTo>
                  <a:pt x="1043" y="1048"/>
                  <a:pt x="1040" y="1083"/>
                  <a:pt x="1025" y="1113"/>
                </a:cubicBezTo>
                <a:cubicBezTo>
                  <a:pt x="1014" y="1134"/>
                  <a:pt x="983" y="1165"/>
                  <a:pt x="966" y="1182"/>
                </a:cubicBezTo>
                <a:cubicBezTo>
                  <a:pt x="939" y="1260"/>
                  <a:pt x="908" y="1347"/>
                  <a:pt x="849" y="1406"/>
                </a:cubicBezTo>
                <a:cubicBezTo>
                  <a:pt x="827" y="1490"/>
                  <a:pt x="857" y="1403"/>
                  <a:pt x="810" y="1474"/>
                </a:cubicBezTo>
                <a:cubicBezTo>
                  <a:pt x="789" y="1506"/>
                  <a:pt x="814" y="1505"/>
                  <a:pt x="781" y="1533"/>
                </a:cubicBezTo>
                <a:cubicBezTo>
                  <a:pt x="770" y="1542"/>
                  <a:pt x="754" y="1545"/>
                  <a:pt x="742" y="1553"/>
                </a:cubicBezTo>
                <a:cubicBezTo>
                  <a:pt x="731" y="1561"/>
                  <a:pt x="722" y="1572"/>
                  <a:pt x="712" y="1582"/>
                </a:cubicBezTo>
                <a:cubicBezTo>
                  <a:pt x="691" y="1650"/>
                  <a:pt x="641" y="1715"/>
                  <a:pt x="585" y="1758"/>
                </a:cubicBezTo>
                <a:cubicBezTo>
                  <a:pt x="564" y="1826"/>
                  <a:pt x="447" y="1926"/>
                  <a:pt x="380" y="1943"/>
                </a:cubicBezTo>
                <a:cubicBezTo>
                  <a:pt x="367" y="1946"/>
                  <a:pt x="354" y="1949"/>
                  <a:pt x="341" y="1953"/>
                </a:cubicBezTo>
                <a:cubicBezTo>
                  <a:pt x="322" y="1959"/>
                  <a:pt x="283" y="1972"/>
                  <a:pt x="283" y="1972"/>
                </a:cubicBezTo>
                <a:cubicBezTo>
                  <a:pt x="278" y="1971"/>
                  <a:pt x="112" y="1955"/>
                  <a:pt x="107" y="1953"/>
                </a:cubicBezTo>
                <a:cubicBezTo>
                  <a:pt x="96" y="1949"/>
                  <a:pt x="94" y="1934"/>
                  <a:pt x="87" y="1924"/>
                </a:cubicBezTo>
                <a:cubicBezTo>
                  <a:pt x="69" y="1863"/>
                  <a:pt x="58" y="1869"/>
                  <a:pt x="58" y="1797"/>
                </a:cubicBezTo>
                <a:lnTo>
                  <a:pt x="80" y="1727"/>
                </a:lnTo>
              </a:path>
            </a:pathLst>
          </a:custGeom>
          <a:solidFill>
            <a:srgbClr val="ff5050">
              <a:alpha val="22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3640" y="1628640"/>
            <a:ext cx="2376360" cy="3456000"/>
          </a:xfrm>
          <a:custGeom>
            <a:avLst/>
            <a:gdLst/>
            <a:ahLst/>
            <a:rect l="l" t="t" r="r" b="b"/>
            <a:pathLst>
              <a:path w="1664" h="2220">
                <a:moveTo>
                  <a:pt x="37" y="2211"/>
                </a:moveTo>
                <a:cubicBezTo>
                  <a:pt x="421" y="2083"/>
                  <a:pt x="0" y="2220"/>
                  <a:pt x="1189" y="2192"/>
                </a:cubicBezTo>
                <a:cubicBezTo>
                  <a:pt x="1242" y="2191"/>
                  <a:pt x="1377" y="2142"/>
                  <a:pt x="1412" y="2100"/>
                </a:cubicBezTo>
                <a:cubicBezTo>
                  <a:pt x="1466" y="2036"/>
                  <a:pt x="1454" y="1955"/>
                  <a:pt x="1514" y="1895"/>
                </a:cubicBezTo>
                <a:cubicBezTo>
                  <a:pt x="1523" y="1841"/>
                  <a:pt x="1534" y="1798"/>
                  <a:pt x="1551" y="1747"/>
                </a:cubicBezTo>
                <a:cubicBezTo>
                  <a:pt x="1561" y="1716"/>
                  <a:pt x="1579" y="1654"/>
                  <a:pt x="1579" y="1654"/>
                </a:cubicBezTo>
                <a:cubicBezTo>
                  <a:pt x="1588" y="1573"/>
                  <a:pt x="1595" y="1571"/>
                  <a:pt x="1616" y="1505"/>
                </a:cubicBezTo>
                <a:cubicBezTo>
                  <a:pt x="1625" y="1417"/>
                  <a:pt x="1641" y="1339"/>
                  <a:pt x="1662" y="1254"/>
                </a:cubicBezTo>
                <a:cubicBezTo>
                  <a:pt x="1650" y="1101"/>
                  <a:pt x="1664" y="818"/>
                  <a:pt x="1625" y="697"/>
                </a:cubicBezTo>
                <a:cubicBezTo>
                  <a:pt x="1638" y="477"/>
                  <a:pt x="1637" y="570"/>
                  <a:pt x="1625" y="288"/>
                </a:cubicBezTo>
                <a:cubicBezTo>
                  <a:pt x="1621" y="196"/>
                  <a:pt x="1620" y="50"/>
                  <a:pt x="1523" y="0"/>
                </a:cubicBezTo>
                <a:cubicBezTo>
                  <a:pt x="1455" y="16"/>
                  <a:pt x="1492" y="30"/>
                  <a:pt x="1467" y="84"/>
                </a:cubicBezTo>
                <a:cubicBezTo>
                  <a:pt x="1450" y="122"/>
                  <a:pt x="1423" y="155"/>
                  <a:pt x="1412" y="195"/>
                </a:cubicBezTo>
                <a:cubicBezTo>
                  <a:pt x="1403" y="228"/>
                  <a:pt x="1403" y="264"/>
                  <a:pt x="1393" y="297"/>
                </a:cubicBezTo>
                <a:cubicBezTo>
                  <a:pt x="1390" y="308"/>
                  <a:pt x="1379" y="315"/>
                  <a:pt x="1374" y="325"/>
                </a:cubicBezTo>
                <a:cubicBezTo>
                  <a:pt x="1347" y="379"/>
                  <a:pt x="1328" y="445"/>
                  <a:pt x="1309" y="502"/>
                </a:cubicBezTo>
                <a:cubicBezTo>
                  <a:pt x="1301" y="559"/>
                  <a:pt x="1309" y="584"/>
                  <a:pt x="1263" y="613"/>
                </a:cubicBezTo>
                <a:cubicBezTo>
                  <a:pt x="1251" y="650"/>
                  <a:pt x="1240" y="666"/>
                  <a:pt x="1207" y="687"/>
                </a:cubicBezTo>
                <a:cubicBezTo>
                  <a:pt x="1185" y="721"/>
                  <a:pt x="1179" y="780"/>
                  <a:pt x="1151" y="808"/>
                </a:cubicBezTo>
                <a:cubicBezTo>
                  <a:pt x="1141" y="818"/>
                  <a:pt x="1126" y="821"/>
                  <a:pt x="1114" y="827"/>
                </a:cubicBezTo>
                <a:cubicBezTo>
                  <a:pt x="1094" y="890"/>
                  <a:pt x="1074" y="936"/>
                  <a:pt x="1012" y="966"/>
                </a:cubicBezTo>
                <a:cubicBezTo>
                  <a:pt x="959" y="1070"/>
                  <a:pt x="1034" y="936"/>
                  <a:pt x="956" y="1031"/>
                </a:cubicBezTo>
                <a:cubicBezTo>
                  <a:pt x="950" y="1039"/>
                  <a:pt x="953" y="1051"/>
                  <a:pt x="947" y="1059"/>
                </a:cubicBezTo>
                <a:cubicBezTo>
                  <a:pt x="925" y="1087"/>
                  <a:pt x="880" y="1108"/>
                  <a:pt x="854" y="1133"/>
                </a:cubicBezTo>
                <a:cubicBezTo>
                  <a:pt x="835" y="1192"/>
                  <a:pt x="838" y="1215"/>
                  <a:pt x="780" y="1245"/>
                </a:cubicBezTo>
                <a:cubicBezTo>
                  <a:pt x="753" y="1298"/>
                  <a:pt x="770" y="1310"/>
                  <a:pt x="715" y="1338"/>
                </a:cubicBezTo>
                <a:cubicBezTo>
                  <a:pt x="704" y="1368"/>
                  <a:pt x="668" y="1421"/>
                  <a:pt x="668" y="1421"/>
                </a:cubicBezTo>
                <a:cubicBezTo>
                  <a:pt x="649" y="1481"/>
                  <a:pt x="674" y="1416"/>
                  <a:pt x="631" y="1477"/>
                </a:cubicBezTo>
                <a:cubicBezTo>
                  <a:pt x="588" y="1538"/>
                  <a:pt x="641" y="1495"/>
                  <a:pt x="585" y="1533"/>
                </a:cubicBezTo>
                <a:cubicBezTo>
                  <a:pt x="537" y="1604"/>
                  <a:pt x="602" y="1522"/>
                  <a:pt x="529" y="1570"/>
                </a:cubicBezTo>
                <a:cubicBezTo>
                  <a:pt x="509" y="1583"/>
                  <a:pt x="501" y="1610"/>
                  <a:pt x="482" y="1626"/>
                </a:cubicBezTo>
                <a:cubicBezTo>
                  <a:pt x="438" y="1663"/>
                  <a:pt x="399" y="1715"/>
                  <a:pt x="352" y="1747"/>
                </a:cubicBezTo>
                <a:cubicBezTo>
                  <a:pt x="305" y="1843"/>
                  <a:pt x="369" y="1732"/>
                  <a:pt x="297" y="1802"/>
                </a:cubicBezTo>
                <a:cubicBezTo>
                  <a:pt x="290" y="1809"/>
                  <a:pt x="293" y="1822"/>
                  <a:pt x="287" y="1830"/>
                </a:cubicBezTo>
                <a:cubicBezTo>
                  <a:pt x="277" y="1842"/>
                  <a:pt x="262" y="1849"/>
                  <a:pt x="250" y="1858"/>
                </a:cubicBezTo>
                <a:cubicBezTo>
                  <a:pt x="236" y="1902"/>
                  <a:pt x="205" y="1952"/>
                  <a:pt x="167" y="1979"/>
                </a:cubicBezTo>
                <a:cubicBezTo>
                  <a:pt x="154" y="2015"/>
                  <a:pt x="136" y="2043"/>
                  <a:pt x="111" y="2072"/>
                </a:cubicBezTo>
                <a:cubicBezTo>
                  <a:pt x="96" y="2090"/>
                  <a:pt x="73" y="2104"/>
                  <a:pt x="64" y="2127"/>
                </a:cubicBezTo>
                <a:cubicBezTo>
                  <a:pt x="53" y="2154"/>
                  <a:pt x="46" y="2183"/>
                  <a:pt x="37" y="2211"/>
                </a:cubicBezTo>
                <a:close/>
              </a:path>
            </a:pathLst>
          </a:custGeom>
          <a:gradFill rotWithShape="0">
            <a:gsLst>
              <a:gs pos="0">
                <a:srgbClr val="ccff33">
                  <a:alpha val="18039"/>
                </a:srgbClr>
              </a:gs>
              <a:gs pos="100000">
                <a:srgbClr val="5e7517">
                  <a:alpha val="62352"/>
                </a:srgbClr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851280" y="2276640"/>
            <a:ext cx="4684320" cy="4031280"/>
            <a:chOff x="3851280" y="2276640"/>
            <a:chExt cx="4684320" cy="4031280"/>
          </a:xfrm>
        </p:grpSpPr>
        <p:sp>
          <p:nvSpPr>
            <p:cNvPr id="134" name=""/>
            <p:cNvSpPr/>
            <p:nvPr/>
          </p:nvSpPr>
          <p:spPr>
            <a:xfrm>
              <a:off x="3851280" y="2621880"/>
              <a:ext cx="4684320" cy="368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97080" y="4580280"/>
              <a:ext cx="102492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Times New Roman"/>
                </a:rPr>
                <a:t>descubrimien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36280" y="3197880"/>
              <a:ext cx="102492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sin ries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29320" y="5386680"/>
              <a:ext cx="102420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entreten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32280" y="5386680"/>
              <a:ext cx="102492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fáci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64520" y="4465440"/>
              <a:ext cx="1024200" cy="4600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25320" y="3197880"/>
              <a:ext cx="102420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una sola v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11440" y="3197880"/>
              <a:ext cx="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93080" y="4349880"/>
              <a:ext cx="1171440" cy="34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022000" y="4349880"/>
              <a:ext cx="1170720" cy="34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314320" y="4349880"/>
              <a:ext cx="87804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93080" y="4349880"/>
              <a:ext cx="87804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53880" y="2737440"/>
              <a:ext cx="1024920" cy="4600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Bu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314680" y="3312720"/>
              <a:ext cx="1755720" cy="1612080"/>
              <a:chOff x="5314680" y="3312720"/>
              <a:chExt cx="1755720" cy="1612080"/>
            </a:xfrm>
          </p:grpSpPr>
          <p:sp>
            <p:nvSpPr>
              <p:cNvPr id="148" name=""/>
              <p:cNvSpPr/>
              <p:nvPr/>
            </p:nvSpPr>
            <p:spPr>
              <a:xfrm>
                <a:off x="5314680" y="3658320"/>
                <a:ext cx="87804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6192360" y="3658320"/>
                <a:ext cx="87804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461200" y="3773880"/>
                <a:ext cx="0" cy="80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61200" y="4579560"/>
                <a:ext cx="117036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6631560" y="3658320"/>
                <a:ext cx="438840" cy="12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6192360" y="3312720"/>
                <a:ext cx="87804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5460840" y="3313080"/>
                <a:ext cx="731160" cy="46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851280" y="2276640"/>
              <a:ext cx="4684320" cy="3452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Hiper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4920" y="44280"/>
            <a:ext cx="3816000" cy="3744360"/>
            <a:chOff x="34920" y="44280"/>
            <a:chExt cx="3816000" cy="3744360"/>
          </a:xfrm>
        </p:grpSpPr>
        <p:sp>
          <p:nvSpPr>
            <p:cNvPr id="157" name=""/>
            <p:cNvSpPr/>
            <p:nvPr/>
          </p:nvSpPr>
          <p:spPr>
            <a:xfrm>
              <a:off x="34920" y="365040"/>
              <a:ext cx="3816000" cy="342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4080" y="2077200"/>
              <a:ext cx="834120" cy="4273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Times New Roman"/>
                </a:rPr>
                <a:t>descubrimien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1920" y="900000"/>
              <a:ext cx="83412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sin ries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0240" y="2933280"/>
              <a:ext cx="83484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000000"/>
                  </a:solidFill>
                  <a:latin typeface="Times New Roman"/>
                </a:rPr>
                <a:t>entreten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81600" y="2933280"/>
              <a:ext cx="83484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fáci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96920" y="2077200"/>
              <a:ext cx="834840" cy="4273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9080" y="900000"/>
              <a:ext cx="83484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una sola v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65920" y="472320"/>
              <a:ext cx="834840" cy="4273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Bu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7600" y="1328040"/>
              <a:ext cx="715320" cy="64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942920" y="1328040"/>
              <a:ext cx="715320" cy="64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43280" y="1970280"/>
              <a:ext cx="95364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88200" y="1970280"/>
              <a:ext cx="95436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227240" y="1970280"/>
              <a:ext cx="715320" cy="9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43280" y="1970280"/>
              <a:ext cx="595800" cy="9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920" y="44280"/>
              <a:ext cx="3816000" cy="3207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66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666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Tienda de Descu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666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703880" y="900000"/>
              <a:ext cx="834840" cy="1818720"/>
              <a:chOff x="1703880" y="900000"/>
              <a:chExt cx="834840" cy="1818720"/>
            </a:xfrm>
          </p:grpSpPr>
          <p:sp>
            <p:nvSpPr>
              <p:cNvPr id="173" name=""/>
              <p:cNvSpPr/>
              <p:nvPr/>
            </p:nvSpPr>
            <p:spPr>
              <a:xfrm>
                <a:off x="1704240" y="1969920"/>
                <a:ext cx="714960" cy="74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2419200" y="2103840"/>
                <a:ext cx="119160" cy="61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42920" y="900000"/>
                <a:ext cx="595800" cy="120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920" y="900000"/>
                <a:ext cx="0" cy="10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1823040" y="900000"/>
                <a:ext cx="119160" cy="9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703880" y="1862640"/>
                <a:ext cx="11916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687960" y="4952880"/>
            <a:ext cx="21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imes New Roman"/>
              </a:rPr>
              <a:t>Adaptado de: McKinsey &amp;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LADDERING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572000" y="1268280"/>
            <a:ext cx="3887280" cy="4752720"/>
            <a:chOff x="4572000" y="1268280"/>
            <a:chExt cx="3887280" cy="4752720"/>
          </a:xfrm>
        </p:grpSpPr>
        <p:sp>
          <p:nvSpPr>
            <p:cNvPr id="182" name=""/>
            <p:cNvSpPr/>
            <p:nvPr/>
          </p:nvSpPr>
          <p:spPr>
            <a:xfrm>
              <a:off x="4572000" y="1268280"/>
              <a:ext cx="3816000" cy="115236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VAL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3068280"/>
              <a:ext cx="3816000" cy="1152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BENEFIC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43280" y="4868640"/>
              <a:ext cx="3816000" cy="115236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ATRIBU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72000" y="4149360"/>
              <a:ext cx="215640" cy="719280"/>
            </a:xfrm>
            <a:prstGeom prst="upArrow">
              <a:avLst>
                <a:gd name="adj1" fmla="val 50000"/>
                <a:gd name="adj2" fmla="val 83389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72000" y="2420640"/>
              <a:ext cx="215640" cy="719280"/>
            </a:xfrm>
            <a:prstGeom prst="upArrow">
              <a:avLst>
                <a:gd name="adj1" fmla="val 50000"/>
                <a:gd name="adj2" fmla="val 83389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68360" y="1374840"/>
            <a:ext cx="381636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quiere entender que es lo que lleva a un consumidor preferir una marca sobre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Marcas son descritas por atributos, o característica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Beneficios son las consecuencias que percibe el consumidor le producen los atributo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valores son emociones y necesidades esenciales de l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440" y="33336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Laddering: cómo es una entrevista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Usted dijo que  BCC era importante para usted. Porqué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Re. Consumir lo menos posible. Causa menos polució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odría explicarme porqué le importa a usted generar poca polució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Re. Hay que preocuparse del aire.  Tengo que hacer mi aporte. Todos debiéramos procuparn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Y si no se preocupa?, que le suced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Re. Siento que es un problema ético. Todos tenemos una obligación de no contaminar por la futuras generacion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 Pero porqué es importante ésto para usted? Que gana con ést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Me hace sentir bien!!. Soy más feliz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9079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Por ejemplo se ha determinado que el bajo consumo de combustible (BCC) es el atributo más importante para una persona al comprar un a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602136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jemplo de  R. Kennet de KPA Lt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979640" y="331920"/>
            <a:ext cx="3527280" cy="6192360"/>
            <a:chOff x="1979640" y="331920"/>
            <a:chExt cx="3527280" cy="6192360"/>
          </a:xfrm>
        </p:grpSpPr>
        <p:sp>
          <p:nvSpPr>
            <p:cNvPr id="193" name=""/>
            <p:cNvSpPr/>
            <p:nvPr/>
          </p:nvSpPr>
          <p:spPr>
            <a:xfrm>
              <a:off x="2554200" y="558792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Atrib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umode Combust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82560" y="4363920"/>
              <a:ext cx="295308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ecu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Menos p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11280" y="306864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11280" y="1700280"/>
              <a:ext cx="2952720" cy="9360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ecu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Obligación c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generación Sigu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38200" y="33192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Val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Sentirse B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79640" y="547560"/>
              <a:ext cx="215640" cy="5760720"/>
            </a:xfrm>
            <a:prstGeom prst="upArrow">
              <a:avLst>
                <a:gd name="adj1" fmla="val 50000"/>
                <a:gd name="adj2" fmla="val 667863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11280" y="306864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ecu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Tengo que hacer mi ap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50920" y="2276640"/>
            <a:ext cx="1655280" cy="2304720"/>
            <a:chOff x="250920" y="2276640"/>
            <a:chExt cx="1655280" cy="2304720"/>
          </a:xfrm>
        </p:grpSpPr>
        <p:sp>
          <p:nvSpPr>
            <p:cNvPr id="201" name=""/>
            <p:cNvSpPr/>
            <p:nvPr/>
          </p:nvSpPr>
          <p:spPr>
            <a:xfrm>
              <a:off x="250920" y="2276640"/>
              <a:ext cx="1625040" cy="558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Times New Roman"/>
                </a:rPr>
                <a:t>VAL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0920" y="3149280"/>
              <a:ext cx="1625040" cy="558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Times New Roman"/>
                </a:rPr>
                <a:t>BENEFIC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1160" y="4022640"/>
              <a:ext cx="1625040" cy="558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Times New Roman"/>
                </a:rPr>
                <a:t>ATRIBU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17360" y="3673800"/>
              <a:ext cx="91800" cy="348480"/>
            </a:xfrm>
            <a:prstGeom prst="upArrow">
              <a:avLst>
                <a:gd name="adj1" fmla="val 50000"/>
                <a:gd name="adj2" fmla="val 94902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17360" y="2835360"/>
              <a:ext cx="91800" cy="348480"/>
            </a:xfrm>
            <a:prstGeom prst="upArrow">
              <a:avLst>
                <a:gd name="adj1" fmla="val 50000"/>
                <a:gd name="adj2" fmla="val 94902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156360" y="573408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BCC es muy importante para m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64360" y="450864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r lo menos posible. Causa menos p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62560" y="3141720"/>
            <a:ext cx="28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Hay que preocuparse del aire.  Tengo que hacer mi aporte. Todos debiéramos procupa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6000" y="170028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ento que es un problema ético. Todos tenemos una obligación de no contaminar por la futuras gen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84720" y="47628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e hace sentir bien!!. Soy más fel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292720" y="764640"/>
            <a:ext cx="719280" cy="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292360" y="2276640"/>
            <a:ext cx="431640" cy="7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363640" y="3573360"/>
            <a:ext cx="863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435640" y="4868640"/>
            <a:ext cx="79200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508720" y="609300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643040" y="115920"/>
            <a:ext cx="58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jemplo de Laddering: Buscar información en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163440" y="4289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sla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120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36360" y="3281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920" y="58737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23640" y="762120"/>
            <a:ext cx="8477640" cy="5563080"/>
            <a:chOff x="323640" y="762120"/>
            <a:chExt cx="8477640" cy="5563080"/>
          </a:xfrm>
        </p:grpSpPr>
        <p:sp>
          <p:nvSpPr>
            <p:cNvPr id="222" name=""/>
            <p:cNvSpPr/>
            <p:nvPr/>
          </p:nvSpPr>
          <p:spPr>
            <a:xfrm>
              <a:off x="423216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óm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12000" y="4100400"/>
              <a:ext cx="99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Puedo hacer más cosas / activida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70600" y="5332320"/>
              <a:ext cx="117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horro tiem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53440" y="5297400"/>
              <a:ext cx="1224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btengo mayores conocimien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443640" y="22744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12000" y="270684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oy más competi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48400" y="3676680"/>
              <a:ext cx="1300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btengo mejores trabaj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8101080" y="493704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53440" y="4495680"/>
              <a:ext cx="129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Tomo mejores decisio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70600" y="198612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tosuficie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8101080" y="41446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78200" y="2903400"/>
              <a:ext cx="1008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Tener tema de convers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62200" y="1968480"/>
              <a:ext cx="11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y interesa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6473520" y="3209400"/>
              <a:ext cx="428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38560" y="3336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43280" y="76212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toesti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6984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Varie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00360" y="60181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conóm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036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áp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0564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nt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33480" y="453240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tisfacer curiosidad e inquietu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56000" y="4505400"/>
              <a:ext cx="99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o me tengo que traslad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00360" y="5370480"/>
              <a:ext cx="129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ás barato que la forma tradic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1906560" y="5082840"/>
              <a:ext cx="14292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878360" y="50101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82920" y="3929040"/>
              <a:ext cx="129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ácti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338560" y="4245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378240" y="5729040"/>
              <a:ext cx="3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30600" y="4613400"/>
              <a:ext cx="129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nformación gratui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38560" y="26888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4500360" y="3641760"/>
              <a:ext cx="215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35280" y="32814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antienes archivos electrónic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378240" y="50814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492360" y="36417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640" y="76212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alu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29240" y="76212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ibert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86680" y="762120"/>
              <a:ext cx="136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utorealizació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4649760"/>
              <a:ext cx="99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traerse, Entretene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2560" y="5261040"/>
              <a:ext cx="180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nocer culturas, lugares, cosas interesan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1114200" y="50101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332000" y="4578120"/>
              <a:ext cx="14436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4560" y="428940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Relaja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323640" y="457812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0200" y="29941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quilid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900000" y="1120680"/>
              <a:ext cx="21600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62200" y="2400480"/>
              <a:ext cx="11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ulto/Segu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8000" y="1452600"/>
              <a:ext cx="115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ena imag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338560" y="22572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067280" y="2777760"/>
              <a:ext cx="219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771640" y="112032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1546200" y="572904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859280" y="572904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30600" y="3929040"/>
              <a:ext cx="115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o tienes que imprim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6156360" y="1120680"/>
              <a:ext cx="216000" cy="86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8101080" y="328104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8123400" y="572904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11640" y="5189400"/>
              <a:ext cx="129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igo todo en un solo lug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0200" y="360504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nos str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898560" y="32814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3840" y="241776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90560" y="3668760"/>
              <a:ext cx="12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prender /Enriquecimiento intelectu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34468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oy más organiz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541920" y="5729040"/>
              <a:ext cx="3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96360" y="2128680"/>
              <a:ext cx="99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recimiento pers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51640" y="2768760"/>
              <a:ext cx="1295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conocimiento profes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7884720" y="1120680"/>
              <a:ext cx="14292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35280" y="158904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entirme bi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4087800" y="20574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3800520" y="1120320"/>
              <a:ext cx="21600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8101080" y="25653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378240" y="443376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930920" y="42894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898560" y="27046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482920" y="1697040"/>
              <a:ext cx="1429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516720" y="4721040"/>
              <a:ext cx="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08720" y="5370480"/>
              <a:ext cx="43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24360" y="565776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16000" y="4002120"/>
              <a:ext cx="216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324000" y="4002120"/>
              <a:ext cx="287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6442200"/>
            <a:ext cx="49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Ejemplo de Larián Hernández, IESA , Venezu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85800"/>
            <a:ext cx="8077320" cy="58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RTAMIENTO DEL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UNAS ACLARACIONES INICI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¿CONSUMIDOR Ó COMPR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ADO A ESTUDIO DE ACCIONES OBSERV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O AUMENTAR EL AMBITO DE OBSERV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762120"/>
            <a:ext cx="76197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USQUEDA DE INFOR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ciente en 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sgo Per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PERCEPCIONES y su MEDI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Introduc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Las Percepciones es un elemento fundamental en toda Teoría de Comportamien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Existe consenso en que la información que recibimos a través de los sentidos es Procesada y “vista” por el cerebro junto a otros estímulos paralelos y a la información existente que el cerebro en alguna forma estima relevan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Ejempl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227664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ahoma"/>
              </a:rPr>
              <a:t>Percepción de Ol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Las Percepciones dependen del del contexto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950760" y="2165400"/>
            <a:ext cx="6435720" cy="3193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258920" y="609300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ugelski and Alampay (196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681200" y="2147760"/>
            <a:ext cx="5506920" cy="34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11280" y="907920"/>
            <a:ext cx="784836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 formación de Percepciones depende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contex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formación Compleme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formación Existente a nivel Conoci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periencia Prev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pacidad de Relacionar con otras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peri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Objetivo de los Estudios de percepcione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Las empresas quieren estudiar como son percibidas sus marcas y las de la competencia en un cierto mercado obje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Las empresas quieren saber cómo modificar o reforzar esas percepciones a través de sus productos y comunicaci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Atribu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Representamos las percepciones a través de descripciones en base a atribut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Describir un objeto es una actividad de descomposición. Para hacerlo se describen propiedades del objeto en distintas facetas (atribut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Estudio de las Percep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uando estudiamos percepciones quere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Conocer los atributos que usa un mercado objetivo para formar sus percepciones respecto a un objeto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Conocer el posicionamiento relativo de distintos objetos en estos atributos (como son percibidos los objetos en estas dimensiones perceptuales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685800"/>
            <a:ext cx="830556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TEORIAS CON INFLUENCIA EN LA COMPRENSION DEL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TEORIAS MOTIV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Clásica .  “Determinis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TEORIAS DE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os estímulos y el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TEORIA SICOANALI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a “restricción”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l EGO y el Súper 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MODELO GESTAL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ia de la 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otiva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tos atributos requerimos para describir un modelo de aut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Al momento de comprar evaluamos efectivamente todos los atributo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tas variables podemos manejar en nuestras mentes para evaluar una decisión de compr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Dimensiones perceptual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uando evaluamos una marca, en general manejamos un conjunto reducido de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factore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para caracterizarl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os factores de decisión no siempre son observables directamente, pero se manifiestan en elementos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observable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n este caso decimos que un factor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atente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gatilla el comportamiento sobre variables observab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838080" y="838080"/>
            <a:ext cx="769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ERCEP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cibimos en Base a Conc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o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típ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o/B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ácil de u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533520" y="685800"/>
            <a:ext cx="76960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O DE PERCEP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PERCEP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DE 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83808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2666880" y="4267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8120" y="380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0060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055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3505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0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838080"/>
            <a:ext cx="74674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ercepciones existen en el mercado de los Jóvenes sobre distintas marcas de Jea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Cuáles son los Atribu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Qué posición tiene cada marca en cada atribu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atributo interesa sólo si permite discriminar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FOCUS GROUP  (Estudio Cualitativo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de Personas: Seis ( 3 hombres y 3 mujere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ades: Entre 20 y 25 añ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ión: Estudiantes o en busca de trabajo por primera vez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usar Jeans yo me fijo si voy a salir o trabaja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van con un estándar de vida, con tu edad. Son para la gente jove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compraba Jeans de 4000 y después me di cuenta que no me duraba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interesa que conserven el color y la form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guío más por el model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uso Jeans porque son más cómod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on harto tiempo de uso, cuando ya son mis regalon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porque no es necesario plancharl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poco se nota cuando los Jeans están suci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son para toda edad.” “Dependiendo de la edad es cómo se usan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arreteados, desteñid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mente uso con cierre, me gustaría probar uno con botones” “Me gustan a la cadera porque me hacen ver más grande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762120"/>
            <a:ext cx="83055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IVAC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Predisposición general y básica que dirige el comportamiento hacia la obtención de lo que se desea (meta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IVO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ECESIDAD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H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CEPC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Proceso de selección, organización e integración de los estímulos sensoriales recibidos a través de los sen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 más ricos los Jeans con tela liviana, no tiesa ni grues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ando compro me fijo que estén bien hechos, buen cort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o cualquiera sin fijarme la marc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acostumbré a una marca y modelo y no busco otr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me interesan los colores de moda, yo siempre uso azu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Jean se va acomodando a tu cuerpo. Uno se acostumbra a é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 que me queden larg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yoría tiene poca variedad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suav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los Jeans que me gustan son caros y no tengo dinero me aguant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de marca tienen mejores colores.” “Hay de varios colores: blancos, celestes, azules, negros, rojos, etc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 importante es como se ajustan al cuerp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rcas Nombrad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is, Wrangler, Ellus, Calvin Klein, Parada 111, Mossimo, Umbrale, Ricciardi, Barbados, Lee, Cheldiz, Americanino, Diesel, Soviet, Yes, Benetton, Van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NCUEST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rtir de los juicios encontrados se confeccionó una encuesta. (Fue aplicada a un total de 56 jóvenes de entre 20 y 30 añ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1: Eda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2: Sex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3: ¿ A que te dedicas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4: ¿Cuántos Jeans has comprado en el último año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5: ¿Tu compras tus jeans o lo hace alguien por tí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6: ¿Que marcas conoces? (Nombra 4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533520" y="380880"/>
            <a:ext cx="8229600" cy="55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 7: “Los Jeans de esta marca son cómo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 8: “Siempre encuentro mi talla en esta marc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 9: “Los Jeans de esta marca se desgastan rápi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0: “Estos Jeans son para Jóven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1: “Estos Jeans son car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2: “Tienen diversos model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3: “Se arrugan fácilmente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4: “Son aperra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5: “Tienen modelos clásic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6: “Esta marca tiene poca variedad de color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7: “Me los pongo para toda ocasión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8: “Se ajustan a mi cuer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9: “Se destiñen poc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0: “Siempre tienen modelos a la mod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1: “La tela es buen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2: “Conservan su forma con el tiem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3: “Estos jeans son livian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4: “Me veo bien con estos Jean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Los Jeans de esta marca son cómodos”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89856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28600" y="1752480"/>
          <a:ext cx="868680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0" y="0"/>
          <a:ext cx="9144000" cy="618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380880"/>
          <a:ext cx="91440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1600200" y="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PERFIL SEMAN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ÉTODO DE PROCESAMIENTO Y ANÁLISIS DE LA INFORMA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método seleccionado es el análisis de facto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da en el software estadístico SP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ción obtenida rotada para simplificar la interpretación de la matriz de “factor loading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04920" y="304920"/>
            <a:ext cx="84582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.F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permite una explicación más simple de una descripción multi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o, por ejempl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sando sólo dimensiones ortog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n menos 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bvi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explicaciones reducidas son menos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pletas pero más si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76212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CTITUD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Predisposición aprendida para responder consistentemente de modo favorable o desfavorable a un objeto. Esta constituida por tres 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creencias (C. Cognosci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aloración (C. Afe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endencia a actuar (C. A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reencia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ción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p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dec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cc"/>
                </a:solidFill>
                <a:latin typeface="Comic Sans MS"/>
              </a:rPr>
              <a:t>Eje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04920" y="1447920"/>
          <a:ext cx="434340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4343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 flipH="1">
            <a:off x="990360" y="1828800"/>
            <a:ext cx="342900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90720" y="251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.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 A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09680" y="3200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900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It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410080" y="4267080"/>
          <a:ext cx="3048120" cy="146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267080"/>
                    <a:ext cx="30481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762120" y="396252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     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1523880"/>
            <a:ext cx="304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5105160" y="274320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5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cc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848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059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05520" y="28195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st.Central   DII         P.Armas   P.Ita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523880" y="1447920"/>
            <a:ext cx="609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Nótese que un plano es una reducción para las distancias en algunas ciu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39152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990720" y="152280"/>
            <a:ext cx="655308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temáticamente, se trat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n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antiguo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lano de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plano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uevo de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e llaman FACTOR LOADINGS, y corresponden a la correlación entre la pregunta y el F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255760" y="685800"/>
                <a:ext cx="4907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1211400" y="2362320"/>
                <a:ext cx="10839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211400" y="3352680"/>
                <a:ext cx="10839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981080" y="5181480"/>
                <a:ext cx="6397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267080" y="2666880"/>
                <a:ext cx="20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572000" y="3962520"/>
                <a:ext cx="301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173320" y="1219320"/>
                <a:ext cx="34257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165320" y="2362320"/>
                <a:ext cx="11746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166760" y="3352680"/>
                <a:ext cx="1171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968040" y="117360"/>
            <a:ext cx="68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emos “reducir” promediando para todos l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10880" y="251460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ta promedio de la marca j en ele juicio 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20160" y="331776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sición Promedio de la Marca j en la dimensió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104840" y="1066680"/>
            <a:ext cx="693432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pregunta que se hace el investigador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¿cuántos factores retene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norma usual es  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igen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Éste está muy relacionado con 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“PORCENTAJE DE VARIANZA EXPLICAD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867280" y="2666880"/>
                <a:ext cx="9144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457200" y="609480"/>
          <a:ext cx="83818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81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914400" y="762120"/>
          <a:ext cx="716292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16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228600" y="0"/>
          <a:ext cx="85345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5345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 partir de estos atributos nombramos las dimensiones de la siguiente forma: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4: Me veo bien con estos Je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8: Siempre encuentro mi ta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7: Jeans Cómo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8: Se ajustan a mi cuer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4495680"/>
            <a:ext cx="6400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200400"/>
            <a:ext cx="990720" cy="27432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8098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200400"/>
            <a:ext cx="8384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971800" y="1371600"/>
            <a:ext cx="5181480" cy="4572000"/>
            <a:chOff x="2971800" y="1371600"/>
            <a:chExt cx="5181480" cy="4572000"/>
          </a:xfrm>
        </p:grpSpPr>
        <p:sp>
          <p:nvSpPr>
            <p:cNvPr id="63" name=""/>
            <p:cNvSpPr/>
            <p:nvPr/>
          </p:nvSpPr>
          <p:spPr>
            <a:xfrm>
              <a:off x="2971800" y="137160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NECES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1800" y="228600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BUSQUEDA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NFORMAC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27672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FORMAC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ERCEPCI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71800" y="426708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EFERENC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71800" y="525780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ECI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62560" y="2438280"/>
              <a:ext cx="990720" cy="34290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5000" y="5638680"/>
              <a:ext cx="1447560" cy="18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3400" y="4952880"/>
              <a:ext cx="1440" cy="304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5714640" y="3657600"/>
              <a:ext cx="1447560" cy="14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5714640" y="4648320"/>
              <a:ext cx="1447560" cy="14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714640" y="2743200"/>
              <a:ext cx="1447560" cy="14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64" idx="2"/>
              <a:endCxn id="65" idx="0"/>
            </p:cNvCxnSpPr>
            <p:nvPr/>
          </p:nvCxnSpPr>
          <p:spPr>
            <a:xfrm>
              <a:off x="4343040" y="2971440"/>
              <a:ext cx="1080" cy="30564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75" name=""/>
            <p:cNvCxnSpPr>
              <a:stCxn id="63" idx="2"/>
              <a:endCxn id="64" idx="0"/>
            </p:cNvCxnSpPr>
            <p:nvPr/>
          </p:nvCxnSpPr>
          <p:spPr>
            <a:xfrm>
              <a:off x="4343040" y="2057040"/>
              <a:ext cx="1080" cy="22932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76" name=""/>
            <p:cNvCxnSpPr>
              <a:stCxn id="65" idx="2"/>
              <a:endCxn id="66" idx="0"/>
            </p:cNvCxnSpPr>
            <p:nvPr/>
          </p:nvCxnSpPr>
          <p:spPr>
            <a:xfrm>
              <a:off x="4343040" y="3962520"/>
              <a:ext cx="1080" cy="305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77" name=""/>
          <p:cNvSpPr txBox="1"/>
          <p:nvPr/>
        </p:nvSpPr>
        <p:spPr>
          <a:xfrm>
            <a:off x="1219320" y="457200"/>
            <a:ext cx="6162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roceso de Decisión de Compra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1: Estos Jeans son ca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0 Siempre tienen modelos a la mo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0: Estos Jeans son para Jóven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82880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QUILL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2971800"/>
            <a:ext cx="830592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5: Tienen modelos cl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4: Son aper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1: La tela es bu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7: Me los pongo para toda oca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4876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13: Se arrugan fácil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9: Se desgastan ráp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22: Conservan su forma con el ti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1905120"/>
            <a:ext cx="8610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2895480"/>
            <a:ext cx="8534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6: Tienen poca variedad de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3809880"/>
            <a:ext cx="8077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49528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Se excluyeron las preguntas 12, 19 y 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PA PERCEPTUAL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base a las dimensiones encontradas, y empleando los “factor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cor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, se determina el posicionamiento de las marcas más mencionadas en las distintas dimensiones, para proceder luego a representarlos gráfica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611280" y="298440"/>
          <a:ext cx="6553080" cy="50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98440"/>
                    <a:ext cx="655308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"/>
          <p:cNvGraphicFramePr/>
          <p:nvPr/>
        </p:nvGraphicFramePr>
        <p:xfrm>
          <a:off x="0" y="2286000"/>
          <a:ext cx="914400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838080" y="6094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romedio de las marcas en cada pregu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609480" y="2057400"/>
          <a:ext cx="708660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70866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838080" y="45720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ordenadas de las marcas en dos dim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91440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7432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38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52880" y="1981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56272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2920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629400" y="3429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457200" y="152280"/>
          <a:ext cx="82296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8229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2743200" y="3352680"/>
            <a:ext cx="12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82320" y="4076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024080" y="36957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42840" y="1790640"/>
            <a:ext cx="6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53040" y="27050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00960" y="201924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15360" y="1028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228600" y="228600"/>
          <a:ext cx="85345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5345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2819520" y="609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6232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28800" y="3344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29000" y="274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10080" y="3200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029200" y="41911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99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ulti </a:t>
            </a: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imensional </a:t>
            </a: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a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81080" y="2286000"/>
            <a:ext cx="6629400" cy="426708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2286000"/>
            <a:ext cx="0" cy="4267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4495680"/>
            <a:ext cx="66294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59800" y="160020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Alt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0200" y="160020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Baj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93960" y="2022480"/>
            <a:ext cx="20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e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720" y="4495680"/>
            <a:ext cx="19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e Marca p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0120" y="2286000"/>
            <a:ext cx="32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ercepción- Preferen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4600" y="2286000"/>
            <a:ext cx="290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ercepción- Decis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7880" y="4495680"/>
            <a:ext cx="282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ecisión-Percepc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4572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3200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32004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54100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4100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17160" y="3317760"/>
            <a:ext cx="26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jo o de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3520" y="324180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úsqueda de 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3809880"/>
            <a:ext cx="2666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705720" y="365724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809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53280" y="3809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42680" y="392436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 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43560" y="39625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rimen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40840" y="560376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de dison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6019920"/>
            <a:ext cx="2819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010280" y="58672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60199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60199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0720" y="55832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er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419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61760" y="601992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ción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4920" y="6019920"/>
            <a:ext cx="8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u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762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ación del Proceso  de Decisión de Comp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0" y="1890720"/>
          <a:ext cx="8915400" cy="24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720"/>
                    <a:ext cx="891540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1905120" y="7621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ancia en un Mapa entre ciudades de Sud América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46680" y="9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479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das con reg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"/>
          <p:cNvGraphicFramePr/>
          <p:nvPr/>
        </p:nvGraphicFramePr>
        <p:xfrm>
          <a:off x="1219320" y="0"/>
          <a:ext cx="6400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6400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 flipV="1">
            <a:off x="2819520" y="4800600"/>
            <a:ext cx="8380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657600" y="419076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4952880" y="2666880"/>
            <a:ext cx="4572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428640" y="1447920"/>
            <a:ext cx="19810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19520" y="46479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819520" y="3581280"/>
            <a:ext cx="759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2514600" y="30477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438280" y="20574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819520" y="13712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1371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9" name=""/>
          <p:cNvGraphicFramePr/>
          <p:nvPr/>
        </p:nvGraphicFramePr>
        <p:xfrm>
          <a:off x="0" y="2286000"/>
          <a:ext cx="9144000" cy="203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1752480" y="9144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ias subjetivas  entre ciudad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38280" y="5410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das en una escala de 1 a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 flipV="1">
            <a:off x="4038480" y="41148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94360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248520" y="2895480"/>
            <a:ext cx="609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5029200" y="19810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4114800" y="18284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3733920" y="1828800"/>
            <a:ext cx="3808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3276720" y="3048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3657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3352680" y="365760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44197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DS (1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486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pongamos que conocemos el numer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dimensiones que permiten explicar las percepcion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siderem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stancia psicológica entre cada par de objeto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osición del objet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la dimens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unción de tensión (stress) por ubicar los objetos en determinadas posiciones 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uscamos minimizar la función de Stre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900000" y="4797360"/>
          <a:ext cx="6129360" cy="13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797360"/>
                    <a:ext cx="612936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DS (2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265400"/>
            <a:ext cx="7772400" cy="43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specto al número de dimensione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fuera variable de decisión, el numero de dimensiones sería igual al numero de objetos y el stress nul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Una dimensión mayor entrega mejores ajustes de las distancias a los datos de entrada, pero menos parsimonia (trade off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comendaciones genera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Numero de objetos ≥ 4K+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robar para varios valores de K y analizar el stres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=0.1 suele ser un valor razon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da uno de los mapas puede rotado y reflejado arbitrariamente para facilitar la interpretación de los resultados y darle significado a las dimensiones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DS (3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istancia en el hiperplano puede ser Euclida, pero tambien city block o cualquier otr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escala de las distancias de entrada puede ser de Intervalos, de razón u  ordinal. Los algoritmos son distinto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de los mapas puede ser  rotado y reflejado arbitrariamente para facilitar la interpretación de los resultados y darle significado a las dimensi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SUPERMERC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ercepciones de dueñas de casa en un        sector de Vitac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écnica: Análisis Multidiscrimina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685800"/>
            <a:ext cx="7010280" cy="49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VESTIGACION DE LAS NECES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gen de las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Wal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Detergentes con O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Caso Córp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Caso L'e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19080" y="0"/>
            <a:ext cx="9124920" cy="5943600"/>
            <a:chOff x="19080" y="0"/>
            <a:chExt cx="9124920" cy="5943600"/>
          </a:xfrm>
        </p:grpSpPr>
        <p:sp>
          <p:nvSpPr>
            <p:cNvPr id="507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06280" y="201240"/>
              <a:ext cx="4578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mic Sans MS"/>
                </a:rPr>
                <a:t>Funciones discriminantes canóni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276560" y="55558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7676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288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3812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27672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2287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811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6200000">
              <a:off x="290520" y="5172480"/>
              <a:ext cx="36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47600" y="650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47600" y="1690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47600" y="2746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71640" y="38012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71640" y="47628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781680" y="310356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19840" y="35694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19840" y="3987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19840" y="4407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19840" y="48265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86640" y="2622240"/>
              <a:ext cx="217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SUPERMERC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68240" y="3071520"/>
              <a:ext cx="183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entroides de gru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66440" y="3506400"/>
              <a:ext cx="57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66440" y="392544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68600" y="434520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67520" y="476280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22"/>
                  </a:lnTo>
                  <a:lnTo>
                    <a:pt x="36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3300" y="3060"/>
                  </a:moveTo>
                  <a:lnTo>
                    <a:pt x="0" y="0"/>
                  </a:lnTo>
                  <a:lnTo>
                    <a:pt x="0" y="3060"/>
                  </a:lnTo>
                  <a:lnTo>
                    <a:pt x="3300" y="3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0" y="0"/>
                  </a:moveTo>
                  <a:lnTo>
                    <a:pt x="3300" y="0"/>
                  </a:lnTo>
                  <a:lnTo>
                    <a:pt x="3300" y="30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95280" y="759960"/>
              <a:ext cx="5239080" cy="4221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57560" y="25146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81480" y="246744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90840" y="28872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38760" y="3366720"/>
              <a:ext cx="15228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43360" y="217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242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90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0006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6712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33880" y="2669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09920" y="1861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95680" y="15667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1948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48040" y="20016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76960" y="170748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292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8128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33880" y="262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33880" y="29325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61944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48360" y="29019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1964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7668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24400" y="24523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48280" y="20800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191120" y="27464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705560" y="26067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0064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362480" y="277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848040" y="2498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7624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57600" y="2559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29240" y="27630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29280" y="30261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33920" y="288720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91120" y="23587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00600" y="2266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067360" y="2420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67400" y="16758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43360" y="22964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7228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695920" y="28702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67080" y="8218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10360" y="28249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0548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695920" y="2715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638680" y="15213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15080" y="15984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19960" y="249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86480" y="22964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19640" y="3073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05440" y="33987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9132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05520" y="2373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76920" y="25293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62760" y="27777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1964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38760" y="2591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200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86480" y="299448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38720" y="2373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48240" y="28400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5292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457880" y="2094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10080" y="3336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00560" y="2358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05520" y="204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57680" y="259164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28960" y="31971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80044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58128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6228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24080" y="23904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714840" y="3011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576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14880" y="280836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48040" y="2963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133880" y="3274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86200" y="3165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67120" y="37242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095720" y="34909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571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10000" y="30412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09920" y="2436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24320" y="2467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14880" y="35380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86712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00640" y="1737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6766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57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914560" y="37710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19760" y="276300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62520" y="18151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43400" y="1645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93364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6688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87676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409920" y="2125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90840" y="3366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31352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0060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200560" y="40662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6276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7692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76920" y="2824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76244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76960" y="3180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4828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381560" y="3118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200560" y="29793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62480" y="36151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934160" y="36622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581800" y="3615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1972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238720" y="3693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76840" y="35380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915080" y="28551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62720" y="32745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353200" y="30880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19680" y="391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19680" y="26067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43440" y="30412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53200" y="3522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052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10160" y="31035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38760" y="29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38800" y="24206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95760" y="47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43640" y="3972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362480" y="45626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2924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3872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295280" y="4980960"/>
              <a:ext cx="5239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295280" y="759600"/>
              <a:ext cx="1800" cy="422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48040" y="2279880"/>
              <a:ext cx="61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972320" y="223452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8840" y="2669040"/>
              <a:ext cx="90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48680" y="3133800"/>
              <a:ext cx="66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3809880" y="53341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E R V I C I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7200" y="1066680"/>
            <a:ext cx="5335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9" name=""/>
          <p:cNvGraphicFramePr/>
          <p:nvPr/>
        </p:nvGraphicFramePr>
        <p:xfrm>
          <a:off x="304920" y="-304920"/>
          <a:ext cx="85341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-304920"/>
                    <a:ext cx="85341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1" name=""/>
          <p:cNvSpPr/>
          <p:nvPr/>
        </p:nvSpPr>
        <p:spPr>
          <a:xfrm>
            <a:off x="4267080" y="4952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44792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5780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14600" y="1600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791320" y="5638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1295280"/>
            <a:ext cx="60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EDICIÓN DE PREFERENCIA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FERENCI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eferencia se modela como una función matemática multiatribut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 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...........,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forma más usada es la llama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omic Sans MS"/>
              </a:rPr>
              <a:t>FUNCIÓN DE VALOR PARCIA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FERENCI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Función de valor parc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</a:t>
            </a: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jk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ij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,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q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ij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 si el atributo j está presente al nivel k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producto 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 en caso contrari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</a:rPr>
              <a:t>jk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portancia relativa del nivel k del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ibuto 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jemplos de Atributos y Nivel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23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80880" y="0"/>
            <a:ext cx="807732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990033"/>
                </a:solidFill>
                <a:latin typeface="Comic Sans MS"/>
              </a:rPr>
              <a:t>100 w        500 w       1000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57200" y="1447920"/>
            <a:ext cx="79246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ongamos que mi “utilidad” o “preferencia” por tener 500 w en lugar de 100 w e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supongamos que mi utilidad por tener 1000 w en lugar de 100 es 4 entonces mi función de utilidad parcial respecto a la potenci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819520" y="3505320"/>
          <a:ext cx="3124080" cy="228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505320"/>
                    <a:ext cx="3124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228600" y="990720"/>
          <a:ext cx="853452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"/>
          <p:cNvSpPr/>
          <p:nvPr/>
        </p:nvSpPr>
        <p:spPr>
          <a:xfrm>
            <a:off x="457200" y="380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ión de Utilidad Parcial por el Atributo “Potenc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762120"/>
            <a:ext cx="9144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m. RAM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Veloc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Conf.Marca       Prec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1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339933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" y="4572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380880"/>
            <a:ext cx="609480" cy="0"/>
          </a:xfrm>
          <a:prstGeom prst="line">
            <a:avLst/>
          </a:prstGeom>
          <a:ln w="763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733920" y="3808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0" y="380880"/>
            <a:ext cx="60948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228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495680" y="228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efer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467480" y="228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2819520"/>
            <a:ext cx="8610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so entr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4952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 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3434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mp. Relativ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1/3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¼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¼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      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8600" y="6172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990033"/>
                </a:solidFill>
                <a:latin typeface="Times New Roman"/>
              </a:rPr>
              <a:t>C1= 17,</a:t>
            </a:r>
            <a:r>
              <a:rPr b="0" lang="es-E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990033"/>
                </a:solidFill>
                <a:latin typeface="Times New Roman"/>
              </a:rPr>
              <a:t> C2=11, </a:t>
            </a:r>
            <a:r>
              <a:rPr b="0" lang="es-E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990033"/>
                </a:solidFill>
                <a:latin typeface="Times New Roman"/>
              </a:rPr>
              <a:t>C3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0" y="304920"/>
          <a:ext cx="91440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Los consumidores tienes NECESIDADES que deben satisfacer a través de sus compr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stán las Necesidades básic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Alimentars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Vestir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Transportars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Medicarse……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685800" y="30492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estimación de estas funciones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0" y="0"/>
            <a:ext cx="876312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sujeto recibe un conjunto de PERFILES que debe evaluar en alguna escala, muchas veces RANK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jemplo de Per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A       300 MHZ,  256 Mb RAM, $750.000, Marca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B       600 MHZ,  128 Mb RAM, $545.000, Marca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C        450 MHZ, 128 Mb RAM, $490.000, Marca 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utador D        700MHZ,  64 Mb RAM,   $510.000, 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Valor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108080" y="2217600"/>
            <a:ext cx="686268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4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comprar el comprador siempre tiene la expectativa de aumentar su bienestar, es decir , la compra le genera expectativas de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L VALOR PARA EL CONSUMIDOR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820800" y="1676520"/>
            <a:ext cx="750096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Valor proviene de beneficios y cos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tisfacción de una Neces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“gusto” de comp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“costo” de comprar (tiempo,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8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costo de cambia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3240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L VALOR PARA EL CONSUMIDOR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676520"/>
            <a:ext cx="7500960" cy="44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lvl="2" marL="1187280" indent="-323640">
              <a:lnSpc>
                <a:spcPct val="130000"/>
              </a:lnSpc>
              <a:spcAft>
                <a:spcPts val="1500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idea es que el consumidor se decidirá por la alternativa que le de más VAL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130000"/>
              </a:lnSpc>
              <a:spcAft>
                <a:spcPts val="1500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alternativa de referencia es siempre NO HACER NADA. Esta tiene Valor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323640">
              <a:lnSpc>
                <a:spcPct val="130000"/>
              </a:lnSpc>
              <a:spcAft>
                <a:spcPts val="1500"/>
              </a:spcAft>
              <a:buClr>
                <a:srgbClr val="000000"/>
              </a:buClr>
              <a:buFont typeface="Comic Sans MS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onces, la Voluntad a Pagar, la Sensibilidad al precio, dependen del Valor que le da cada altern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324000">
              <a:lnSpc>
                <a:spcPct val="130000"/>
              </a:lnSpc>
              <a:spcAft>
                <a:spcPts val="1500"/>
              </a:spcAft>
              <a:buClr>
                <a:srgbClr val="000000"/>
              </a:buClr>
              <a:buFont typeface="Comic Sans MS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L VALOR PARA EL CONSUMIDOR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939960" y="1643040"/>
            <a:ext cx="686412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18000" bIns="18000" anchor="t">
            <a:spAutoFit/>
          </a:bodyPr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decir, no sólo podemos actuar sobre el precio, pero también debemos buscar formas que aumenten la percepción de valor  que nuestro producto/servicio le da al comp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aqui donde técnicas como Análisis Conjunto proveen de importante in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L VALOR PARA EL CONSUMIDOR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8276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ASO ISPE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>
            <a:off x="752400" y="1676520"/>
            <a:ext cx="83916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BJETIVOS DEL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Isapre cerrada ISPEN quería encontrar un nuevo plan de atención para sus usuarios ya que, con el actual,  se le producían excedentes y no usaba los aportes a que ENDESA estaba comprometía con sus trabaj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8276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ASO ISPE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62" name=""/>
          <p:cNvSpPr/>
          <p:nvPr/>
        </p:nvSpPr>
        <p:spPr>
          <a:xfrm>
            <a:off x="649440" y="1498680"/>
            <a:ext cx="839124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metodología  de este estudio, consistió en determinar la función de utilidad de los afiliados  a ISPEN por seg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te sentido se encontraron planes óptimos, dadas las funciones de uti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.............</cp:lastModifiedBy>
  <cp:lastPrinted>2000-09-11T22:03:08Z</cp:lastPrinted>
  <dcterms:modified xsi:type="dcterms:W3CDTF">2006-08-22T16:02:14Z</dcterms:modified>
  <cp:revision>152</cp:revision>
  <dc:subject/>
  <dc:title>Sin título de diapositiva</dc:title>
</cp:coreProperties>
</file>