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Comic Sans MS"/>
              </a:rPr>
              <a:t>INTRODUCCIÓN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fesor: Máximo Bosch 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66680" y="838080"/>
            <a:ext cx="2895840" cy="114300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IFERENCI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USTOM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838080"/>
            <a:ext cx="2590560" cy="114300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4495680"/>
            <a:ext cx="1676160" cy="8384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4495680"/>
            <a:ext cx="1752840" cy="8384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4419720"/>
            <a:ext cx="1600200" cy="76176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152280"/>
            <a:ext cx="3733560" cy="685800"/>
          </a:xfrm>
          <a:custGeom>
            <a:avLst/>
            <a:gdLst>
              <a:gd name="textAreaLeft" fmla="*/ 653400 w 3733560"/>
              <a:gd name="textAreaRight" fmla="*/ 2706840 w 373356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133000" y="1981080"/>
            <a:ext cx="3733560" cy="1219320"/>
          </a:xfrm>
          <a:custGeom>
            <a:avLst/>
            <a:gdLst>
              <a:gd name="textAreaLeft" fmla="*/ 653040 w 3733560"/>
              <a:gd name="textAreaRight" fmla="*/ 2706480 w 373356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05920" y="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33520" y="320040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4191120"/>
            <a:ext cx="2133720" cy="30456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913680" y="5334120"/>
            <a:ext cx="2514600" cy="45720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4419720"/>
            <a:ext cx="1600200" cy="76176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4114800"/>
            <a:ext cx="2133720" cy="30492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333400" y="5181480"/>
            <a:ext cx="2514600" cy="45720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40384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68680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396252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403848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5867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58672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3581280"/>
            <a:ext cx="1523880" cy="3812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809160" y="5791320"/>
            <a:ext cx="1600200" cy="457200"/>
          </a:xfrm>
          <a:custGeom>
            <a:avLst/>
            <a:gdLst>
              <a:gd name="textAreaLeft" fmla="*/ -360 w 1600200"/>
              <a:gd name="textAreaRight" fmla="*/ 1600200 w 1600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3200400"/>
            <a:ext cx="485640" cy="838080"/>
          </a:xfrm>
          <a:prstGeom prst="upDownArrow">
            <a:avLst>
              <a:gd name="adj1" fmla="val 50000"/>
              <a:gd name="adj2" fmla="val 34355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3200400"/>
            <a:ext cx="486000" cy="762120"/>
          </a:xfrm>
          <a:prstGeom prst="upDownArrow">
            <a:avLst>
              <a:gd name="adj1" fmla="val 50000"/>
              <a:gd name="adj2" fmla="val 31218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66680" y="838080"/>
            <a:ext cx="2895840" cy="11430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IFERENCI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USTOM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838080"/>
            <a:ext cx="2590560" cy="11430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4495680"/>
            <a:ext cx="1676160" cy="8384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4495680"/>
            <a:ext cx="1752840" cy="8384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4419720"/>
            <a:ext cx="1600200" cy="76176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52280"/>
            <a:ext cx="3733560" cy="685800"/>
          </a:xfrm>
          <a:custGeom>
            <a:avLst/>
            <a:gdLst>
              <a:gd name="textAreaLeft" fmla="*/ 653400 w 3733560"/>
              <a:gd name="textAreaRight" fmla="*/ 2706840 w 373356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133000" y="1981080"/>
            <a:ext cx="3733560" cy="1219320"/>
          </a:xfrm>
          <a:custGeom>
            <a:avLst/>
            <a:gdLst>
              <a:gd name="textAreaLeft" fmla="*/ 653040 w 3733560"/>
              <a:gd name="textAreaRight" fmla="*/ 2706480 w 373356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05920" y="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33520" y="320040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4191120"/>
            <a:ext cx="2133720" cy="30456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913680" y="5334120"/>
            <a:ext cx="2514600" cy="45720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4419720"/>
            <a:ext cx="1600200" cy="76176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4114800"/>
            <a:ext cx="2133720" cy="30492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333400" y="5181480"/>
            <a:ext cx="2514600" cy="45720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40384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68680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396252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403848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5867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58672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3581280"/>
            <a:ext cx="1523880" cy="3812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3809160" y="5791320"/>
            <a:ext cx="1600200" cy="457200"/>
          </a:xfrm>
          <a:custGeom>
            <a:avLst/>
            <a:gdLst>
              <a:gd name="textAreaLeft" fmla="*/ -360 w 1600200"/>
              <a:gd name="textAreaRight" fmla="*/ 1600200 w 1600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3200400"/>
            <a:ext cx="485640" cy="838080"/>
          </a:xfrm>
          <a:prstGeom prst="upDownArrow">
            <a:avLst>
              <a:gd name="adj1" fmla="val 50000"/>
              <a:gd name="adj2" fmla="val 34355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3200400"/>
            <a:ext cx="486000" cy="762120"/>
          </a:xfrm>
          <a:prstGeom prst="upDownArrow">
            <a:avLst>
              <a:gd name="adj1" fmla="val 50000"/>
              <a:gd name="adj2" fmla="val 31218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CUSTOMIZA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923760"/>
            <a:ext cx="7239240" cy="57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iminación de Costos Fijos en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Fijos son todos aquellos que no dependen de mis ventas. Mejor aún, son todos aquellos costos  por los cuales  el cliente no está dispuesto a pa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eldos de gerentes, administrativ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m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 importante es que si yo Bajo los Costos Fijos, entonces puedo aumentar la  DIFERENCIACION o, si la Competencia me lo permite, BAJAR LOS PRE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1600" y="1600200"/>
            <a:ext cx="6858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tribución = (P - C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* Q  - C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CONTRIBUCIÓN DE UNA LÍNEA DE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1523880"/>
            <a:ext cx="381240" cy="762120"/>
          </a:xfrm>
          <a:prstGeom prst="upArrow">
            <a:avLst>
              <a:gd name="adj1" fmla="val 50000"/>
              <a:gd name="adj2" fmla="val 49976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0120" y="297180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13716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lang="es-ES_tradnl" sz="4000" spc="-1" strike="noStrike">
                <a:solidFill>
                  <a:srgbClr val="993366"/>
                </a:solidFill>
                <a:latin typeface="Rockwell Extra Bold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1680" y="312408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5050"/>
                </a:solidFill>
                <a:latin typeface="Times New Roman"/>
              </a:rPr>
              <a:t>  </a:t>
            </a:r>
            <a:r>
              <a:rPr b="1" lang="es-ES_tradnl" sz="4400" spc="-1" strike="noStrike">
                <a:solidFill>
                  <a:srgbClr val="993366"/>
                </a:solidFill>
                <a:latin typeface="Copperplate Gothic Bold"/>
              </a:rPr>
              <a:t>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2895480"/>
            <a:ext cx="304920" cy="99072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5000" y="3124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5050"/>
                </a:solidFill>
                <a:latin typeface="Times New Roman"/>
              </a:rPr>
              <a:t>  </a:t>
            </a:r>
            <a:r>
              <a:rPr b="1" lang="es-ES_tradnl" sz="4400" spc="-1" strike="noStrike">
                <a:solidFill>
                  <a:srgbClr val="993366"/>
                </a:solidFill>
                <a:latin typeface="Copperplate Gothic Bold"/>
              </a:rPr>
              <a:t>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95680"/>
            <a:ext cx="2286000" cy="82548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nor Costo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487692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4495680"/>
            <a:ext cx="1523880" cy="82548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nor 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87692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72200" y="4419720"/>
            <a:ext cx="2362320" cy="119124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yor Margen Promedio de todas las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23960" y="304920"/>
            <a:ext cx="7696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Veamos un ejemplo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Hoy</a:t>
            </a:r>
            <a:r>
              <a:rPr b="0" lang="es-CL" sz="2400" spc="-1" strike="noStrike">
                <a:solidFill>
                  <a:srgbClr val="cc0066"/>
                </a:solidFill>
                <a:latin typeface="Comic Sans MS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Contribución=  (10-8) *1.000.000-1.5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ontribución = 5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Mañana,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bajamos los costos fijos  a 900.000 y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mantenemos igual contribució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500.000 + 900.00  = 1.400.000 = (p - 8) *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Si p= 10  entonces podemos hacer Q = 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o si Q = 1.000.000  podemos bajar el precio a 9,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228600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BAJAR LOS COSTOS FIJOS NOS LLEVA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a) MENORES LOTES DE PRODUCC.  +  DIFERENCI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b) Y/O MENORES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Algunas Defini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CUSTOMIZA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447920"/>
            <a:ext cx="72388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iminación de Costos Fijos en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minución del tamaño del Lote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xtremo, Lotes de a 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o diseñar productos específicos para segmentos específicos sin aument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iferenciación es una de las  forma como las empresas “extraen el excedente del consumidor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CUSTOMIZA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2096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B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misas Van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CUSTOMIZA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447920"/>
            <a:ext cx="80010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tema central en la Customización es definir aquellos aspectos que serán estándar y aquellos que serán ad-hoc para cada cl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e es un tema muy relevante en la implantación de softwares de los llamados de “Clase Mundial”, a cad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ISCRIMINACIÓN DE CLIENT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1981080"/>
            <a:ext cx="72388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Clientes NO son todos Iguales. Hay unos que son más “rentables” que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sos: Cas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íneas Aé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Nueva C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90720" y="762120"/>
            <a:ext cx="7162560" cy="4876560"/>
          </a:xfrm>
          <a:prstGeom prst="rect">
            <a:avLst/>
          </a:pr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4343400"/>
            <a:ext cx="716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990720" y="762120"/>
            <a:ext cx="3581280" cy="48765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762120"/>
            <a:ext cx="3581280" cy="48765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3657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4876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5715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so Diet C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1371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ISCRIMINACIÓN DE CLIENT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1295280"/>
            <a:ext cx="72388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no son todos iguales, debiera “TRATARLOS” distintos.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ISCRI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4038480"/>
            <a:ext cx="1143000" cy="152640"/>
          </a:xfrm>
          <a:prstGeom prst="rightArrow">
            <a:avLst>
              <a:gd name="adj1" fmla="val 50000"/>
              <a:gd name="adj2" fmla="val 18720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ISCRIMINACIÓN DE CLIENT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1447920"/>
            <a:ext cx="7239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 se discrim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vicio/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mb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unicacion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sos: Cas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íneas Aé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Nueva Coke</a:t>
            </a: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066680" y="838080"/>
            <a:ext cx="2895840" cy="114300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IFERENCI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USTOM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838080"/>
            <a:ext cx="2590560" cy="114300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4495680"/>
            <a:ext cx="1676160" cy="83844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4495680"/>
            <a:ext cx="1752840" cy="83844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4419720"/>
            <a:ext cx="1600200" cy="76176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152280"/>
            <a:ext cx="3733560" cy="685800"/>
          </a:xfrm>
          <a:custGeom>
            <a:avLst/>
            <a:gdLst>
              <a:gd name="textAreaLeft" fmla="*/ 653400 w 3733560"/>
              <a:gd name="textAreaRight" fmla="*/ 2706840 w 373356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133000" y="1981080"/>
            <a:ext cx="3733560" cy="1219320"/>
          </a:xfrm>
          <a:custGeom>
            <a:avLst/>
            <a:gdLst>
              <a:gd name="textAreaLeft" fmla="*/ 653040 w 3733560"/>
              <a:gd name="textAreaRight" fmla="*/ 2706480 w 373356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05920" y="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33520" y="320040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4191120"/>
            <a:ext cx="2133720" cy="30456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913680" y="5334120"/>
            <a:ext cx="2514600" cy="45720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0" y="4419720"/>
            <a:ext cx="1600200" cy="76176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10080" y="4114800"/>
            <a:ext cx="2133720" cy="30492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333400" y="5181480"/>
            <a:ext cx="2514600" cy="45720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4340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40384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68680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396252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403848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5867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58672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1523880" cy="3812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3809160" y="5791320"/>
            <a:ext cx="1600200" cy="457200"/>
          </a:xfrm>
          <a:custGeom>
            <a:avLst/>
            <a:gdLst>
              <a:gd name="textAreaLeft" fmla="*/ -360 w 1600200"/>
              <a:gd name="textAreaRight" fmla="*/ 1600200 w 1600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3200400"/>
            <a:ext cx="485640" cy="838080"/>
          </a:xfrm>
          <a:prstGeom prst="upDownArrow">
            <a:avLst>
              <a:gd name="adj1" fmla="val 50000"/>
              <a:gd name="adj2" fmla="val 34355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200400"/>
            <a:ext cx="486000" cy="762120"/>
          </a:xfrm>
          <a:prstGeom prst="upDownArrow">
            <a:avLst>
              <a:gd name="adj1" fmla="val 50000"/>
              <a:gd name="adj2" fmla="val 31218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LEALTAD Y RENTABILIDAD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752480"/>
            <a:ext cx="762012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intuición siempre ha dictado que “es más económico retener un cliente, que captar uno nuev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trabajo más importante fue desarrollado por Reichheld y Sasser, publicado como “Zero defections: Quality comes to Services”, HBR,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066680" y="609480"/>
          <a:ext cx="701064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9480"/>
                    <a:ext cx="70106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457200" y="5638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uente: Reicheld y Sasser, “Zero Defections Come to Quality”, HBR, 19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EFINICIÓN DE MARKETING (AMA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rketing es el proceso de Planificación y Ejecución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Desarrollo de actividades de análisis,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planificación, organización, ejecución y control</a:t>
            </a:r>
            <a:r>
              <a:rPr b="0" i="1" lang="es-ES_tradnl" sz="28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e la concepción , fijación del precio, promoción 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istribución de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Los instrumentos de la estrategia comercial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ideas, bienes y servicios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productos” sobre los que cae la acción de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Marketing</a:t>
            </a:r>
            <a:r>
              <a:rPr b="0" i="1" lang="es-ES_tradnl" sz="25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para crear intercambios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Objeto del marketing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que satisfagan los objetivos de los individuos y de la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organizacione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Beneficios de doble sentido;satisfacción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mutua</a:t>
            </a:r>
            <a:r>
              <a:rPr b="0" lang="es-ES_tradnl" sz="25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533520" y="1981080"/>
            <a:ext cx="761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siguiente diapositiva es presentada por Reichheld y Sasser como una explicación basada en sus experiencias de porqué los clientes más antiguos son más rentables que los má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685800" y="304920"/>
          <a:ext cx="7924680" cy="5486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920"/>
                    <a:ext cx="79246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219320"/>
            <a:ext cx="77724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étodos que usan las empresas hoy para “FIDELIZAR” a sus cl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cuentos por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eneficios 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CALIDAD</a:t>
            </a: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752480"/>
            <a:ext cx="72392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 amplia evidencia que las Empresas que se asocian a CALIDAD son valoradas más que las o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am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228600" y="0"/>
          <a:ext cx="869616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6961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1905120" y="4343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54864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95288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495288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943600" y="4876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6408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66680" y="838080"/>
            <a:ext cx="2895840" cy="114300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IFERENCI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USTOM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838080"/>
            <a:ext cx="2590560" cy="114300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4495680"/>
            <a:ext cx="1676160" cy="8384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38280" y="4495680"/>
            <a:ext cx="1752840" cy="8384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4419720"/>
            <a:ext cx="1600200" cy="76176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152280"/>
            <a:ext cx="3733560" cy="685800"/>
          </a:xfrm>
          <a:custGeom>
            <a:avLst/>
            <a:gdLst>
              <a:gd name="textAreaLeft" fmla="*/ 653400 w 3733560"/>
              <a:gd name="textAreaRight" fmla="*/ 2706840 w 373356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133000" y="1981080"/>
            <a:ext cx="3733560" cy="1219320"/>
          </a:xfrm>
          <a:custGeom>
            <a:avLst/>
            <a:gdLst>
              <a:gd name="textAreaLeft" fmla="*/ 653040 w 3733560"/>
              <a:gd name="textAreaRight" fmla="*/ 2706480 w 373356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05920" y="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33520" y="320040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3000" y="4191120"/>
            <a:ext cx="2133720" cy="30456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913680" y="5334120"/>
            <a:ext cx="2514600" cy="45720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0" y="4419720"/>
            <a:ext cx="1600200" cy="76176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10080" y="4114800"/>
            <a:ext cx="2133720" cy="30492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333400" y="5181480"/>
            <a:ext cx="2514600" cy="45720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28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40384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68680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396252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48320" y="403848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5867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58672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3581280"/>
            <a:ext cx="1523880" cy="3812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3809160" y="5791320"/>
            <a:ext cx="1600200" cy="457200"/>
          </a:xfrm>
          <a:custGeom>
            <a:avLst/>
            <a:gdLst>
              <a:gd name="textAreaLeft" fmla="*/ -360 w 1600200"/>
              <a:gd name="textAreaRight" fmla="*/ 1600200 w 1600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3200400"/>
            <a:ext cx="485640" cy="838080"/>
          </a:xfrm>
          <a:prstGeom prst="upDownArrow">
            <a:avLst>
              <a:gd name="adj1" fmla="val 50000"/>
              <a:gd name="adj2" fmla="val 34355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38280" y="3200400"/>
            <a:ext cx="486000" cy="762120"/>
          </a:xfrm>
          <a:prstGeom prst="upDownArrow">
            <a:avLst>
              <a:gd name="adj1" fmla="val 50000"/>
              <a:gd name="adj2" fmla="val 31218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VALOR DEL ALCANCE / DE LA CAPTUR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914400" y="1981080"/>
            <a:ext cx="72388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lcanc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Cantidad de gente con la que tengo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ptur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Grado de lealtad de los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cance y Captura: Dos conceptos rela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VALOR DEL ALCANCE / DE LA CAPTUR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2438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so Canales Abiertos de T.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33526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¿Cuál es el Valor de Mercado de Falabel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42670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¿Qué es lo que se valora en un e-busin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VALOR DEL ALCANCE / DE LA CAPTUR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1523880"/>
            <a:ext cx="8686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forma más típica de captura es la Lealt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altad es central en todas las estrategias de las empresas por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ticipación de Mercado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ealtad* Penetración*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) Un cliente antiguo es más rentable que uno nue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VALOR DEL ALCANCE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905120" y="762120"/>
          <a:ext cx="4673520" cy="53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67352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6629400" y="40384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 TV abierta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5587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Marketing es el Centro de cualquier Negoc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ríamos decir que está a carg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5029200"/>
            <a:ext cx="7391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s preguntas son cada vez más importantes en cualquier 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057400"/>
            <a:ext cx="7239240" cy="268452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qué produc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a qué precio ven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cómo difund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cómo distribu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cómo ven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90720" y="1676520"/>
            <a:ext cx="69339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orqué la marca Marlboro vale 50 mil millones de US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4572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VALOR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VALOR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genera  valor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99880" y="0"/>
            <a:ext cx="8467920" cy="67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¿QUÉ ES EL VALOR DE MARCA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alor de Marca es un conjunto de Activos ligados al nombre o símbolo de una marca que agregan (o restan)  valor al producto o servicio entregado por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91320" y="3886200"/>
            <a:ext cx="75960" cy="609480"/>
          </a:xfrm>
          <a:custGeom>
            <a:avLst/>
            <a:gdLst>
              <a:gd name="textAreaLeft" fmla="*/ 0 w 75960"/>
              <a:gd name="textAreaRight" fmla="*/ 2736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24480" y="40384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3962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28800" y="990720"/>
            <a:ext cx="5181480" cy="990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RENCIACION/SEGMEN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3733920"/>
            <a:ext cx="2895840" cy="12189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CANCE/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3809880"/>
            <a:ext cx="2895480" cy="12193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/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285640" y="1981080"/>
            <a:ext cx="167652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33920" y="4419720"/>
            <a:ext cx="1676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3623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14800" y="44956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3600" y="1981080"/>
            <a:ext cx="914400" cy="1752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705720" y="22096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066680" y="914400"/>
            <a:ext cx="74678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HIPERSEGMENTACIÓN ATENTA CONTRA EL VALOR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RQUE EL VALOR DE MARCA REQUIERE 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VER HA ANUNCIADO QUE DISMINUIRÁ EL NÚMER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6680" y="685800"/>
            <a:ext cx="7010640" cy="27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OLUCIÓN ES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XTENSION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Controvertida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86200"/>
            <a:ext cx="281916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s Exten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3886200"/>
            <a:ext cx="281952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cepción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581280" y="4419720"/>
            <a:ext cx="1524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4114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066680" y="1371600"/>
            <a:ext cx="6096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omic Sans MS"/>
              </a:rPr>
              <a:t>En todas las Tendencias el impacto de las TECNOLOGIAS de INFORMACION y de COMUNICACIONES son centra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1752480"/>
            <a:ext cx="76197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El</a:t>
            </a:r>
            <a:r>
              <a:rPr b="0" lang="es-ES_tradnl" sz="32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ivel de desarrollo del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Marketing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n un Mercado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depende</a:t>
            </a:r>
            <a:r>
              <a:rPr b="0" lang="es-ES_tradnl" sz="32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fundamentalmente del grado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0" lang="es-ES_tradnl" sz="32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Competencia existen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n ese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448400" cy="42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EVOLUCIÓN DEL MARKETING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17720" y="1200240"/>
          <a:ext cx="70326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7720" y="1200240"/>
                    <a:ext cx="7032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380880" y="1143000"/>
            <a:ext cx="8382240" cy="4800600"/>
          </a:xfrm>
          <a:prstGeom prst="rect">
            <a:avLst/>
          </a:prstGeom>
          <a:solidFill>
            <a:srgbClr val="ffcccc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143000"/>
            <a:ext cx="838224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040" y="110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3960" y="1108080"/>
            <a:ext cx="179172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vel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7200" y="1143000"/>
            <a:ext cx="191052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i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560" y="1143000"/>
            <a:ext cx="183420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guntas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1143000"/>
            <a:ext cx="170640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ón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0" cy="4800600"/>
          </a:xfrm>
          <a:prstGeom prst="line">
            <a:avLst/>
          </a:prstGeom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3880" y="19461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&l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1143000"/>
            <a:ext cx="0" cy="4800600"/>
          </a:xfrm>
          <a:prstGeom prst="line">
            <a:avLst/>
          </a:prstGeom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70520" y="194616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6880" y="194616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Cómo Ven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1143000"/>
            <a:ext cx="0" cy="4800600"/>
          </a:xfrm>
          <a:prstGeom prst="line">
            <a:avLst/>
          </a:prstGeom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19200" y="187020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pto.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6800" y="2625840"/>
            <a:ext cx="10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94560" y="263196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56160" y="263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0920" y="25909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Cómo Estim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en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18120" y="263196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9720" y="35812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5640" y="35812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561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360" y="3505320"/>
            <a:ext cx="20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e quiere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184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36120" y="350532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P,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3520" y="44607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&gt;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70520" y="446076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324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55440" y="4460760"/>
            <a:ext cx="196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Cómo le c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93720" y="4460760"/>
            <a:ext cx="181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un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da la Or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alida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763120" y="1143000"/>
            <a:ext cx="0" cy="76212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143000"/>
            <a:ext cx="0" cy="76212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905120"/>
            <a:ext cx="838224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00400" y="2514600"/>
            <a:ext cx="2819520" cy="224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20574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14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Socio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9144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9144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8880" y="838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581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057400" y="3504960"/>
            <a:ext cx="1065240" cy="150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ETERMINANTES DE LA DEMANDA</a:t>
            </a: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514600"/>
            <a:ext cx="2819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2514600"/>
            <a:ext cx="144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2514600"/>
            <a:ext cx="144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200400" y="4495680"/>
            <a:ext cx="28195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48160" y="1600200"/>
            <a:ext cx="160020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171840" y="35812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495680"/>
            <a:ext cx="1447920" cy="1003320"/>
          </a:xfrm>
          <a:custGeom>
            <a:avLst/>
            <a:gdLst/>
            <a:ahLst/>
            <a:rect l="l" t="t" r="r" b="b"/>
            <a:pathLst>
              <a:path w="912" h="632">
                <a:moveTo>
                  <a:pt x="912" y="0"/>
                </a:moveTo>
                <a:cubicBezTo>
                  <a:pt x="868" y="212"/>
                  <a:pt x="824" y="424"/>
                  <a:pt x="672" y="528"/>
                </a:cubicBezTo>
                <a:cubicBezTo>
                  <a:pt x="520" y="632"/>
                  <a:pt x="112" y="608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495680"/>
            <a:ext cx="1790640" cy="1067040"/>
          </a:xfrm>
          <a:custGeom>
            <a:avLst/>
            <a:gdLst/>
            <a:ahLst/>
            <a:rect l="l" t="t" r="r" b="b"/>
            <a:pathLst>
              <a:path w="1128" h="672">
                <a:moveTo>
                  <a:pt x="120" y="0"/>
                </a:moveTo>
                <a:cubicBezTo>
                  <a:pt x="60" y="208"/>
                  <a:pt x="0" y="416"/>
                  <a:pt x="168" y="528"/>
                </a:cubicBezTo>
                <a:cubicBezTo>
                  <a:pt x="336" y="640"/>
                  <a:pt x="976" y="648"/>
                  <a:pt x="1128" y="6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5562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5562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 E M A N 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167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57800" y="1752480"/>
            <a:ext cx="5335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562720" y="609480"/>
            <a:ext cx="2438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URGIMIENTO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1676520"/>
            <a:ext cx="2438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TERNO/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2895480"/>
            <a:ext cx="2438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GMENTACION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191120"/>
            <a:ext cx="2438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(POSICIONA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5486400"/>
            <a:ext cx="2438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S 4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800240" y="20574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800600" y="837720"/>
            <a:ext cx="1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838080"/>
            <a:ext cx="6858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723920" y="4648320"/>
            <a:ext cx="838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724280" y="3352320"/>
            <a:ext cx="180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3352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32767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. de la Estrategia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n d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838080"/>
            <a:ext cx="175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ineación con la Estrategia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81680" y="13716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24382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365760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49528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152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PROCESO DE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Las Grandes Tendencia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egmentación, Customización, Calidad Total, Fidelización, Alcance, Gestión de Marca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21:58:54Z</dcterms:created>
  <dc:creator>maximo bosch</dc:creator>
  <dc:description/>
  <dc:language>en-US</dc:language>
  <cp:lastModifiedBy>.............</cp:lastModifiedBy>
  <dcterms:modified xsi:type="dcterms:W3CDTF">2006-07-25T15:34:39Z</dcterms:modified>
  <cp:revision>135</cp:revision>
  <dc:subject/>
  <dc:title>Sin título de diapositiva</dc:title>
</cp:coreProperties>
</file>