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ACE4-5882-4BD6-97D1-6B72C1BD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A9D8-5860-417A-9A8D-AB5E25A3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5A59-BAAA-4371-9892-836FFBAB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1878-5E85-4260-8FD3-88033517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3E5-B64E-446D-A86F-EC196D91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BF0-DB07-46B0-BD76-9AF05DD3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30A6-81AA-4711-9CCB-F02DB410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F66A-45D7-46D0-98B3-012905F6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751B-C530-4200-8D51-A1F7039C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28C8-A546-4C5A-B6D5-0C600811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715-571E-4920-B271-E132721C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F4B3-129C-45C0-866E-7BD9E951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9045-D2CF-4C4E-98D4-5E9853DCA8D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cc"/>
                </a:solidFill>
                <a:latin typeface="Arial"/>
              </a:rPr>
              <a:t>LA NEGOCIACIÓN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afael Lorenzi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1512720"/>
            <a:ext cx="86868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 negociación es un medio básico para lograr lo que se quiere de otros y se busca llegar a un acuerdo cuando las partes comparten algunos intereses en común, pero que también tienen algunos intereses opuestos”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Roger Fisher, William Ury y Bruce Patton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ñalan que las estrategias estandarizadas con frecuencia dejan a las personas insatisfechas, cansadas o alienadas y, a menudo, las tres cos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volución del M. Harvard: 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a negociación a base de </a:t>
            </a:r>
            <a:r>
              <a:rPr b="0" lang="es-MX" sz="4000" spc="-1" strike="noStrike" u="sng">
                <a:solidFill>
                  <a:srgbClr val="0033cc"/>
                </a:solidFill>
                <a:uFillTx/>
                <a:latin typeface="Arial"/>
              </a:rPr>
              <a:t>princip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 criter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512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conducir a un acuerdo sensato, si el acuerdo es posibl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ser eficient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mejorar, o por lo menos, no deteriorar la relación entre las part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“negociación según principios o negociación con base a méritos” se resume en 4 puntos básicos que definen un método directo de negociació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s persona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os intere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Opcion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riterio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as persona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deben estar separadas del problem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os interese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que concentrarse en ellos y no en las posiciones, las cuales con frecuencia oscurecen lo que realmente se quier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Opcione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generar variedad de posibilidades antes de decidirse a actuar. Favorecerán los intereses compartidos y se posibilita la conciliación creativa de los intereses diferentes. Sugiere crearlas antes de la negociación: supone dificultad de creación bajo presió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Criterio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deben ser objetivos más que basarse en la disposición de hacer de las partes. Facilita acoger soluciones más justa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820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strategia de cinco pasos para desarmar a los tozudos, poner fin a las evasivas, desviar los ataques y evadir los argumentos oscuros. Esta es la llamada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“Negociación de Penetración”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, cuya esencia es la acción indirecta y exige que se haga lo contrario de lo que naturalmente se desea hacer en situaciones difícil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s decir, cambiar el juego, y en vez de jugar el de los demás, hacer que ellos jueguen nuestro juego, esto es, practicando la solución conjunta de problem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Mantener el equilibri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Vencer las emociones negativas de la otra par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eplante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, es decir,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aceptar lo que la otra parte diga y replantearl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Se debe ayudar a la otra parte a salvar las apariencias y a hacer que el resultado parezca un triunfo de ell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mplear el poder para educ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 y no para presion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strategias de Negoci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Distribu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mejorar posición a costa de otro (“juego suma cero”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Integra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cooperativa entre las part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crear valor en forma conjunta. exige obtener suficiente información sobre la situación, los intereses y ventajas del socio comercial, para poder cooperar en resaltar los beneficios de la otra parte, si se llega al acuerdo que se propone, ambas partes ganan.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strategias de Negociación: aspectos relevant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s negociaciones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istributiva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tienen menos potencial para generar valor y los negociadores son instados a utilizar la información del otro como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ventaja estratégic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s beneficios conjuntos se incrementan cuando, al menos un negociador conoce las preferencias de la otra parte. Ese negociador puede mover la negociación hacia una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integración efectiv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(compartir información incrementará los beneficios mutuo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consenso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68680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flicto reduci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umplimiento acrecenta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345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mplía la participación y otorga legitimida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Des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Docilidad frente a materias importan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mprecisió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ún denominador más baj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Mayor tiempo y recurso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xpectativas no realist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08000" y="-100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se Negocia?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79640" y="981000"/>
            <a:ext cx="572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reámbulo (qué los motiva)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ompromiso de cada participan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roductos o resultados comprome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laz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Monitoreo y control de los resulta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anciones o mult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olución de conflictos o controversias: procedimient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Garantí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2349360"/>
            <a:ext cx="360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finiciones de los conceptos a uti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istoria de la empresa (credibilidad, imagen y reput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7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Solución efectiva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Unicamente la negociación pone a las partes a resolver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en conjunto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un problema común, y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genera no sólo la soluci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de éste,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sino también un patr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resolver los futuros conflictos que puedan presentarse entre ella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negociación no debe ser el obtener una victoria rotunda de los propios intereses, sino el resolver problemas que afectan la relación entre estos grupos o person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1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proceso mediante el cual se presentan propuestas específicas en la búsqueda de un interés común allí donde los intereses conflictivos están presentes”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Fred Ikle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negociación es un proceso interdependiente, es decir, el resultado final no está exclusivamente sujeto a una de las partes, sino que refleja sus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2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s un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proceso dinámico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por el cual se llega a una decisión,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volucra varios actores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y no a un individuo tratando de decidi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illiam Zartma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"/>
              </a:rPr>
              <a:t>¿qué se busca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Resultados satisfactorios de sus propios objetiv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3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teracción deliberada de dos o más personas que tratan de definir los términos de su relación”.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alton y McKersier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nota relaciones permamentes previas a la negociación form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s una relación dinámica y continu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 -4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l objetivo de una negociación es el de construir una relación sólida y duradera entre los actores, que permitirá simultáneamente un acomodo de sus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nflictua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y la conjugación de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mpatib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”.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oger Fisher y William Ury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ON: aspectos fundamental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mplica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resolver intereses individua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encontrar 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upone relaciones preexisten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Es dinámica y contínu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relaciones sólidas y durader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acomodar interese conflictuales y compar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uidar los estilos y las formas: maximiza gananci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l Método Harvard </a:t>
            </a:r>
            <a:r>
              <a:rPr b="0" lang="es-MX" sz="3200" spc="-1" strike="noStrike">
                <a:solidFill>
                  <a:srgbClr val="0033cc"/>
                </a:solidFill>
                <a:latin typeface="Arial"/>
              </a:rPr>
              <a:t>(Fisher y Ury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639800"/>
            <a:ext cx="824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eorienta visión de que uno gana y el otro pierde a otra visión de que ambos ganan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 creatividad permite encontrar soluciones nuevas a viejos problemas, así como oportunidades donde existían dificultad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Pone énfasis en el proceso comunicacion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M. Harvard. los siete elementos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Alternativa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para retirars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Interese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necesidades, inquietudes, deseos, esperanzas y temor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Opcione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para llegar a acuerdo: siempre “sobre la mesa”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egitimidad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 es justo en relación con situaciones externas a ambas part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promiso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verbales o por escrito: claridad, duración, de carácter práctico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unic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eficient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Rel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capacidad para resolver diferencia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4:05:19Z</dcterms:created>
  <dc:creator> Consejo Nacional de Producción Limpia</dc:creator>
  <dc:description/>
  <dc:language>en-US</dc:language>
  <cp:lastModifiedBy>spl.rlp</cp:lastModifiedBy>
  <dcterms:modified xsi:type="dcterms:W3CDTF">2006-10-25T18:43:52Z</dcterms:modified>
  <cp:revision>38</cp:revision>
  <dc:subject/>
  <dc:title>LA NEGOCIACIÓN</dc:title>
</cp:coreProperties>
</file>