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844E-6403-4E1A-BA1F-3D1B05AC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1323-F44D-4E01-86F5-98F42060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FBC8-D5D7-410E-B4C6-63E5FBD24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931-EC8D-4C5C-8D90-44BE2ACC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83E-B4C4-4982-A3A9-478A415D7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6539-E2CA-43B4-AD2A-10ADA34A1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4A48-0C6F-4EA7-AF65-C06E2726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7F58-EC30-43CB-B7EC-CB5F34D8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D32-FF15-4D08-B43D-6137E8F5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AEC-6EBF-4C17-BA5B-02F1BFA6A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AA59-E0FA-49A0-A36F-549AA286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80EE-6D56-438D-A6FE-6CAD7AFE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6187-4F4E-4711-BC0E-04264DB023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42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33cc"/>
                </a:solidFill>
                <a:latin typeface="Arial"/>
              </a:rPr>
              <a:t>LA NEGOCIACIÓN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afael Lorenzin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95280" y="1512720"/>
            <a:ext cx="86868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 negociación es un medio básico para lograr lo que se quiere de otros y se busca llegar a un acuerdo cuando las partes comparten algunos intereses en común, pero que también tienen algunos intereses opuestos”.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(Roger Fisher, William Ury y Bruce Patton)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ñalan que las estrategias estandarizadas con frecuencia dejan a las personas insatisfechas, cansadas o alienadas y, a menudo, las tres cos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volución del M. Harvard: 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a negociación a base de </a:t>
            </a:r>
            <a:r>
              <a:rPr b="0" lang="es-MX" sz="4000" spc="-1" strike="noStrike" u="sng">
                <a:solidFill>
                  <a:srgbClr val="0033cc"/>
                </a:solidFill>
                <a:uFillTx/>
                <a:latin typeface="Arial"/>
              </a:rPr>
              <a:t>princip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 criteri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3512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conducir a un acuerdo sensato, si el acuerdo es posibl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ser eficiente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ebe mejorar, o por lo menos, no deteriorar la relación entre las part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“negociación según principios o negociación con base a méritos” se resume en 4 puntos básicos que definen un método directo de negociación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s persona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os interes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Opcione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371600" indent="-4572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Criterio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as persona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deben estar separadas del problem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os intereses: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hay que concentrarse en ellos y no en las posiciones, las cuales con frecuencia oscurecen lo que realmente se quier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Opcion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generar variedad de posibilidades antes de decidirse a actuar. Favorecerán los intereses compartidos y se posibilita la conciliación creativa de los intereses diferentes. Sugiere crearlas antes de la negociación: supone dificultad de creación bajo presión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00"/>
                </a:solidFill>
                <a:latin typeface="Arial"/>
              </a:rPr>
              <a:t>Criterio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: deben ser objetivos más que basarse en la disposición de hacer de las partes. Facilita acoger soluciones más justas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ón por Principios o Mérito:</a:t>
            </a:r>
            <a:br>
              <a:rPr sz="4000"/>
            </a:b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Los 4 puntos básico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820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trategia de cinco pasos para desarmar a los tozudos, poner fin a las evasivas, desviar los ataques y evadir los argumentos oscuros. Esta es la llamada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“Negociación de Penetración”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, cuya esencia es la acción indirecta y exige que se haga lo contrario de lo que naturalmente se desea hacer en situaciones difícile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Es decir, cambiar el juego, y en vez de jugar el de los demás, hacer que ellos jueguen nuestro juego, esto es, practicando la solución conjunta de problem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Penetr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Mantener el equilibri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Vencer las emociones negativas de la otra part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eplante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, es decir,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aceptar lo que la otra parte diga y replantearlo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Se debe ayudar a la otra parte a salvar las apariencias y a hacer que el resultado parezca un triunfo de ella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mplear el poder para educa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 y no para presiona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strategias de Negociación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Distribu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mejorar posición a costa de otro (“juego suma cero”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Arial"/>
              </a:rPr>
              <a:t>Integrativa: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cooperativa entre las part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crear valor en forma conjunta. exige obtener suficiente información sobre la situación, los intereses y ventajas del socio comercial, para poder cooperar en resaltar los beneficios de la otra parte, si se llega al acuerdo que se propone, ambas partes ganan. 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Estrategias de Negociación: aspectos relevant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as negociaciones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distributiva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tienen menos potencial para generar valor y los negociadores son instados a utilizar la información del otro como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ventaja estratégic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os beneficios conjuntos se incrementan cuando, al menos un negociador conoce las preferencias de la otra parte. Ese negociador puede mover la negociación hacia una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integración efectiva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(compartir información incrementará los beneficios mutuos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La negociación por consenso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686800" cy="57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nflicto reduci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150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umplimiento acrecentad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Aft>
                <a:spcPts val="3450"/>
              </a:spcAft>
              <a:buClr>
                <a:srgbClr val="ffff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Amplía la participación y otorga legitimidad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05600" indent="0">
              <a:spcBef>
                <a:spcPts val="700"/>
              </a:spcBef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Desventaj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Docilidad frente a materias importan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Imprecisió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Común denominador más bajo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Mayor tiempo y recurso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085760" indent="-217080">
              <a:spcBef>
                <a:spcPts val="601"/>
              </a:spcBef>
              <a:spcAft>
                <a:spcPts val="1049"/>
              </a:spcAft>
              <a:buClr>
                <a:srgbClr val="ffff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</a:rPr>
              <a:t>Expectativas no realista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708000" y="-1004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se Negocia?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779640" y="981000"/>
            <a:ext cx="5724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eámbulo (qué los motiva)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ompromiso de cada participan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roductos o resultados comprome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Plaz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Monitoreo y control de los resulta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anciones o mult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olución de conflictos o controversias: procedimient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Garantí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2349360"/>
            <a:ext cx="3600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Definiciones de los conceptos a util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imes New Roman"/>
              </a:rPr>
              <a:t>Historia de la empresa (credibilidad, imagen y reput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78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ff6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Solución efectiva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Unicamente la negociación pone a las partes a resolver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en conjunto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un problema común, y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genera no sólo la soluci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de éste,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sino también un patrón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para resolver los futuros conflictos que puedan presentarse entre ellas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La negociación no debe ser el obtener una victoria rotunda de los propios intereses, sino el resolver problemas que afectan la relación entre estos grupos o personas.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1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proceso mediante el cual se presentan propuestas específicas en la búsqueda de un interés común allí donde los intereses conflictivos están presentes”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600" spc="-1" strike="noStrike">
                <a:solidFill>
                  <a:srgbClr val="ffff00"/>
                </a:solidFill>
                <a:latin typeface="Arial"/>
              </a:rPr>
              <a:t>Fred Ikle</a:t>
            </a: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 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la negociación es un proceso interdependiente, es decir, el resultado final no está exclusivamente sujeto a una de las partes, sino que refleja sus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2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Es un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proceso dinámico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por el cual se llega a una decisión, </a:t>
            </a:r>
            <a:r>
              <a:rPr b="0" i="1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volucra varios actores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 y no a un individuo tratando de decidir”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. 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illiam Zartma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ffff00"/>
                </a:solidFill>
                <a:latin typeface="Arial"/>
              </a:rPr>
              <a:t>¿qué se busca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Resultados satisfactorios de sus propios objetiv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-3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interacción deliberada de dos o más personas que tratan de definir los términos de su relación”.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Walton y McKersier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nota relaciones permamentes previas a la negociación forma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Es una relación dinámica y continua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¿Qué es la negociación?     -4-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El objetivo de una negociación es el de construir una relación sólida y duradera entre los actores, que permitirá simultáneamente un acomodo de sus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nflictua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y la conjugación de </a:t>
            </a:r>
            <a:r>
              <a:rPr b="0" lang="es-ES" sz="3200" spc="-1" strike="noStrike" u="sng">
                <a:solidFill>
                  <a:srgbClr val="ffff00"/>
                </a:solidFill>
                <a:uFillTx/>
                <a:latin typeface="Arial"/>
              </a:rPr>
              <a:t>intereses compatibles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”. (</a:t>
            </a:r>
            <a:r>
              <a:rPr b="0" i="1" lang="es-ES" sz="3200" spc="-1" strike="noStrike">
                <a:solidFill>
                  <a:srgbClr val="ffff00"/>
                </a:solidFill>
                <a:latin typeface="Arial"/>
              </a:rPr>
              <a:t>Roger Fisher y William Ury</a:t>
            </a: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) 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124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cc"/>
                </a:solidFill>
                <a:latin typeface="Arial"/>
              </a:rPr>
              <a:t>NEGOCIACION: aspectos fundamentales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comun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ntereses en conflict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Implica decisiones mutu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resolver intereses individua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Debe encontrar beneficios mutu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Supone relaciones preexisten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Es dinámica y contínu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relaciones sólidas y durader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Busca acomodar interese conflictuales y compartido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Cuidar los estilos y las formas: maximiza gananci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El Método Harvard </a:t>
            </a:r>
            <a:r>
              <a:rPr b="0" lang="es-MX" sz="3200" spc="-1" strike="noStrike">
                <a:solidFill>
                  <a:srgbClr val="0033cc"/>
                </a:solidFill>
                <a:latin typeface="Arial"/>
              </a:rPr>
              <a:t>(Fisher y Ury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1280" y="1639800"/>
            <a:ext cx="824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Reorienta visión de que uno gana y el otro pierde a otra visión de que ambos ganan.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La creatividad permite encontrar soluciones nuevas a viejos problemas, así como oportunidades donde existían dificultad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Arial"/>
              </a:rPr>
              <a:t>Pone énfasis en el proceso comunicaciona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2f00"/>
            </a:gs>
            <a:gs pos="50000">
              <a:srgbClr val="ff6600"/>
            </a:gs>
            <a:gs pos="100000">
              <a:srgbClr val="752f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33cc"/>
                </a:solidFill>
                <a:latin typeface="Arial"/>
              </a:rPr>
              <a:t>M. Harvard. los siete elementos 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Alternativa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para retirars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Intereses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necesidades, inquietudes, deseos, esperanzas y temor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Opcione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para llegar a acuerdo: siempre “sobre la mesa”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Legitimidad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 es justo en relación con situaciones externas a ambas parte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promisos 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(verbales o por escrito: claridad, duración, de carácter práctico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Comunic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eficient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MX" sz="2800" spc="-1" strike="noStrike">
                <a:solidFill>
                  <a:srgbClr val="ffff00"/>
                </a:solidFill>
                <a:latin typeface="Arial"/>
              </a:rPr>
              <a:t> (capacidad para resolver diferencia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9T14:05:19Z</dcterms:created>
  <dc:creator> Consejo Nacional de Producción Limpia</dc:creator>
  <dc:description/>
  <dc:language>en-US</dc:language>
  <cp:lastModifiedBy>spl.rlp</cp:lastModifiedBy>
  <dcterms:modified xsi:type="dcterms:W3CDTF">2006-10-25T18:43:52Z</dcterms:modified>
  <cp:revision>38</cp:revision>
  <dc:subject/>
  <dc:title>LA NEGOCIACIÓN</dc:title>
</cp:coreProperties>
</file>